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1.png" ContentType="image/png"/>
  <Override PartName="/ppt/media/image29.wmf" ContentType="image/x-wmf"/>
  <Override PartName="/ppt/media/image16.wmf" ContentType="image/x-wmf"/>
  <Override PartName="/ppt/media/image20.png" ContentType="image/png"/>
  <Override PartName="/ppt/media/image60.wmf" ContentType="image/x-wmf"/>
  <Override PartName="/ppt/media/image21.wmf" ContentType="image/x-wmf"/>
  <Override PartName="/ppt/media/image58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3.png" ContentType="image/png"/>
  <Override PartName="/ppt/media/image25.wmf" ContentType="image/x-wmf"/>
  <Override PartName="/ppt/media/image62.wmf" ContentType="image/x-wmf"/>
  <Override PartName="/ppt/media/image22.png" ContentType="image/png"/>
  <Override PartName="/ppt/media/image64.wmf" ContentType="image/x-wmf"/>
  <Override PartName="/ppt/media/image27.wmf" ContentType="image/x-wmf"/>
  <Override PartName="/ppt/media/image59.wmf" ContentType="image/x-wmf"/>
  <Override PartName="/ppt/media/image61.wmf" ContentType="image/x-wmf"/>
  <Override PartName="/ppt/media/image2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8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88760" y="731520"/>
            <a:ext cx="528156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lick to edit the notes format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807A-7ECF-403D-8CFB-20FD15A06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89120" y="731880"/>
            <a:ext cx="5281560" cy="3655800"/>
          </a:xfrm>
          <a:prstGeom prst="rect">
            <a:avLst/>
          </a:prstGeom>
          <a:ln w="0">
            <a:noFill/>
          </a:ln>
        </p:spPr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914400" y="4630680"/>
            <a:ext cx="5025960" cy="438804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789120" y="731880"/>
            <a:ext cx="5281560" cy="3655800"/>
          </a:xfrm>
          <a:prstGeom prst="rect">
            <a:avLst/>
          </a:prstGeom>
          <a:ln w="0">
            <a:noFill/>
          </a:ln>
        </p:spPr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4630680"/>
            <a:ext cx="5025960" cy="4388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3960720" y="6500880"/>
            <a:ext cx="1675080" cy="23763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FE26F-30BE-4091-98FD-8A1824FF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37E1-C507-40B9-A7AE-F218495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607AF-2FA4-4A5F-8580-EF63986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C93CC-B906-4ADC-9F03-DE13012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3A5A4-7F48-41FB-AF96-DCE9D43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98AEC-3277-4644-85EE-D8799C8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5F814-CC94-4D4B-87CD-1A65FBE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3E028-C8BA-4915-A198-BDF3A78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6B2D-59D7-468A-A455-ECE8BB7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C9A9-5BAD-4B91-9846-B65DFE6B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8DAF-8212-4D73-AE2D-942CDA60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0608A-7520-4EAC-86B6-A2E171F0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1484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©  Prof. W. Bogaerts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00A8-AD54-431F-9173-BAFFBDDEBB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Modern"/>
              </a:rPr>
              <a:t>Thema 1 :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GB" sz="4000" spc="-1" strike="noStrike">
                <a:solidFill>
                  <a:srgbClr val="3333cc"/>
                </a:solidFill>
                <a:latin typeface="Arial Black"/>
              </a:rPr>
              <a:t>POLYM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11200" y="3885840"/>
            <a:ext cx="69339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: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“Kunststoffen” 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: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“Plastics” 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30120" y="2438280"/>
            <a:ext cx="5283360" cy="685800"/>
          </a:xfrm>
          <a:prstGeom prst="ellipse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isatie-reacties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7400" y="3352680"/>
            <a:ext cx="5067360" cy="2524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7800" y="1905120"/>
            <a:ext cx="379728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itiepolymerisat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moleculen worden geheel achter elkaar gekoppeld , als kralen aan een k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itgangsmateriaal = monomeer in oplossing, emulsie, dampvorm, of gewoon onverdunde vloeist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akels in polymeer : zelfde chemische samenstelling als monomeer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isatie-reacties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77800" y="1905120"/>
            <a:ext cx="255924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densatie-polymerisat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en nieuw molecule hecht zich aan een ander molecule tijdens de vormingsreac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akels in polymeer : andere chemische samenstelling dan uitgangsmateria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rming van bijprodukt (water / “condensati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14840" y="2133720"/>
            <a:ext cx="50101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isatie-reacties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330120" y="2057400"/>
            <a:ext cx="42102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IJZONDERE GEVALL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additie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ombinatie 1 &amp; 2) condensaat wordt ook in de keten opgenomen op een andere pla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ss-lin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rming van sterke chemische bruggen (‘cross-links’ / dwarsverbindingen) tussen de ket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teriaal dat ontstaat is in feite één macro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b.: Epoxyharsen (e.g. voor PMM composiet-materia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88000" y="2286000"/>
            <a:ext cx="45036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chillende” polym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9760" y="1981080"/>
            <a:ext cx="94107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ysisch verschill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bv. katalysator en/of proces-parame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, T, …) --&gt; lengte polymeerketens (moleculair gewic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G --&gt; materiaaleigenschappen 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b.: PE met hoog of laag MG = andere eigenschappe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chanische eig. (treksterkte, buigsterkte,…) : groter bij groter M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werkbaarheid (i.e. viscositeit / gieten, persen, vormen) : afneemt met groter M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hemisch verschill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fr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yethyle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sc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enstel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 substitutie van een of meer H-atomen door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ander el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moleculaire groe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vb.: Cl, methylgroep C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“R”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hemisch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ctu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(3D)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actisch, isotactisch, syndiotactisch …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fr. inf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77640" y="68904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yvinylchoride  /  Polypropy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73720" y="2209680"/>
            <a:ext cx="3219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 : 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thyl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vang één H door 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olyvinylchlori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9720" y="5334120"/>
            <a:ext cx="2710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vang H door C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olypropyle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3466800" cy="14223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77800" y="3581280"/>
            <a:ext cx="8038800" cy="816120"/>
            <a:chOff x="577800" y="3581280"/>
            <a:chExt cx="8038800" cy="8161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77800" y="3581280"/>
              <a:ext cx="4318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953240" y="3581280"/>
              <a:ext cx="366336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320840" y="4724280"/>
            <a:ext cx="1496880" cy="160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95920" y="1905120"/>
            <a:ext cx="3962520" cy="144756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49600" y="5105520"/>
            <a:ext cx="3384720" cy="114300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-polymeris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7920" y="2819520"/>
            <a:ext cx="6769080" cy="2589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60120" y="5573880"/>
            <a:ext cx="39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 monomeer met chemische samenstelling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 monomeer met chemische samenstelling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38520" y="1827720"/>
            <a:ext cx="689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= Polymerisatiereactie waarbij polymeerketting ontstaat die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twee) verschillende monomeren bevat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méér -&gt; “terpolymeren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97280" y="2891520"/>
            <a:ext cx="5900400" cy="1985400"/>
            <a:chOff x="3797280" y="2891520"/>
            <a:chExt cx="5900400" cy="1985400"/>
          </a:xfrm>
        </p:grpSpPr>
        <p:sp>
          <p:nvSpPr>
            <p:cNvPr id="153" name=""/>
            <p:cNvSpPr/>
            <p:nvPr/>
          </p:nvSpPr>
          <p:spPr>
            <a:xfrm>
              <a:off x="5200560" y="2891520"/>
              <a:ext cx="4497120" cy="1311120"/>
            </a:xfrm>
            <a:prstGeom prst="borderCallout1">
              <a:avLst>
                <a:gd name="adj1" fmla="val 18750"/>
                <a:gd name="adj2" fmla="val -8333"/>
                <a:gd name="adj3" fmla="val 117592"/>
                <a:gd name="adj4" fmla="val -10777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één van beide bouwstenen uitsluiten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 hoofdketen, andere in zijke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Arial"/>
                </a:rPr>
                <a:t>atactisch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(onregelmatige plaats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Arial"/>
                </a:rPr>
                <a:t>isotactisch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(zijgroepen steeds aan zelfde k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Arial"/>
                </a:rPr>
                <a:t>syndiotactisch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(zijgroepen alternerend aan hoofdke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atalysatoren --&gt;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+/- onbeperkte waaier eigenschap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97280" y="4495680"/>
              <a:ext cx="1528560" cy="381240"/>
            </a:xfrm>
            <a:prstGeom prst="ellipse">
              <a:avLst/>
            </a:prstGeom>
            <a:noFill/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92640" y="5105520"/>
            <a:ext cx="4104360" cy="820080"/>
            <a:chOff x="4292640" y="5105520"/>
            <a:chExt cx="4104360" cy="820080"/>
          </a:xfrm>
        </p:grpSpPr>
        <p:sp>
          <p:nvSpPr>
            <p:cNvPr id="156" name=""/>
            <p:cNvSpPr/>
            <p:nvPr/>
          </p:nvSpPr>
          <p:spPr>
            <a:xfrm>
              <a:off x="4292640" y="5105520"/>
              <a:ext cx="1486080" cy="380880"/>
            </a:xfrm>
            <a:prstGeom prst="ellipse">
              <a:avLst/>
            </a:prstGeom>
            <a:noFill/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0680" y="5618520"/>
              <a:ext cx="2416320" cy="307080"/>
            </a:xfrm>
            <a:prstGeom prst="borderCallout1">
              <a:avLst>
                <a:gd name="adj1" fmla="val 18750"/>
                <a:gd name="adj2" fmla="val -8333"/>
                <a:gd name="adj3" fmla="val -49527"/>
                <a:gd name="adj4" fmla="val -22671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oofdketen zonder bijket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675640" y="3028680"/>
            <a:ext cx="907200" cy="396360"/>
          </a:xfrm>
          <a:custGeom>
            <a:avLst/>
            <a:gdLst>
              <a:gd name="textAreaLeft" fmla="*/ 207000 w 907200"/>
              <a:gd name="textAreaRight" fmla="*/ 700200 w 907200"/>
              <a:gd name="textAreaTop" fmla="*/ 90360 h 396360"/>
              <a:gd name="textAreaBottom" fmla="*/ 306000 h 39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cap="sq"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§ 3.3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75640" y="1199880"/>
            <a:ext cx="907200" cy="396360"/>
          </a:xfrm>
          <a:custGeom>
            <a:avLst/>
            <a:gdLst>
              <a:gd name="textAreaLeft" fmla="*/ 207000 w 907200"/>
              <a:gd name="textAreaRight" fmla="*/ 700200 w 907200"/>
              <a:gd name="textAreaTop" fmla="*/ 90360 h 396360"/>
              <a:gd name="textAreaBottom" fmla="*/ 306000 h 39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cap="sq"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§ 3.3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er  ‘blends’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38400" y="2362320"/>
            <a:ext cx="4457520" cy="1224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3880080" cy="1436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90000" y="1689840"/>
            <a:ext cx="52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gpolyme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moge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één fase)</a:t>
            </a:r>
            <a:br>
              <a:rPr sz="20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nenten op moleuculaire schaal mengbaar; hebben identiteit verlo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9160" y="3687120"/>
            <a:ext cx="754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er Mengs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teroge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eerfas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nenten niet mengbaar; componenten behouden iets van hun oorspronkelijke eigenschappen (i.e.,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schillende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crostructur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e.g. component I = kleine bolletjes, cylindrische structuren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ok : componenten = lamellen (cfr. laagjes triplex, multipl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6171120"/>
            <a:ext cx="608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ktijk (commerciële prod.) 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derscheid niet altijd duidelij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43040" y="609480"/>
            <a:ext cx="6026040" cy="9144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3600" spc="-1" strike="noStrike" baseline="-6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asovergangstemperatu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 -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Glastemperatuur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885680"/>
            <a:ext cx="94107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“glaspunt” ; “glas-rubber-overgangstemperatuur”, verwekingstemperatuur”;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temperatuur waarbij polymeer verwe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ij T &gt; T</a:t>
            </a:r>
            <a:r>
              <a:rPr b="0" lang="en-GB" sz="3600" spc="-1" strike="noStrike" baseline="-6000">
                <a:solidFill>
                  <a:srgbClr val="000000"/>
                </a:solidFill>
                <a:latin typeface="Tahoma"/>
              </a:rPr>
              <a:t>g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morf polymeer = rubberachtige “vloeistof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tens kunnen over elkaar glijde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vloeien; “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plasti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ij T &lt; T</a:t>
            </a:r>
            <a:r>
              <a:rPr b="0" lang="en-GB" sz="3600" spc="-1" strike="noStrike" baseline="-6000">
                <a:solidFill>
                  <a:srgbClr val="000000"/>
                </a:solidFill>
                <a:latin typeface="Tahoma"/>
              </a:rPr>
              <a:t>g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teriaal = vaste, glasachtige st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terogeen Mengsel 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ide componenten hebben eigen T</a:t>
            </a:r>
            <a:r>
              <a:rPr b="0" lang="en-GB" sz="2800" spc="-1" strike="noStrike" baseline="-6000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126120" y="1325880"/>
            <a:ext cx="979920" cy="424800"/>
          </a:xfrm>
          <a:custGeom>
            <a:avLst/>
            <a:gdLst>
              <a:gd name="textAreaLeft" fmla="*/ 223560 w 979920"/>
              <a:gd name="textAreaRight" fmla="*/ 756360 w 979920"/>
              <a:gd name="textAreaTop" fmla="*/ 96840 h 424800"/>
              <a:gd name="textAreaBottom" fmla="*/ 327960 h 424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cap="sq"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§ 8.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47680" y="2666880"/>
            <a:ext cx="6283440" cy="2362320"/>
            <a:chOff x="247680" y="2666880"/>
            <a:chExt cx="6283440" cy="2362320"/>
          </a:xfrm>
        </p:grpSpPr>
        <p:sp>
          <p:nvSpPr>
            <p:cNvPr id="171" name=""/>
            <p:cNvSpPr/>
            <p:nvPr/>
          </p:nvSpPr>
          <p:spPr>
            <a:xfrm>
              <a:off x="1981440" y="4495680"/>
              <a:ext cx="33012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7680" y="2666880"/>
              <a:ext cx="6283440" cy="2336760"/>
              <a:chOff x="247680" y="2666880"/>
              <a:chExt cx="6283440" cy="2336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247680" y="2666880"/>
                <a:ext cx="6283440" cy="2336760"/>
                <a:chOff x="247680" y="2666880"/>
                <a:chExt cx="6283440" cy="23367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47680" y="2666880"/>
                  <a:ext cx="6283440" cy="2336760"/>
                  <a:chOff x="247680" y="2666880"/>
                  <a:chExt cx="6283440" cy="2336760"/>
                </a:xfrm>
              </p:grpSpPr>
              <p:pic>
                <p:nvPicPr>
                  <p:cNvPr id="17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47680" y="2666880"/>
                    <a:ext cx="62834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" name=""/>
                  <p:cNvSpPr/>
                  <p:nvPr/>
                </p:nvSpPr>
                <p:spPr>
                  <a:xfrm>
                    <a:off x="1733400" y="3885840"/>
                    <a:ext cx="0" cy="762120"/>
                  </a:xfrm>
                  <a:prstGeom prst="line">
                    <a:avLst/>
                  </a:prstGeom>
                  <a:ln w="1260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641680" y="3733560"/>
                    <a:ext cx="0" cy="914400"/>
                  </a:xfrm>
                  <a:prstGeom prst="line">
                    <a:avLst/>
                  </a:prstGeom>
                  <a:ln w="1260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054240" y="2895480"/>
                    <a:ext cx="0" cy="175248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2724120" y="3809880"/>
                  <a:ext cx="1733400" cy="0"/>
                </a:xfrm>
                <a:prstGeom prst="line">
                  <a:avLst/>
                </a:prstGeom>
                <a:ln cap="rnd" w="5724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98640" y="3962160"/>
                  <a:ext cx="2641320" cy="0"/>
                </a:xfrm>
                <a:prstGeom prst="line">
                  <a:avLst/>
                </a:prstGeom>
                <a:ln cap="rnd" w="5724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421640" y="4418280"/>
                <a:ext cx="39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400" spc="-1" strike="noStrike">
                    <a:solidFill>
                      <a:srgbClr val="3333cc"/>
                    </a:solidFill>
                    <a:latin typeface="Arial"/>
                  </a:rPr>
                  <a:t>T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29560" y="4418280"/>
                <a:ext cx="39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400" spc="-1" strike="noStrike">
                    <a:solidFill>
                      <a:srgbClr val="3333cc"/>
                    </a:solidFill>
                    <a:latin typeface="Arial"/>
                  </a:rPr>
                  <a:t>T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89800" y="4418280"/>
                <a:ext cx="39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400" spc="-1" strike="noStrike">
                    <a:solidFill>
                      <a:srgbClr val="3333cc"/>
                    </a:solidFill>
                    <a:latin typeface="Arial"/>
                  </a:rPr>
                  <a:t>T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Soorten Polymeren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9880" y="1828800"/>
            <a:ext cx="701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moplasten, Thermoharders, Rub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20840" y="5181480"/>
            <a:ext cx="4374720" cy="1295280"/>
            <a:chOff x="1320840" y="5181480"/>
            <a:chExt cx="4374720" cy="129528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459080" y="5181480"/>
              <a:ext cx="4236480" cy="12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320840" y="6139080"/>
              <a:ext cx="1589400" cy="337680"/>
            </a:xfrm>
            <a:prstGeom prst="ellipse">
              <a:avLst/>
            </a:prstGeom>
            <a:noFill/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6360" y="6139080"/>
              <a:ext cx="760320" cy="281520"/>
            </a:xfrm>
            <a:prstGeom prst="ellipse">
              <a:avLst/>
            </a:prstGeom>
            <a:noFill/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9640" y="6082560"/>
              <a:ext cx="1105560" cy="281520"/>
            </a:xfrm>
            <a:prstGeom prst="ellipse">
              <a:avLst/>
            </a:prstGeom>
            <a:noFill/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448240" y="2743200"/>
            <a:ext cx="10731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429680" y="4571280"/>
            <a:ext cx="1763640" cy="276480"/>
            <a:chOff x="7429680" y="4571280"/>
            <a:chExt cx="1763640" cy="276480"/>
          </a:xfrm>
        </p:grpSpPr>
        <p:sp>
          <p:nvSpPr>
            <p:cNvPr id="193" name=""/>
            <p:cNvSpPr/>
            <p:nvPr/>
          </p:nvSpPr>
          <p:spPr>
            <a:xfrm>
              <a:off x="7429680" y="4709880"/>
              <a:ext cx="660240" cy="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53920" y="457128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ubbertrajec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086160" y="5028840"/>
            <a:ext cx="3299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Thermohard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: vernetting / ‘cross-linking’ (covalente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rugverbindingen) bij hoge tem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en-GB" sz="1000" spc="-1" strike="noStrike">
                <a:solidFill>
                  <a:srgbClr val="3333cc"/>
                </a:solidFill>
                <a:latin typeface="Arial"/>
              </a:rPr>
              <a:t>3-dimensiona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macromole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et nogmaals te smelten (I.e. niet meer terug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loeibaar bij opnieuw verwarmen; e.g. verkol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-&gt; recyclage = ??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Thermoplaste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: “</a:t>
            </a:r>
            <a:r>
              <a:rPr b="0" lang="en-GB" sz="1000" spc="-1" strike="noStrike">
                <a:solidFill>
                  <a:srgbClr val="3333cc"/>
                </a:solidFill>
                <a:latin typeface="Arial"/>
              </a:rPr>
              <a:t>lineai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” polymeren; smalle polyme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tens / </a:t>
            </a:r>
            <a:r>
              <a:rPr b="0" lang="en-GB" sz="1000" spc="-1" strike="noStrike">
                <a:solidFill>
                  <a:srgbClr val="3333cc"/>
                </a:solidFill>
                <a:latin typeface="Arial"/>
              </a:rPr>
              <a:t>beperkte 2-dimensional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structu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ubb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: tussenv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26040" y="2590200"/>
            <a:ext cx="354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ndeling op basis van</a:t>
            </a:r>
            <a:br>
              <a:rPr sz="1400"/>
            </a:b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temperatuur-afhankelijk gedrag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rmoplast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verweken (plastisch) bij hogere temperat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ubbers, elastomer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ij kamertemp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 verweekt (+ rubber-elastisch of visco-elastisch gedrag =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rugtrekking vertraagd i/d tij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rmohard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+/- niet verweekt (of zelfs verhardt) bij hogere temperat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. Thermoplasten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.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rmoplast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6191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at ?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lange keten moleculen met zwakke bindingen tussen ketens; verweken en ev. smelte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j verwarm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uctuu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Amorf of Kristallij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peratuur effect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morfe zones worden visceuze vloeistoffe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ven T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lastemperatuu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ristallijne zones (indien aanwezig) smelte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ij Tm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meltpunt polyme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igenschapp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kkelijk (her-)vormbaar / recycleerbaar boven Tg (Tmp indien semi-kristallij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bruik normaliter beperkt tot matige temperatu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hoging kristalliniteit verhoogt sterkte en stijfheid, verlaagt ductilite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rbeeld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olyethyleen (PE), polyvinylchloride (PVC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78360" y="2471400"/>
            <a:ext cx="3962160" cy="1797480"/>
            <a:chOff x="5778360" y="2471400"/>
            <a:chExt cx="3962160" cy="1797480"/>
          </a:xfrm>
        </p:grpSpPr>
        <p:sp>
          <p:nvSpPr>
            <p:cNvPr id="200" name=""/>
            <p:cNvSpPr/>
            <p:nvPr/>
          </p:nvSpPr>
          <p:spPr>
            <a:xfrm>
              <a:off x="5778360" y="2471400"/>
              <a:ext cx="3962160" cy="1797480"/>
            </a:xfrm>
            <a:prstGeom prst="rect">
              <a:avLst/>
            </a:prstGeom>
            <a:solidFill>
              <a:srgbClr val="3333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morf  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emi-kristallij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5860440" y="2778120"/>
              <a:ext cx="383868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3970080" y="2571480"/>
            <a:ext cx="907200" cy="396360"/>
          </a:xfrm>
          <a:custGeom>
            <a:avLst/>
            <a:gdLst>
              <a:gd name="textAreaLeft" fmla="*/ 207000 w 907200"/>
              <a:gd name="textAreaRight" fmla="*/ 700200 w 907200"/>
              <a:gd name="textAreaTop" fmla="*/ 90360 h 396360"/>
              <a:gd name="textAreaBottom" fmla="*/ 306000 h 39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cap="sq"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§ 3.4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B. Thermoharders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.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rmose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6191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 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3-dimensionaal netwerk van ketens met vel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ss-links, welk na vorming en verwarming 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D structuur zal behou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uctuu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normaliter Amor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mperatuur effect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ichte) verweking boven Tg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lastemperatuur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ar blijft een vaste st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j hoge temperatuur : desintegratie, verkoling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genschapp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d en rigied, zeker beneden T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e dimensionele stabilite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istent aan kruip en vervorming onder belas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ere temperatuur capaciteiten dan thermoplast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orbeeld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enolen, Expoxyhars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78360" y="2471400"/>
            <a:ext cx="3962160" cy="1797480"/>
            <a:chOff x="5778360" y="2471400"/>
            <a:chExt cx="3962160" cy="1797480"/>
          </a:xfrm>
        </p:grpSpPr>
        <p:sp>
          <p:nvSpPr>
            <p:cNvPr id="206" name=""/>
            <p:cNvSpPr/>
            <p:nvPr/>
          </p:nvSpPr>
          <p:spPr>
            <a:xfrm>
              <a:off x="5778360" y="2471400"/>
              <a:ext cx="3962160" cy="1797480"/>
            </a:xfrm>
            <a:prstGeom prst="rect">
              <a:avLst/>
            </a:prstGeom>
            <a:solidFill>
              <a:srgbClr val="3333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ross-linking structu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943240" y="2895480"/>
              <a:ext cx="35496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. Elastomeren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incl. rubber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61912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at ?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Capaciteit tot zeer grote elastische vervorm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&gt; 100%), maar terugkeer tot originele vorm n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gnemen belas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uctuu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Lange ketens, met enke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oss-links tussen kete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peratuur effect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s beneden T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lastemperatuu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g elastisch boven T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igenschapp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armate cross-link dichtheid toeneem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jgen sterkte en stijfheid, doch daalt ductilite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rbeeld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atuurrubber (poly-isopreen), Silicon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778360" y="2471400"/>
            <a:ext cx="3962160" cy="1797480"/>
            <a:chOff x="5778360" y="2471400"/>
            <a:chExt cx="3962160" cy="1797480"/>
          </a:xfrm>
        </p:grpSpPr>
        <p:sp>
          <p:nvSpPr>
            <p:cNvPr id="211" name=""/>
            <p:cNvSpPr/>
            <p:nvPr/>
          </p:nvSpPr>
          <p:spPr>
            <a:xfrm>
              <a:off x="5778360" y="2471400"/>
              <a:ext cx="3962160" cy="1797480"/>
            </a:xfrm>
            <a:prstGeom prst="rect">
              <a:avLst/>
            </a:prstGeom>
            <a:solidFill>
              <a:srgbClr val="3333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’ cross-linking bij Natuur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6108120" y="2819520"/>
              <a:ext cx="3384720" cy="12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Soorten Polymeren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9880" y="1828800"/>
            <a:ext cx="701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ling volgens Chemische Samenst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448240" y="2743200"/>
            <a:ext cx="10731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65320" y="2386080"/>
          <a:ext cx="61722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86080"/>
                    <a:ext cx="61722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30120" y="3886200"/>
            <a:ext cx="7677360" cy="685800"/>
          </a:xfrm>
          <a:prstGeom prst="ellipse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77000" y="3809880"/>
            <a:ext cx="0" cy="106704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48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680" y="1885680"/>
            <a:ext cx="4566960" cy="44384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e dunne ketens; met elkaar verstrengeld, doch afzonderlijke polymeerkete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skrachten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nderwaalskracht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erstofbi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actie tussen polaire groep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ging = rond C-’bolscharnieren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ger MG (hogere polymerisatie-graad)  &lt;--&gt;  grotere trek- &amp; druk-sterk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gzaamheid = afhank. van mate van vervlochten zijn  +  van onderlinge oriëntatie in ruim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kristallij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mor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457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08680" y="1885680"/>
            <a:ext cx="4566960" cy="44384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el sterker vervlochten polymeer-kete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&gt; Grotere stijfhe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e katalysatoren en bijzondere procestechnieken voor bevordering vertakking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.B.: Veel 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elastomer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a vulkanisatie hebben vertakte structuu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08320" y="1886040"/>
            <a:ext cx="4732200" cy="2990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ss-links’  =  chemische brug-verbinding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tens die zich tijdens polymerisatie-reactie met elkaar verb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ur = zeer sterk &amp; stij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r cross-link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tere stijfhei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der chemisch oplos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iet of minder hersmel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ohar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35680" y="4952880"/>
            <a:ext cx="4705200" cy="173376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08680" y="1886040"/>
            <a:ext cx="4566960" cy="1085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tenstijfheid door substitutie met omvangrijke moleculaire groe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orbeeld : PS (polystyr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 </a:t>
            </a:r>
            <a:r>
              <a:rPr b="0" i="1" lang="en-GB" sz="4000" spc="-1" strike="noStrike">
                <a:solidFill>
                  <a:srgbClr val="000000"/>
                </a:solidFill>
                <a:latin typeface="Arial Black"/>
              </a:rPr>
              <a:t>Inleiding 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9245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 / Naam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.:  </a:t>
            </a: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o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veel)  +  </a:t>
            </a: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mer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e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“stoffen die bestaan uit lange ketens van zich herhalende moleculaire groepen” 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nomer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ste monomeren : ruggengraat van C-atom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--&gt; organische stoffe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52880" y="1676520"/>
            <a:ext cx="4732560" cy="4572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imtelijke verdeling in polymeer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elemaal willekeu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t kristallijne structuur indien polymeerketens zich +/- evenwijdig oriënt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istalliniteit : bevorderd door e.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jdens vormen in matrijz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a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mechanische) invloed uitoefenen op ketenoriëntat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ger kristalliniteit = verhoging smeltpunt, afname chemische oplos-baarheid, vermindering slagvastheid, gunstig effect op andere mech. ei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CP’s: Liquid Crystal Polym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evla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p-fenyleen-tereftalamide  -&gt;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eefse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3384360" cy="23716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35320" y="1752480"/>
            <a:ext cx="4732200" cy="4648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Vulstoff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plastic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u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v. &amp; fenolhar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, asbest, zand, gl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 = cfr. aggregaat (grind) in be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sterkte, maatvasthei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o.m. chemisch inerte anorgan. mat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p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: ev.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hurende werk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p apparatuu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jz.: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Versterkingsmaterial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zels, mat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ielweefsels, glasvezel weefs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.: “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isotropi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Additiev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ere doel dan mech. eig.-schapp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i-oxidantia, UV-absorbers, kleur-stoffen, vlamvertragende middelen, cross-link midde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ekmakers &amp; plastific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286280" y="5866200"/>
            <a:ext cx="344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loed van glasvezel-vulstof of eigen-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chappen van nylon 6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31200" y="68904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lstoffen en hun Effe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55600" y="1709640"/>
            <a:ext cx="64389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54600" y="6890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stificeren en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eek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035320" y="1752120"/>
            <a:ext cx="4732200" cy="1752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dddddd"/>
                </a:solidFill>
                <a:uFillTx/>
                <a:latin typeface="Arial"/>
              </a:rPr>
              <a:t>Vulstoffen</a:t>
            </a:r>
            <a:r>
              <a:rPr b="0" lang="en-GB" sz="1800" spc="-1" strike="noStrike">
                <a:solidFill>
                  <a:srgbClr val="dddddd"/>
                </a:solidFill>
                <a:latin typeface="Arial"/>
              </a:rPr>
              <a:t> in plastic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ddddd"/>
                </a:solidFill>
                <a:latin typeface="Arial"/>
              </a:rPr>
              <a:t>Bijz.: </a:t>
            </a:r>
            <a:r>
              <a:rPr b="0" lang="en-GB" sz="1800" spc="-1" strike="noStrike" u="sng">
                <a:solidFill>
                  <a:srgbClr val="dddddd"/>
                </a:solidFill>
                <a:uFillTx/>
                <a:latin typeface="Arial"/>
              </a:rPr>
              <a:t>Versterkingsmaterial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dddddd"/>
                </a:solidFill>
                <a:uFillTx/>
                <a:latin typeface="Arial"/>
              </a:rPr>
              <a:t>Additieven</a:t>
            </a:r>
            <a:r>
              <a:rPr b="0" lang="en-GB" sz="1800" spc="-1" strike="noStrike">
                <a:solidFill>
                  <a:srgbClr val="dddddd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99"/>
                </a:solidFill>
                <a:uFillTx/>
                <a:latin typeface="Arial"/>
              </a:rPr>
              <a:t>weekmakers &amp; plastific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47680" y="1752480"/>
            <a:ext cx="42926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eekmak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dditief om taaiheid &amp; buigzaamheid te verh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r. smeermiddel; laten lange polymeermoleculen makkelijker t.o.v. elkaar bew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soort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ganisch chemicali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et hoog kookpu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 plastificer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‘blend’ of copolymerisatie met ander polymeer dat uit zeer grote moleculen bestaat  --&gt; grotere afstand tussen ket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m.: veroudering !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migratie weekmaker)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vaak niet geschikt als duurzaam constructiemateri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08680" y="1886040"/>
            <a:ext cx="4566960" cy="3905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r. sup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gpolym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ogeen mengs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-fasi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b.: PVC + Acrylpolymeer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&gt; dunne platen met buigzaamheid v. PVC-component  +  sterkte &amp; zonlichtbestendigheid van Acrylcompon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meermengs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terog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erfasi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m.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schil in Tg tussen verschillende fasen geeft ev. problemen bij het vormgev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4348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Lineair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rtakte 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ross-l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etenverstij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ristallinit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oevoeg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ngpoly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IP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Versterkingsmethod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08680" y="1752120"/>
            <a:ext cx="4566960" cy="4496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rpenetrerende Netwerke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leiding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° medio / eind ‘80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ngsel (2) polymeren; bijzonder synergetisch eff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én v/d polym. (= meestal thermo-harder) en vormt netwerk dat geheel doorvlochten is met ander poly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rste polymee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t netwe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deminsionale versterking v/h tweede polymee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 matri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roepe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mi-IPN material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otale) IPN material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008320" y="1752120"/>
            <a:ext cx="4732200" cy="4496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2b2b2"/>
                </a:solidFill>
                <a:latin typeface="Arial"/>
              </a:rPr>
              <a:t>Eén v/d polym. (= meestal thermo-harder) en vormt netwerk dat geheel doorvlochten is met ander polyme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2b2b2"/>
                </a:solidFill>
                <a:latin typeface="Arial"/>
              </a:rPr>
              <a:t>Eerste polymeer (</a:t>
            </a:r>
            <a:r>
              <a:rPr b="0" i="1" lang="en-GB" sz="1000" spc="-1" strike="noStrike">
                <a:solidFill>
                  <a:srgbClr val="b2b2b2"/>
                </a:solidFill>
                <a:latin typeface="Arial"/>
              </a:rPr>
              <a:t>het netwerk</a:t>
            </a:r>
            <a:r>
              <a:rPr b="0" lang="en-GB" sz="1000" spc="-1" strike="noStrike">
                <a:solidFill>
                  <a:srgbClr val="b2b2b2"/>
                </a:solidFill>
                <a:latin typeface="Arial"/>
              </a:rPr>
              <a:t>) = </a:t>
            </a:r>
            <a:br>
              <a:rPr sz="1000"/>
            </a:br>
            <a:r>
              <a:rPr b="0" lang="en-GB" sz="1000" spc="-1" strike="noStrike">
                <a:solidFill>
                  <a:srgbClr val="b2b2b2"/>
                </a:solidFill>
                <a:latin typeface="Arial"/>
              </a:rPr>
              <a:t>3-deminsionale versterking v/h tweede polymeer (</a:t>
            </a:r>
            <a:r>
              <a:rPr b="0" i="1" lang="en-GB" sz="1000" spc="-1" strike="noStrike">
                <a:solidFill>
                  <a:srgbClr val="b2b2b2"/>
                </a:solidFill>
                <a:latin typeface="Arial"/>
              </a:rPr>
              <a:t>de matrix</a:t>
            </a:r>
            <a:r>
              <a:rPr b="0" lang="en-GB" sz="10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Groepen 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IPN material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totale) IPN material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mi-IPN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de polymeer (matrix) =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lineair polyme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gepolymeriseerd binnen netwerk van 1ste polymeer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b.: matrix = grootste volume 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e IPN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de polymeer = eveneens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cross-linked netwer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ntstaan binnen netwerk van 1ste polym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erieure eigenschappen (mechanisch, chemisc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vergeleken met afzond. component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b.: PU (polyurethaan) + isocyana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.: semi-IPN met “zelfde” 2 polym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vb.: nylon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90960" y="68904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PN : Interpenetrerende Ne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30120" y="4952880"/>
            <a:ext cx="7677360" cy="68580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03200" y="5851080"/>
            <a:ext cx="78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uitgieten, persen, blazen, extrusie, …, …, reaction injection molding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RIM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, …, …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Fabricagetechnieken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7920" y="1981080"/>
            <a:ext cx="5469120" cy="1852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073160" y="4191120"/>
            <a:ext cx="4622760" cy="1699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500520" y="319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uitgie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62800" y="47995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Fabricagetechnieken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6810840" y="31993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15160" y="4799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ru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43040" y="1981080"/>
            <a:ext cx="5200560" cy="2111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825480" y="4343400"/>
            <a:ext cx="56595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 </a:t>
            </a:r>
            <a:r>
              <a:rPr b="0" i="1" lang="en-GB" sz="4000" spc="-1" strike="noStrike">
                <a:solidFill>
                  <a:srgbClr val="000000"/>
                </a:solidFill>
                <a:latin typeface="Arial Black"/>
              </a:rPr>
              <a:t>Inleiding 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Wat / Naam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orbeeld :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oly-ethylee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(poly-ethe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3040" y="3352680"/>
            <a:ext cx="7605720" cy="207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50400" y="56754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tie van een Polyethyleen-molecule    (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73160" y="3429000"/>
            <a:ext cx="3797280" cy="53352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5035680" y="3505320"/>
            <a:ext cx="1155600" cy="457200"/>
          </a:xfrm>
          <a:prstGeom prst="leftArrow">
            <a:avLst>
              <a:gd name="adj1" fmla="val 50000"/>
              <a:gd name="adj2" fmla="val 6318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412920" y="838080"/>
            <a:ext cx="5777640" cy="6019560"/>
            <a:chOff x="412920" y="838080"/>
            <a:chExt cx="5777640" cy="6019560"/>
          </a:xfrm>
        </p:grpSpPr>
        <p:grpSp>
          <p:nvGrpSpPr>
            <p:cNvPr id="277" name=""/>
            <p:cNvGrpSpPr/>
            <p:nvPr/>
          </p:nvGrpSpPr>
          <p:grpSpPr>
            <a:xfrm>
              <a:off x="650160" y="3513600"/>
              <a:ext cx="5382000" cy="371160"/>
              <a:chOff x="650160" y="3513600"/>
              <a:chExt cx="5382000" cy="371160"/>
            </a:xfrm>
          </p:grpSpPr>
          <p:sp>
            <p:nvSpPr>
              <p:cNvPr id="278" name=""/>
              <p:cNvSpPr/>
              <p:nvPr/>
            </p:nvSpPr>
            <p:spPr>
              <a:xfrm>
                <a:off x="650160" y="3513600"/>
                <a:ext cx="2453400" cy="371160"/>
              </a:xfrm>
              <a:prstGeom prst="rect">
                <a:avLst/>
              </a:prstGeom>
              <a:solidFill>
                <a:srgbClr val="ffff99"/>
              </a:solidFill>
              <a:ln cap="sq"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78760" y="3513600"/>
                <a:ext cx="2453400" cy="371160"/>
              </a:xfrm>
              <a:prstGeom prst="rect">
                <a:avLst/>
              </a:prstGeom>
              <a:solidFill>
                <a:srgbClr val="ffff99"/>
              </a:solidFill>
              <a:ln cap="sq"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12920" y="838080"/>
              <a:ext cx="5777640" cy="6019560"/>
              <a:chOff x="412920" y="838080"/>
              <a:chExt cx="5777640" cy="601956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412920" y="1697760"/>
                <a:ext cx="5166000" cy="1633320"/>
                <a:chOff x="412920" y="1697760"/>
                <a:chExt cx="5166000" cy="163332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3716280" y="1697760"/>
                  <a:ext cx="1862640" cy="1633320"/>
                  <a:chOff x="3716280" y="1697760"/>
                  <a:chExt cx="1862640" cy="16333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800520" y="1697760"/>
                    <a:ext cx="1778400" cy="429840"/>
                  </a:xfrm>
                  <a:prstGeom prst="ellipse">
                    <a:avLst/>
                  </a:prstGeom>
                  <a:solidFill>
                    <a:srgbClr val="dddddd">
                      <a:alpha val="50000"/>
                    </a:srgbClr>
                  </a:solidFill>
                  <a:ln w="5724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716280" y="2901600"/>
                    <a:ext cx="1778400" cy="429480"/>
                  </a:xfrm>
                  <a:prstGeom prst="ellipse">
                    <a:avLst/>
                  </a:prstGeom>
                  <a:solidFill>
                    <a:srgbClr val="dddddd">
                      <a:alpha val="50000"/>
                    </a:srgbClr>
                  </a:solidFill>
                  <a:ln w="5724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>
                  <a:off x="412920" y="2901600"/>
                  <a:ext cx="1778760" cy="429480"/>
                </a:xfrm>
                <a:prstGeom prst="ellipse">
                  <a:avLst/>
                </a:prstGeom>
                <a:solidFill>
                  <a:srgbClr val="dddddd">
                    <a:alpha val="50000"/>
                  </a:srgbClr>
                </a:solidFill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1320" y="838080"/>
                <a:ext cx="5439240" cy="60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Soorten Polym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86640" y="3124080"/>
            <a:ext cx="30542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rmo-plas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rmo-ha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last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&gt; homopolym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48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Ethe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08320" y="2437920"/>
            <a:ext cx="4346280" cy="36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geleid van ethyleen-molecule; grondstof = aardol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ste : lineaire structuur met minimum aantal vertakkingen en cross-link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ste : thermoplastisch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&amp; rubberachtig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makkelijk tot vormprodukten te verwerke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tz.: UHMWPE, enkele Fluorpol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, PP, PS, PVC  =  60% van mar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chanische eigenschappen: sterk uiteenlopend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77800" y="2362320"/>
            <a:ext cx="4044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77720" y="689040"/>
            <a:ext cx="710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che eigenschappen : etheenachtigen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39360" y="4724280"/>
            <a:ext cx="229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ekg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eenachtige homopolym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07920" y="1828800"/>
            <a:ext cx="6026040" cy="4114440"/>
            <a:chOff x="907920" y="1828800"/>
            <a:chExt cx="6026040" cy="411444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907920" y="1828800"/>
              <a:ext cx="6026040" cy="4114440"/>
            </a:xfrm>
            <a:prstGeom prst="rect">
              <a:avLst/>
            </a:prstGeom>
            <a:ln cap="sq" w="28440">
              <a:solidFill>
                <a:srgbClr val="000099"/>
              </a:solidFill>
              <a:miter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2185920" y="2914200"/>
              <a:ext cx="1734480" cy="2171160"/>
              <a:chOff x="2185920" y="2914200"/>
              <a:chExt cx="1734480" cy="2171160"/>
            </a:xfrm>
          </p:grpSpPr>
          <p:sp>
            <p:nvSpPr>
              <p:cNvPr id="298" name=""/>
              <p:cNvSpPr/>
              <p:nvPr/>
            </p:nvSpPr>
            <p:spPr>
              <a:xfrm>
                <a:off x="2550960" y="4918320"/>
                <a:ext cx="364680" cy="167040"/>
              </a:xfrm>
              <a:prstGeom prst="leftArrow">
                <a:avLst>
                  <a:gd name="adj1" fmla="val 50000"/>
                  <a:gd name="adj2" fmla="val 54580"/>
                </a:avLst>
              </a:prstGeom>
              <a:noFill/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55360" y="3999600"/>
                <a:ext cx="365040" cy="166680"/>
              </a:xfrm>
              <a:prstGeom prst="leftArrow">
                <a:avLst>
                  <a:gd name="adj1" fmla="val 50000"/>
                  <a:gd name="adj2" fmla="val 54752"/>
                </a:avLst>
              </a:prstGeom>
              <a:noFill/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77000" y="3331800"/>
                <a:ext cx="364680" cy="166680"/>
              </a:xfrm>
              <a:prstGeom prst="leftArrow">
                <a:avLst>
                  <a:gd name="adj1" fmla="val 50000"/>
                  <a:gd name="adj2" fmla="val 54698"/>
                </a:avLst>
              </a:prstGeom>
              <a:noFill/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5920" y="3665520"/>
                <a:ext cx="365040" cy="167040"/>
              </a:xfrm>
              <a:prstGeom prst="leftArrow">
                <a:avLst>
                  <a:gd name="adj1" fmla="val 50000"/>
                  <a:gd name="adj2" fmla="val 54634"/>
                </a:avLst>
              </a:prstGeom>
              <a:noFill/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55360" y="2914200"/>
                <a:ext cx="365040" cy="167040"/>
              </a:xfrm>
              <a:prstGeom prst="leftArrow">
                <a:avLst>
                  <a:gd name="adj1" fmla="val 50000"/>
                  <a:gd name="adj2" fmla="val 54634"/>
                </a:avLst>
              </a:prstGeom>
              <a:noFill/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77720" y="689040"/>
            <a:ext cx="710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che eigenschappen : etheenachtigen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32120" y="6019920"/>
            <a:ext cx="29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ffect </a:t>
            </a: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Moleculair</a:t>
            </a:r>
            <a:br>
              <a:rPr sz="1800"/>
            </a:b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Gewichtspreiding</a:t>
            </a: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LD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7920" y="1981080"/>
            <a:ext cx="8337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12560" y="1752120"/>
            <a:ext cx="6273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yolefin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verzadigde KWS : C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olyethyl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LDPE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hoge druk (200 MPA !) ; ketens aanzienlijk vertakt; doorzichtig indien dun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verpakkingsfolies, co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HDPE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age druk / katalysator (Ziegler-Natta); minder vertakt, hogere kristalliniteit; spuitgieten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flessen, pijpleiding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L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UHMWP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neair, MG = 3 à 5,000,000 ! ; niet makkelijk te vormen --&gt; extrusie 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slijtvaste onderdelen in machi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olypropyl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-H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: polypropyleen homopolyme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i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cfr. HDPE; hogere stijfheid, harder, sterker, beter bij hoge T; minder taai, verbrossing bij lage 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lyallomeren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ristallijne copolymeren van olefin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86640" y="1905120"/>
            <a:ext cx="29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genschappen sterk afhank. van MG (ketenlengte) + verdeling 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gzaam; goede chemische resistenti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corrosie-gedrag”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e hoger MG, hoe beter chemische resistent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 : niet héél sterk; uitg. UHM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 : sterker dan 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: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olybute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taaie vloeistof / rubberachtig mat.</a:t>
            </a:r>
            <a:br>
              <a:rPr sz="12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-&gt; kleefmiddelen, dichting (kit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247680" y="609480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P-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 polypropyleen blok copolymeer: P-P-P-E-E-E-P-P-P-E-E-E-P-P-P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P-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 polypropyleen random copolymeer : P-P-E-E-E-P-P-E-P-P-P-P-E-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885680"/>
            <a:ext cx="5530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yvinyl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VC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olyvinylchloride  </a:t>
            </a:r>
            <a:r>
              <a:rPr b="0" lang="en-GB" sz="1800" spc="-1" strike="noStrike">
                <a:solidFill>
                  <a:srgbClr val="33cc33"/>
                </a:solidFill>
                <a:latin typeface="Tahoma"/>
              </a:rPr>
              <a:t>(.../…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Hard PVC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zonder weekmakers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grijze kunststofbuiz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Zacht PVC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eekmakers; “vinyl”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imitatieleder, bekledingen, … o.m. elektrische leiding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PVC-C </a:t>
            </a:r>
            <a:r>
              <a:rPr b="0" lang="en-GB" sz="1400" spc="-1" strike="noStrike">
                <a:solidFill>
                  <a:srgbClr val="000099"/>
                </a:solidFill>
                <a:latin typeface="Tahoma"/>
              </a:rPr>
              <a:t>(of CPVC)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echloreerd PVC;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heetwaterleidingen (max. ca. 80°C); geringe 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enetrati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BS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acrylonitrile-butadieen-styreen copolymeer</a:t>
            </a:r>
            <a:br>
              <a:rPr sz="1800"/>
            </a:b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styreen = bevat vinyl groep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ere lage T eigenschappen dan PVC; zeer goede taaiheid &amp; slagvastheid</a:t>
            </a:r>
            <a:br>
              <a:rPr sz="1200"/>
            </a:b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e.g. telefoontoestelle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73360" y="1886040"/>
            <a:ext cx="3467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VC : goedkoop; +/- niet ontvlambaar, zelfdov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VC : bijna sterk &amp; stijf genoeg voor ee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‘technis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lastic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VC : geringere taaiheid, kerfgevoeligheid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voorkom spannings-concentraties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ede weerstand tegen zuren en basen; ondoorlaatbaa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fless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echte resistentie tegen organische (oplos-) midd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7880" y="68904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VC : Polyvinyl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4640" y="533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nige Histor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43040" y="2133720"/>
            <a:ext cx="4943520" cy="2103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986440" y="2209680"/>
            <a:ext cx="2871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5530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ystyre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olysty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nzeenring: ketenverstijving; amorf (atactisch); </a:t>
            </a:r>
            <a:br>
              <a:rPr sz="1200"/>
            </a:b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consumptieartikelen (e.g. wegwerpbestek, eetbakjes, ..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B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(styreen-butadieen copolymeer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lagvast polystyre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meeste PS als gemodifieerd polymeer (e.g. SB); ook in rubber, “latexverven”,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ok : 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ABS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cfr. supr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EP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expanded polystyreen (schuimpolystyre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08480" y="1752120"/>
            <a:ext cx="3632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edkoop; 20% van alle thermoplasten; wegwerpmateriaal &amp; speelgo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S : bros &amp; hard (lage slagvasthe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vig schuim = thermische isolatie, drijfmateriaal,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geling onder U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der corrosieresistent dan PE, PP; aantasting door meeste oplosmiddel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le verbeteringen door co-polymerisatie en/of weekma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37040" y="5638680"/>
            <a:ext cx="2900160" cy="906480"/>
          </a:xfrm>
          <a:prstGeom prst="rect">
            <a:avLst/>
          </a:prstGeom>
          <a:ln cap="sq"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752480"/>
            <a:ext cx="5530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Fluoroplastic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TF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olytetrafluorethyleen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Tef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, Hostaf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, Ha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het (ethyleen-)monomeer is elk waterstofatoom vervangen door F atoom 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FEP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fluor-ethyleen-propyleen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Tef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FA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erfluoralkoxy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Tef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, Hostaflon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VD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olyvinylideenfluoride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Kynar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, Solef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-CTF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ethyleen-chlorotrifluorethyleen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Halar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43240" y="1828800"/>
            <a:ext cx="3962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ur; PTFE : niet erg sterk; krui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minder voor construct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éér goed bestand tegen chemicaliën en oplosmiddel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eruit bes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ge temperatu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ge wrijv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TFE : moeilijkere verwerking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iet smelten; niet vloeibaar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ternatieve meth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PM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ternatieve polymer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v. ook spuitgieten mogelijk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PF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 ook minder kruip bij bijna zelfde temp.resistentie, etc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43040" y="5791320"/>
            <a:ext cx="1857240" cy="92232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889360" y="5791320"/>
            <a:ext cx="1407960" cy="88740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4540320" y="5791320"/>
            <a:ext cx="2038320" cy="88884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6769080" y="5791320"/>
            <a:ext cx="1171440" cy="61092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4880" y="68904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yethyleen-molecu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(2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31520" y="2209680"/>
            <a:ext cx="2492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toomstructu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tenste atoomschil van C-atoom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vat 4 elektronen  --&gt; kan nog 4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ktronen opn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n beide kanten van etheen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 ander etheen molec.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enties v. centrale molecu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ledig bez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&gt; ev.: Ontstaan lange ke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6640" y="4724280"/>
            <a:ext cx="2511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ysische structu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.: erg lange ketens --&gt; verwar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 verstrengeld --&gt; meer of mind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kristalliniteit”, of “amorf” (cfr. inf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20840" y="4427640"/>
            <a:ext cx="49528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67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Andere “etheen-achtigen”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MMA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polymethylmethacryla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rylaten = helder transparante materialen met grote stijfheid; </a:t>
            </a:r>
            <a:br>
              <a:rPr sz="1200"/>
            </a:b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: “plexiglas”; transparante laklagen (verven); lenzen, 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olyvinylacetaat, 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olyvinylalcohol,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735280" cy="13114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788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Enkele andere Thermoplaste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lons (polyamiden) &amp; Aramidevezels (LC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acetalen, Polysulf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T : thermoplastisch poly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carbon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EK &amp; composi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252800" y="68904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che eigen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51240" y="4724280"/>
            <a:ext cx="255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ekg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eenachtig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ylons en Acetaal-homopolym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320840" y="1981080"/>
            <a:ext cx="4268880" cy="396252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9760" y="1752480"/>
            <a:ext cx="58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Polyamide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PA</a:t>
            </a: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nylons)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lycondensatie-produkt van </a:t>
            </a:r>
            <a:r>
              <a:rPr b="0" i="1" lang="en-GB" sz="2000" spc="-1" strike="noStrike">
                <a:solidFill>
                  <a:srgbClr val="000099"/>
                </a:solidFill>
                <a:latin typeface="Tahoma"/>
              </a:rPr>
              <a:t>zuu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GB" sz="2000" spc="-1" strike="noStrike">
                <a:solidFill>
                  <a:srgbClr val="000099"/>
                </a:solidFill>
                <a:latin typeface="Tahoma"/>
              </a:rPr>
              <a:t>am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ypes : Nylon 6, Nylon 6.6, Nylon 6.10, Nylon 6/12, Nylon 11, Nylon 12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jfers wijzen op aantal C-atomen in uitgangs-produkten; “/” = copolymeer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Nylon 6 &amp; Nylon 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Kristallij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hermoplastische stoff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 =&gt;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ter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slijtvas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lumeveranderingen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door vochtabsorpti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-&gt; Nieuwe verstevigingssyst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108480" y="1752120"/>
            <a:ext cx="3632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 = meest gebruikte “engineering plastic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e geschieden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de WO : nylon parachutes i.p.v. zijd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Zeer) goede mechanische eigenschapp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&gt;  constructie-onderdele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vezels, tandwielen, nokken, 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ksterkt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achte Al-legeri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h : vochtabsorptie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= weekmaker voor PA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terkst: 6 &amp; 6.6, minst: 11 &amp; 1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3735360" cy="71424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990720" y="5867280"/>
            <a:ext cx="2295360" cy="7858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035680" y="5410080"/>
            <a:ext cx="4324320" cy="104616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sp>
        <p:nvSpPr>
          <p:cNvPr id="342" name=""/>
          <p:cNvSpPr/>
          <p:nvPr/>
        </p:nvSpPr>
        <p:spPr>
          <a:xfrm>
            <a:off x="3310200" y="6017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40440" y="59425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 6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035680" y="1905120"/>
            <a:ext cx="470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olyacet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teroketen”  (C / O); sterk kristalli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. eign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y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er vochtabsorp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9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48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Aramidevezels</a:t>
            </a: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kevlar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polyamiden waarvan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monomeer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2 benzeen-rin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v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ristallijn (LCP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xtreem) hoge sterkte door stijve structuur van ke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inue gebruikstemp. tot 260°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bruiksvorm = vezels, dunne pla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08320" y="1885680"/>
            <a:ext cx="4346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907920" y="4800600"/>
            <a:ext cx="3818160" cy="144144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870440" y="3352680"/>
            <a:ext cx="2295360" cy="104004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5200560" y="4572000"/>
            <a:ext cx="4705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olysulf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ten van benzeenri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orf, stijf thermoplastisch materi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mertemp.: mech. eign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ylons; doch behoud tot wel ca. 160-18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7264440" y="3505320"/>
            <a:ext cx="2641680" cy="108576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360" y="1828800"/>
            <a:ext cx="4348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ET</a:t>
            </a: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polyetheentereftala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thermoplastisch polye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ristallijn; enigszins kerfgevoeli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rk; maatv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tand tegen hoge 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istent à olie &amp; vetten; niet à sterke zuren (koolzuur = OK), basen, of heet wa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: PET flessen, verpakkingsfolie, magneetbanden, fotografische fil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60240" y="4952880"/>
            <a:ext cx="4127760" cy="145440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035680" y="1905120"/>
            <a:ext cx="4539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olycarbon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ester van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koolzuu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aromatische difenylolverbind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= een poly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orf, lineair poly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d, stijf, maatvast,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jzonde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lagva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lashe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mp.- &amp; weer-re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: zoals acrylaten, doch slagvastheid tot 16x hoger / d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365800" y="4952880"/>
            <a:ext cx="4044960" cy="14464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plas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828800"/>
            <a:ext cx="434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EEK</a:t>
            </a: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polyetheretherke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zeenringen volgens karakteristieke R-O-R etherstructuur met elkaar verbond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deeltelijk kristallij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tand tege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zeer hoge 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ntinu gebruik tot 315°C !... 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. eign : even goed als nylons (soms zelfs beter) + goede maatvastheid bij hoge tem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istent à heet water, stoom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istent à vele chemicaliën, incl. vele organische oplosmidde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js 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500 BEF/k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200560" y="3657600"/>
            <a:ext cx="4457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nt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K zonder vulst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K met bv. PTFE als smeermid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K met glasvezel of koolstofvez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koolstofvezel-composi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jfhei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Alumini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itanium of Cu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eri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o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= lucht- &amp; ruimtev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00560" y="1905120"/>
            <a:ext cx="4179960" cy="172548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0880" y="3513240"/>
            <a:ext cx="2452680" cy="37152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78400" y="3513240"/>
            <a:ext cx="2454120" cy="37152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37040" y="2743200"/>
            <a:ext cx="4127400" cy="327672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0960" y="838080"/>
            <a:ext cx="5440320" cy="601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harders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3800520" y="1698480"/>
            <a:ext cx="1779480" cy="43020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920" y="2901960"/>
            <a:ext cx="1779480" cy="43020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7264080" y="3657240"/>
            <a:ext cx="1733400" cy="1066680"/>
          </a:xfrm>
          <a:custGeom>
            <a:avLst/>
            <a:gdLst>
              <a:gd name="textAreaLeft" fmla="*/ 270720 w 1733400"/>
              <a:gd name="textAreaRight" fmla="*/ 1517040 w 17334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harders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885680"/>
            <a:ext cx="79246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Enkele belangrijke Thermoharder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Fenolhars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fr. bakeli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olyesterhars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onverzadigde polyeste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poxyhar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ische Materialen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F : Melamineformaldehy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F : Ureumformaldehy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lky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arsen :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lc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oho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in feite: polyesters) </a:t>
            </a:r>
            <a:br>
              <a:rPr sz="14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+ oliën &amp; pigmenten)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--&gt; ver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raanhar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olyuretha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harders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480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FENOLHARSEN</a:t>
            </a: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Fenoplaste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nolhars = fenol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aromatisch alcohol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formaldehyde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33cc33"/>
                </a:solidFill>
                <a:latin typeface="Tahoma"/>
              </a:rPr>
              <a:t>…</a:t>
            </a:r>
            <a:r>
              <a:rPr b="0" lang="en-GB" sz="1600" spc="-1" strike="noStrike">
                <a:solidFill>
                  <a:srgbClr val="33cc33"/>
                </a:solidFill>
                <a:latin typeface="Tahoma"/>
              </a:rPr>
              <a:t>/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ross-links door verwar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rschillende stadia van polymerisati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-stadium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nog geen cross-link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-stadium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overgangsstadium: rubberachtig &amp; kleverig; of: al bro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--&gt; menging met versterking / vulstoffen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ev. als poed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-stadium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cross-linking voltooi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08320" y="1885680"/>
            <a:ext cx="4346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nolformaldehyde-polymeer : bakeli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ulstoffen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(houtmeel, mineraal poeder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ektrische isolator, lage vochtabsorptie, vrij hoge gebruikstemperatuur (200°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est gebruikte thermoha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/3 : kleefmiddel in multiplex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lektrische printplaten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o.m. met katoen of glasvezelwapen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topcontacten, schakelaars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chine-onderdelen via verspanende bewerking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ui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 </a:t>
            </a:r>
            <a:r>
              <a:rPr b="0" i="1" lang="en-GB" sz="4000" spc="-1" strike="noStrike">
                <a:solidFill>
                  <a:srgbClr val="000000"/>
                </a:solidFill>
                <a:latin typeface="Arial Black"/>
              </a:rPr>
              <a:t>Inleiding 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Wat / Naam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Voorbeeld : </a:t>
            </a:r>
            <a:r>
              <a:rPr b="0" i="1" lang="en-GB" sz="2800" spc="-1" strike="noStrike">
                <a:solidFill>
                  <a:srgbClr val="b2b2b2"/>
                </a:solidFill>
                <a:latin typeface="Arial"/>
              </a:rPr>
              <a:t>poly-ethyleen</a:t>
            </a: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  (poly-ethe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gelijking met andere material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en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inn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monome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zeer sterk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an elkaar gebonden (meestal covalen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uss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aaneengeregen monomeermolecul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=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n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olymeerketen):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ok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valent, of ev. veel zwakkere secundaire bi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meren met lange ketenmoleculen : normaliter zwakker dan keramieken of metalen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derling slechts aan elkaar gebonden do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zwakk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lektrostatische krachten (“Vanderwaalskrachten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der belasting : ketens uit elkaar glijden !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&gt;   verstevig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diverse mogelijkheden : vulstoffen, vertakte keten, “cross-links”, .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Eigensc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34000" y="6890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8000" y="47242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enolformaldehyde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(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4943520" cy="3867120"/>
          </a:xfrm>
          <a:prstGeom prst="rect">
            <a:avLst/>
          </a:prstGeom>
          <a:ln cap="sq" w="28440">
            <a:solidFill>
              <a:srgbClr val="000099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3137040" y="5867280"/>
            <a:ext cx="66024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ff33"/>
          </a:solidFill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78360" y="3352680"/>
            <a:ext cx="908280" cy="228600"/>
          </a:xfrm>
          <a:prstGeom prst="leftArrow">
            <a:avLst>
              <a:gd name="adj1" fmla="val 50000"/>
              <a:gd name="adj2" fmla="val 99331"/>
            </a:avLst>
          </a:prstGeom>
          <a:noFill/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0800000">
            <a:off x="247680" y="3428640"/>
            <a:ext cx="907920" cy="228600"/>
          </a:xfrm>
          <a:prstGeom prst="leftArrow">
            <a:avLst>
              <a:gd name="adj1" fmla="val 50000"/>
              <a:gd name="adj2" fmla="val 99291"/>
            </a:avLst>
          </a:prstGeom>
          <a:noFill/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35160" y="6201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-links 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rmoharders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360" y="1886040"/>
            <a:ext cx="4348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fr. staal bij de meta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 Groepe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rmohardende polyesterharsen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onverzadig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rmoplastische polyesters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sterk kristallij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ter 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kohol + zuu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(organ./ anorgan.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08320" y="1885680"/>
            <a:ext cx="4346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bruik : als harsmatrix in composi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rijke toepassingen: boten, vishengels, auto’s, etc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ak verkocht als vloeibaar materiaal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i.e. oplossing v/h hars in bv. styreen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=&gt; katalysator toevoegen voor “uitharding” (cross-linking) 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; slechts enkele ml / li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ddddd"/>
                </a:solidFill>
                <a:latin typeface="Arial Black"/>
              </a:rPr>
              <a:t>Thermoharder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886040"/>
            <a:ext cx="4348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OLYURETHA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(PU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33cc33"/>
                </a:solidFill>
                <a:latin typeface="Tahoma"/>
              </a:rPr>
              <a:t>P. 14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densatie-reactie tussen isocyanaat (R=N=C=O)  +  alcohol  (RO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08320" y="1885680"/>
            <a:ext cx="4346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ubber,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ijve Thermoharder,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hui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har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zelfs vervangmiddel v. hout in meube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zacht &amp; buigz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ating : urethaanlak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tstekende slijtvastheid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vloer-coatings, etc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77800" y="5334120"/>
            <a:ext cx="6305760" cy="128880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219480" y="1600200"/>
            <a:ext cx="2889360" cy="121932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0880" y="3513240"/>
            <a:ext cx="2452680" cy="37152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78400" y="3513240"/>
            <a:ext cx="2454120" cy="37152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79720" y="2895480"/>
            <a:ext cx="1981440" cy="45720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50960" y="838080"/>
            <a:ext cx="5440320" cy="60199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lastomer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412920" y="2901960"/>
            <a:ext cx="1779480" cy="430200"/>
          </a:xfrm>
          <a:prstGeom prst="ellipse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6356160" y="1752480"/>
            <a:ext cx="1733400" cy="1067040"/>
          </a:xfrm>
          <a:custGeom>
            <a:avLst/>
            <a:gdLst>
              <a:gd name="textAreaLeft" fmla="*/ 270720 w 1733400"/>
              <a:gd name="textAreaRight" fmla="*/ 1517040 w 17334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lastomer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886040"/>
            <a:ext cx="79246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Enkele belangrijke Elastomere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tex rub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uurrubbers  (E.: “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u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t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cht &amp; kleverig  (T+)  &lt;--&gt; hard &amp; bros (T-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S + T ; “vulcanisati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cht, medium, hard (‘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boniet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= ca. 20% S vulcanisati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isopreen;   neopreen/chloropreen, SBR, …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lyethyleen rub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uoro-elastomeren !!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dere elastomere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liconen-rub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yurethaan-rub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fr.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anvullende nota’s 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000" spc="-1" strike="noStrike">
                <a:solidFill>
                  <a:srgbClr val="ff0000"/>
                </a:solidFill>
                <a:latin typeface="Arial Black"/>
              </a:rPr>
              <a:t>lezen + </a:t>
            </a:r>
            <a:r>
              <a:rPr b="0" i="1" lang="en-GB" sz="2000" spc="-1" strike="noStrike" u="sng">
                <a:solidFill>
                  <a:srgbClr val="ff0000"/>
                </a:solidFill>
                <a:uFillTx/>
                <a:latin typeface="Arial Black"/>
              </a:rPr>
              <a:t>kenn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249560" y="68904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stomeren : relatief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95360" y="1897200"/>
            <a:ext cx="7016760" cy="4564080"/>
          </a:xfrm>
          <a:prstGeom prst="rect">
            <a:avLst/>
          </a:prstGeom>
          <a:ln cap="sq" w="12600">
            <a:solidFill>
              <a:srgbClr val="000099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6653160" y="236196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isop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13480" y="2438280"/>
            <a:ext cx="907920" cy="228600"/>
          </a:xfrm>
          <a:prstGeom prst="leftArrow">
            <a:avLst>
              <a:gd name="adj1" fmla="val 50000"/>
              <a:gd name="adj2" fmla="val 99291"/>
            </a:avLst>
          </a:prstGeom>
          <a:noFill/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Materiaalkunde voor Ingenieurs</a:t>
            </a:r>
            <a:br>
              <a:rPr sz="2000"/>
            </a:br>
            <a:r>
              <a:rPr b="0" i="1" lang="en-GB" sz="2000" spc="-1" strike="noStrike">
                <a:solidFill>
                  <a:srgbClr val="dddddd"/>
                </a:solidFill>
                <a:latin typeface="Arial"/>
              </a:rPr>
              <a:t>=  “Eind-GEBRUIK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77800" y="3124080"/>
            <a:ext cx="4348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Polymere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osie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eramische Materia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alsoorten &amp; Roestvast st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o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ade-analyse &amp; -preventie / ND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17760" y="3124080"/>
            <a:ext cx="423684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ieten, PM, Vormgeven, Verspanen, 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, Zn, Ti, Mg, Refracta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p. behand. &amp; Coa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988200" y="1829880"/>
            <a:ext cx="7034040" cy="106740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“</a:t>
            </a:r>
            <a:r>
              <a:rPr b="1" i="1" lang="en-GB" sz="1600" spc="-1" strike="noStrike">
                <a:solidFill>
                  <a:srgbClr val="b2b2b2"/>
                </a:solidFill>
                <a:latin typeface="Arial"/>
              </a:rPr>
              <a:t>Engineering Materials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” </a:t>
            </a:r>
            <a:r>
              <a:rPr b="1" lang="en-GB" sz="1600" spc="-1" strike="noStrike">
                <a:solidFill>
                  <a:srgbClr val="b2b2b2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Metalen, </a:t>
            </a:r>
            <a:r>
              <a:rPr b="1" i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Niet-metal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Legeringen, Coatings</a:t>
            </a: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i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Eigenschapp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Bereiding en Processing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i="1" lang="en-GB" sz="1600" spc="-1" strike="noStrike" u="sng">
                <a:solidFill>
                  <a:srgbClr val="ffcc00"/>
                </a:solidFill>
                <a:uFillTx/>
                <a:latin typeface="Arial"/>
              </a:rPr>
              <a:t>Beschrijving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Begrijp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</a:t>
            </a:r>
            <a:r>
              <a:rPr b="1" i="1" lang="en-GB" sz="1600" spc="-1" strike="noStrike" u="sng">
                <a:solidFill>
                  <a:srgbClr val="ff6600"/>
                </a:solidFill>
                <a:uFillTx/>
                <a:latin typeface="Arial"/>
              </a:rPr>
              <a:t>Selectie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8560" y="304704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95360" y="5562720"/>
            <a:ext cx="6521400" cy="6094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Inhou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7099200" y="5638680"/>
            <a:ext cx="1155960" cy="457200"/>
          </a:xfrm>
          <a:prstGeom prst="leftArrow">
            <a:avLst>
              <a:gd name="adj1" fmla="val 50000"/>
              <a:gd name="adj2" fmla="val 6320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lymeer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ymerisatie-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orten Polym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langrijkste eigensc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rsterkings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bricagetechni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ymeermatrixcompos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Tahoma"/>
              </a:rPr>
              <a:t>Composie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=  2 of meer materialen gecombineerd tot een nieuw materiaal met andere eigenschappen dan de afzonderlijke componen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uurlijke composieten : bv. h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nstmatige composieten : PMM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polymeer matrix m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peningsmateria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ulstoff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kla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d vb.: triplex, multiplex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anisotropie ! )  </a:t>
            </a:r>
            <a:r>
              <a:rPr b="0" lang="en-GB" sz="1800" spc="-1" strike="noStrike">
                <a:solidFill>
                  <a:srgbClr val="33cc33"/>
                </a:solidFill>
                <a:latin typeface="Tahoma"/>
              </a:rPr>
              <a:t>…/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oral : FRP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ibre reinforced plas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353240" y="68904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staansgeschiedenis  Polymeercomposi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200000">
            <a:off x="1733040" y="2057040"/>
            <a:ext cx="2146320" cy="37339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47680" y="2286000"/>
            <a:ext cx="9504360" cy="361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641680" y="2514600"/>
            <a:ext cx="990360" cy="380880"/>
          </a:xfrm>
          <a:prstGeom prst="roundRect">
            <a:avLst>
              <a:gd name="adj" fmla="val 16667"/>
            </a:avLst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3276720"/>
            <a:ext cx="1073160" cy="304560"/>
          </a:xfrm>
          <a:prstGeom prst="roundRect">
            <a:avLst>
              <a:gd name="adj" fmla="val 16667"/>
            </a:avLst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50960" y="5029200"/>
            <a:ext cx="1238400" cy="533520"/>
          </a:xfrm>
          <a:prstGeom prst="roundRect">
            <a:avLst>
              <a:gd name="adj" fmla="val 16667"/>
            </a:avLst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12120" y="2590920"/>
            <a:ext cx="1485720" cy="761760"/>
          </a:xfrm>
          <a:prstGeom prst="roundRect">
            <a:avLst>
              <a:gd name="adj" fmla="val 16667"/>
            </a:avLst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 </a:t>
            </a:r>
            <a:r>
              <a:rPr b="0" i="1" lang="en-GB" sz="4000" spc="-1" strike="noStrike">
                <a:solidFill>
                  <a:srgbClr val="000000"/>
                </a:solidFill>
                <a:latin typeface="Arial Black"/>
              </a:rPr>
              <a:t>Inleiding 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886040"/>
            <a:ext cx="8832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Wat / Naam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Voorbeeld : </a:t>
            </a:r>
            <a:r>
              <a:rPr b="0" i="1" lang="en-GB" sz="2800" spc="-1" strike="noStrike">
                <a:solidFill>
                  <a:srgbClr val="b2b2b2"/>
                </a:solidFill>
                <a:latin typeface="Arial"/>
              </a:rPr>
              <a:t>poly-ethyleen</a:t>
            </a: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  (poly-ethe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Vergelijking met andere 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gensc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éér veel variaties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uctuur ke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gging erv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evoegstoff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ook : snel afkoe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volg :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te waaier van eigenschapp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meest moderne materialen; nog enorme evolu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&gt; rol polymeerchemicus : ‘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pound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enger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lyme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bricant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1. Wapeningsschema’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pening: functie = sterkte, stijfheid, kruipvasthe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ntinue wapening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erkte / korte termij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orte vez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chilf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orr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inue wapening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ange termijn sterkte, krui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e vez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zelmat of weefs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Tahoma"/>
              </a:rPr>
              <a:t>…</a:t>
            </a:r>
            <a:r>
              <a:rPr b="0" lang="en-GB" sz="1800" spc="-1" strike="noStrike">
                <a:solidFill>
                  <a:srgbClr val="33cc33"/>
                </a:solidFill>
                <a:latin typeface="Tahoma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68720" y="689040"/>
            <a:ext cx="71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orten wapening in polymeercomposie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320840" y="1905120"/>
            <a:ext cx="3792600" cy="1415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530680" y="3429000"/>
            <a:ext cx="3719520" cy="1341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1650960" y="3581280"/>
            <a:ext cx="3657600" cy="1420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5448240" y="4800600"/>
            <a:ext cx="4173480" cy="1550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760840" y="5181120"/>
            <a:ext cx="2881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iscontinue wa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rte vez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rr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il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68400" y="2315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Laminaatwa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412920" y="4800600"/>
            <a:ext cx="2286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368720" y="689040"/>
            <a:ext cx="71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orten wapening in polymeercomposie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0920" y="5319000"/>
            <a:ext cx="271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Continue wa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zelmat / Weef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oningraat) sk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43040" y="2057400"/>
            <a:ext cx="4700520" cy="18302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540320" y="3429000"/>
            <a:ext cx="44575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368720" y="689040"/>
            <a:ext cx="71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orten wapening in polymeercomposie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200" y="559332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Continue wa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907920" y="1905120"/>
            <a:ext cx="4633920" cy="1508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5769000" cy="1496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475680" y="2147760"/>
            <a:ext cx="31539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weven wa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ving” / streng bevat vaak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. 6,000 filame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10120" y="5043600"/>
            <a:ext cx="2257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ament winding’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4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2. Matrixmaterial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ermoplas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em = hechting vezel - thermoplas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 eind ‘80s : (enkel) met korte glasvezels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enkele mm)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der sterk dan lange vez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inue wapening : laatste 10 jaar; opl. =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zel bekleed met dun laagje thermopl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repreg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” :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ooraf met gewenste matrix materiaal geïmpregneerd weefs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-&gt; + matrix thermoplast :  verhitting &amp; druk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autoklaa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ermohardende hars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en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pox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ye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1885680"/>
            <a:ext cx="91630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ermohardende har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trix = vloeistof van lage viscositeit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 katalysator toevoegen; of: warmte; of: (UV-)str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est gebruikt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enol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: aangekocht als B-hars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hermoplast) = groot voorde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poxy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poxy = driehoek met 2 C en 1 O 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óór cross-linking: korte ketenmoleculen (ca. 10 monomer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niek : geen condensatieprodukten of oplosmiddelen afgestote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&gt; weinig dimensionele veranderingen bij polymerisatie / cross-lin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. 25 soorten in hand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olyester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styreen-polyester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‘shelf-life’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1 j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+  katalys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= verreweg het belangrijkste PPM matrixmateria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91630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3. Wapeningsmaterial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ot spectrum van materiale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33cc33"/>
                </a:solidFill>
                <a:latin typeface="Tahoma"/>
              </a:rPr>
              <a:t>…/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al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weinig gebruikt (gewicht, hechting); Al honingraat !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(vliegtuige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Keramische material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SiC, Al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S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(ev. als dunne vezels); ev. hogere sterkte en stijfheid dan glasveze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m.: ‘whiskers’  (éénkristallen; +/- zonder roosterfouten; enorm ster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olymer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amidevezels (kevlar), treksterkte = 3100 MPa !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bruik: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ls continue vezel, geweven materiaal, korte vezel; zowel voor thermoharders als thermoplasten</a:t>
            </a:r>
            <a:br>
              <a:rPr sz="14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aaier &amp; lichter dan glasvezel : vb.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kano 6 m Kevlar + vinylester =  8 k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ternatief : nylons,</a:t>
            </a:r>
            <a:br>
              <a:rPr sz="16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polypropyleen vezels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: qua sterkt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glasvezel ;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onbruik, nu:</a:t>
            </a:r>
            <a:br>
              <a:rPr sz="14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og kristallijn polyethyl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98880" y="68904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trum van wapeningsmateri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95360" y="1600200"/>
            <a:ext cx="8543880" cy="4834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889360" y="4114800"/>
            <a:ext cx="1238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191120"/>
            <a:ext cx="907920" cy="38088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86080" y="2666880"/>
            <a:ext cx="825480" cy="38124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00560" y="3657600"/>
            <a:ext cx="1155960" cy="38088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21400" y="3657600"/>
            <a:ext cx="1155600" cy="38088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43600" y="2666880"/>
            <a:ext cx="990720" cy="68580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916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3. Wapeningsmaterial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ramische materia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ym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Koolstof-grafi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peningskoolsto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Symbol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oolstof als Vulstof (vb. rubber); C = amor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= kristallijne koolstof (hexagonaal), “grafiet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zels met treksterkte = 5500 MPa, en E-modulus = 480000 M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Tahoma"/>
              </a:rPr>
              <a:t>…</a:t>
            </a:r>
            <a:r>
              <a:rPr b="1" lang="en-GB" sz="1400" spc="-1" strike="noStrike">
                <a:solidFill>
                  <a:srgbClr val="33cc33"/>
                </a:solidFill>
                <a:latin typeface="Tahoma"/>
              </a:rPr>
              <a:t>/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lasvez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66480" y="68904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rgelijking sterkte en stijf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89360" y="4114800"/>
            <a:ext cx="1238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43040" y="1484280"/>
            <a:ext cx="6273720" cy="52387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568520" y="6248520"/>
            <a:ext cx="50353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568520" y="1752120"/>
            <a:ext cx="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92320" y="3289320"/>
            <a:ext cx="186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p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:diagonaal /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poxymatrix PM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 </a:t>
            </a:r>
            <a:r>
              <a:rPr b="0" i="1" lang="en-GB" sz="4000" spc="-1" strike="noStrike">
                <a:solidFill>
                  <a:srgbClr val="000000"/>
                </a:solidFill>
                <a:latin typeface="Arial Black"/>
              </a:rPr>
              <a:t>Inleiding  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lymer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: ook natuurlij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ok dierlijke eiwitten = polym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ok : dennen-hars, schellak, natuurrub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t = keten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ellulosemolecul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an elkaar gehouden door een ander natuurlijk polymeer, i.e.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ign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= polymeer met allerlei toevoegi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st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: cfr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stis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kneedba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eker niet altijd 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3. Wapeningsmaterial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ramische material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ym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olstof-grafi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lasvez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orten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-glas (= borosilicaatglas; “pyrex”) -- toep. =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elektris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-glas (= Mg, Al, Si - oxiden) -- 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oge sterk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 à 25 mic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rme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orte vezels (vnl. in thermoplast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rengen voor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wikkele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weefsel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(2D, 2.5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vezelma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: willekeurig vervlochte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cc33"/>
                </a:solidFill>
                <a:latin typeface="Tahoma"/>
              </a:rPr>
              <a:t>…/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187280" y="689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asvezelvo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9360" y="4114800"/>
            <a:ext cx="1238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87505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omposieten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1. Wapeningsschema’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2. Matrix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3. Wapeningsmateri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4. Fabricagemetho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ahoma"/>
              </a:rPr>
              <a:t>5. Toepassing van polymeermatrix-compos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Materiaalkunde voor Ingenieurs</a:t>
            </a:r>
            <a:br>
              <a:rPr sz="2000"/>
            </a:br>
            <a:r>
              <a:rPr b="0" i="1" lang="en-GB" sz="2000" spc="-1" strike="noStrike">
                <a:solidFill>
                  <a:srgbClr val="dddddd"/>
                </a:solidFill>
                <a:latin typeface="Arial"/>
              </a:rPr>
              <a:t>=  “Eind-GEBRUIK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7800" y="3124080"/>
            <a:ext cx="4348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Polymere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Composie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eramische Materia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alsoorten &amp; Roestvast st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o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ade-analyse &amp; -preventie / ND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17760" y="3124080"/>
            <a:ext cx="423684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ieten, PM, Vormgeven, Verspanen, 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, Zn, Ti, Mg, Refracta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p. behand. &amp; Coa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988200" y="1829880"/>
            <a:ext cx="7034040" cy="106740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“</a:t>
            </a:r>
            <a:r>
              <a:rPr b="1" i="1" lang="en-GB" sz="1600" spc="-1" strike="noStrike">
                <a:solidFill>
                  <a:srgbClr val="b2b2b2"/>
                </a:solidFill>
                <a:latin typeface="Arial"/>
              </a:rPr>
              <a:t>Engineering Materials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” </a:t>
            </a:r>
            <a:r>
              <a:rPr b="1" lang="en-GB" sz="1600" spc="-1" strike="noStrike">
                <a:solidFill>
                  <a:srgbClr val="b2b2b2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Metalen, </a:t>
            </a:r>
            <a:r>
              <a:rPr b="1" i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Niet-metal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Legeringen, Coatings</a:t>
            </a: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i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Eigenschapp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</a:t>
            </a:r>
            <a:r>
              <a:rPr b="1" i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Bereiding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en Processing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Beschrijving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</a:t>
            </a:r>
            <a:r>
              <a:rPr b="1" i="1" lang="en-GB" sz="1600" spc="-1" strike="noStrike" u="sng">
                <a:solidFill>
                  <a:srgbClr val="ffcc00"/>
                </a:solidFill>
                <a:uFillTx/>
                <a:latin typeface="Arial"/>
              </a:rPr>
              <a:t>Begrijpen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</a:t>
            </a:r>
            <a:r>
              <a:rPr b="1" i="1" lang="en-GB" sz="1600" spc="-1" strike="noStrike" u="sng">
                <a:solidFill>
                  <a:srgbClr val="ff6600"/>
                </a:solidFill>
                <a:uFillTx/>
                <a:latin typeface="Arial"/>
              </a:rPr>
              <a:t>Selectie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b2b2b2"/>
                </a:solidFill>
                <a:latin typeface="Arial"/>
              </a:rPr>
              <a:t>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8560" y="304704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8560" y="3428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olymeren :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nige geschieden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049040" y="1828800"/>
            <a:ext cx="383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llul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kel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 II : e.g. vinyl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leder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nyl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zijde)   //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25480" y="2590920"/>
            <a:ext cx="8915040" cy="3757320"/>
            <a:chOff x="825480" y="2590920"/>
            <a:chExt cx="8915040" cy="3757320"/>
          </a:xfrm>
        </p:grpSpPr>
        <p:grpSp>
          <p:nvGrpSpPr>
            <p:cNvPr id="114" name=""/>
            <p:cNvGrpSpPr/>
            <p:nvPr/>
          </p:nvGrpSpPr>
          <p:grpSpPr>
            <a:xfrm>
              <a:off x="825480" y="2590920"/>
              <a:ext cx="8254080" cy="3757320"/>
              <a:chOff x="825480" y="2590920"/>
              <a:chExt cx="8254080" cy="375732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825480" y="2590920"/>
              <a:ext cx="8254080" cy="3757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25480" y="2590920"/>
                        <a:ext cx="8254080" cy="37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1815840" y="3886200"/>
                <a:ext cx="329760" cy="304920"/>
              </a:xfrm>
              <a:prstGeom prst="line">
                <a:avLst/>
              </a:prstGeom>
              <a:ln cap="sq" w="5724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39960" y="4876920"/>
                <a:ext cx="123804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81280" y="4876920"/>
                <a:ext cx="90756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69720" y="4038480"/>
                <a:ext cx="577800" cy="230400"/>
              </a:xfrm>
              <a:prstGeom prst="ellipse">
                <a:avLst/>
              </a:prstGeom>
              <a:noFill/>
              <a:ln cap="sq"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09480" y="5105520"/>
                <a:ext cx="660240" cy="228600"/>
              </a:xfrm>
              <a:prstGeom prst="ellipse">
                <a:avLst/>
              </a:prstGeom>
              <a:noFill/>
              <a:ln cap="sq"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84000" y="4191120"/>
                <a:ext cx="990360" cy="304560"/>
              </a:xfrm>
              <a:prstGeom prst="rect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8502480" y="5157360"/>
              <a:ext cx="1238040" cy="505440"/>
            </a:xfrm>
            <a:prstGeom prst="borderCallout2">
              <a:avLst>
                <a:gd name="adj1" fmla="val 18750"/>
                <a:gd name="adj2" fmla="val -8333"/>
                <a:gd name="adj3" fmla="val 22361"/>
                <a:gd name="adj4" fmla="val -37222"/>
                <a:gd name="adj5" fmla="val -60212"/>
                <a:gd name="adj6" fmla="val -69009"/>
              </a:avLst>
            </a:prstGeom>
            <a:solidFill>
              <a:srgbClr val="ffff99">
                <a:alpha val="50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80s : ook o.m. polymeer-’blends’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90s : IPN’s !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23:48:12Z</dcterms:created>
  <dc:creator>Walter Bogaerts</dc:creator>
  <dc:description/>
  <dc:language>en-US</dc:language>
  <cp:lastModifiedBy>So good</cp:lastModifiedBy>
  <dcterms:modified xsi:type="dcterms:W3CDTF">2002-10-07T15:44:00Z</dcterms:modified>
  <cp:revision>143</cp:revision>
  <dc:subject/>
  <dc:title>Polymeren : enige geschiedenis</dc:title>
</cp:coreProperties>
</file>