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740-9254-492A-ADF4-8D0FED9B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612-B673-4B48-B7C8-C2B58E10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3A0-9F30-43AA-AA6A-B2361C02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21E-7EFF-400B-9B11-2C0A5E2F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4986-1D62-4C02-B8C9-7A7A0519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E447-7BC4-41FB-9F70-7E82A3A4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F23A-8A8E-4576-898A-05FBB64E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DAA3-41A0-411C-B325-D6A38A1F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918E-5C1D-4AEE-B9DC-9843B6F2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1EE1-28F2-46AB-B9DD-AEF405B8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AD4C-4F6D-4568-B24E-AD634163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31D-53D6-479E-BC21-B22DD4E9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1577-9C85-4DE6-8A6F-EE55DE39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F6BF-3CC1-4889-9AC2-C4248579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9DA4-1E9C-4F97-82EF-BBBAA079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D96F-ACAE-4A37-BFEF-0A14CC93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9631-3EF7-46A8-AD53-F48D5445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900-65DD-4B9A-969C-D4E679B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76A-B245-4A9D-9E2E-0A1343F2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C5E-C13A-407A-A364-E9E30155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BAB-5B08-4912-8796-C4FD205B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D08-9002-4FEB-A169-50198392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DC4-B6E7-45FA-AF65-0AF62E4B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DAC-EC3F-4A28-88B0-C162313A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F073-76A9-4C1F-94D0-333E0AD9EF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222B-B2AE-45C0-8396-BA8570A8825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eec94"/>
                </a:solidFill>
                <a:latin typeface="Times New Roman"/>
              </a:rPr>
              <a:t>Biologie voor Jou.</a:t>
            </a:r>
            <a:br>
              <a:rPr sz="5400"/>
            </a:br>
            <a:r>
              <a:rPr b="1" lang="nl-NL" sz="5400" spc="-1" strike="noStrike">
                <a:solidFill>
                  <a:srgbClr val="feec94"/>
                </a:solidFill>
                <a:latin typeface="Times New Roman"/>
              </a:rPr>
              <a:t>VMBO-BK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hema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lant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Afbeelding 3" descr="planten.jpg"/>
          <p:cNvPicPr/>
          <p:nvPr/>
        </p:nvPicPr>
        <p:blipFill>
          <a:blip r:embed="rId1"/>
          <a:stretch/>
        </p:blipFill>
        <p:spPr>
          <a:xfrm>
            <a:off x="6659640" y="3068640"/>
            <a:ext cx="1800000" cy="1925640"/>
          </a:xfrm>
          <a:prstGeom prst="rect">
            <a:avLst/>
          </a:prstGeom>
          <a:ln w="0">
            <a:noFill/>
          </a:ln>
        </p:spPr>
      </p:pic>
      <p:pic>
        <p:nvPicPr>
          <p:cNvPr id="123" name="Afbeelding 4" descr="planten1.jpg"/>
          <p:cNvPicPr/>
          <p:nvPr/>
        </p:nvPicPr>
        <p:blipFill>
          <a:blip r:embed="rId2"/>
          <a:stretch/>
        </p:blipFill>
        <p:spPr>
          <a:xfrm>
            <a:off x="684360" y="3068640"/>
            <a:ext cx="17809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e bladschijf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 bladschijf bestaat uit meerdere onderdel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ladm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ofdner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ijnerv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Afbeelding 3" descr="blad.jpg"/>
          <p:cNvPicPr/>
          <p:nvPr/>
        </p:nvPicPr>
        <p:blipFill>
          <a:blip r:embed="rId1"/>
          <a:stretch/>
        </p:blipFill>
        <p:spPr>
          <a:xfrm rot="597000">
            <a:off x="3992040" y="291096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e functies van de nerve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erven zijn vaatbund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it zijn kleine buisjes in het bl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ze buisjes brengen voedsel naar de stengel en de wort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anuit de wortels wordt water met bouwstoffen aangevoe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 nerven dienen dus voor het vervoer van stoff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ok zorgen de nerven voor de stevigheid van een blad. Je kunt dus zeggen dat ze een soort botten zij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Afbeelding 3" descr="nerven.jpg"/>
          <p:cNvPicPr/>
          <p:nvPr/>
        </p:nvPicPr>
        <p:blipFill>
          <a:blip r:embed="rId1"/>
          <a:stretch/>
        </p:blipFill>
        <p:spPr>
          <a:xfrm>
            <a:off x="6443640" y="1197000"/>
            <a:ext cx="1771560" cy="1324080"/>
          </a:xfrm>
          <a:prstGeom prst="rect">
            <a:avLst/>
          </a:prstGeom>
          <a:ln w="0">
            <a:noFill/>
          </a:ln>
        </p:spPr>
      </p:pic>
      <p:pic>
        <p:nvPicPr>
          <p:cNvPr id="160" name="Afbeelding 4" descr="rietje.png"/>
          <p:cNvPicPr/>
          <p:nvPr/>
        </p:nvPicPr>
        <p:blipFill>
          <a:blip r:embed="rId2"/>
          <a:stretch/>
        </p:blipFill>
        <p:spPr>
          <a:xfrm>
            <a:off x="3635280" y="5229360"/>
            <a:ext cx="19447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s 5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De functie van bladere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 plant is het enige levend wezen dat zijn eigen voedsel kan mak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it voedsel wordt meestal gemaakt in de blader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 plant heeft hiervoor nodi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ater (via de wortel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oolstofdioxide (is een gas in de lucht, dat via de bladeren wordt opgenome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(zon)lic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Afbeelding 3" descr="voedsel mes vork.jpg"/>
          <p:cNvPicPr/>
          <p:nvPr/>
        </p:nvPicPr>
        <p:blipFill>
          <a:blip r:embed="rId1"/>
          <a:stretch/>
        </p:blipFill>
        <p:spPr>
          <a:xfrm>
            <a:off x="6227640" y="3068640"/>
            <a:ext cx="2448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e functie van bladeren (2)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halve dat de bladeren voedsel maken geven ze ook zuurstof  a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oor een plant is dat voornamelijk afval voor ons is het van levensbelang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Afbeelding 3" descr="duikers zuurstof.jpg"/>
          <p:cNvPicPr/>
          <p:nvPr/>
        </p:nvPicPr>
        <p:blipFill>
          <a:blip r:embed="rId1"/>
          <a:stretch/>
        </p:blipFill>
        <p:spPr>
          <a:xfrm>
            <a:off x="3059280" y="3860640"/>
            <a:ext cx="25923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Wat doet een plant voor de dieren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 plant maakt dus voedsel (een moeilijk woord hiervoor is glucose). Dit voedsel wordt afgepakt door de dier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halve dat de dieren het voedsel van een plant afpakken hebben ze ook zuurstof nodi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it wordt ook gemaakt door een pla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Zonder planten zouden er dus geen dieren kunnen bestaa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Afbeelding 3" descr="dief.jpg"/>
          <p:cNvPicPr/>
          <p:nvPr/>
        </p:nvPicPr>
        <p:blipFill>
          <a:blip r:embed="rId1"/>
          <a:stretch/>
        </p:blipFill>
        <p:spPr>
          <a:xfrm>
            <a:off x="7451640" y="5138640"/>
            <a:ext cx="1441440" cy="1719360"/>
          </a:xfrm>
          <a:prstGeom prst="rect">
            <a:avLst/>
          </a:prstGeom>
          <a:ln w="0">
            <a:noFill/>
          </a:ln>
        </p:spPr>
      </p:pic>
      <p:pic>
        <p:nvPicPr>
          <p:cNvPr id="170" name="Afbeelding 4" descr="grafsteen.jpg"/>
          <p:cNvPicPr/>
          <p:nvPr/>
        </p:nvPicPr>
        <p:blipFill>
          <a:blip r:embed="rId2"/>
          <a:stretch/>
        </p:blipFill>
        <p:spPr>
          <a:xfrm>
            <a:off x="4140360" y="508464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Extra Bs 6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Proeven doe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oor het doen van proeven probeer je iets te ler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Je kunt niet zomaar met een proef beginn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et is belangrijk om na te denken waarom je een proef wilt do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oordat je aan een proef begint probeer je al het antwoord te bedenk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Afbeelding 3" descr="denken.png"/>
          <p:cNvPicPr/>
          <p:nvPr/>
        </p:nvPicPr>
        <p:blipFill>
          <a:blip r:embed="rId1"/>
          <a:stretch/>
        </p:blipFill>
        <p:spPr>
          <a:xfrm>
            <a:off x="5508720" y="5013360"/>
            <a:ext cx="1552320" cy="1514520"/>
          </a:xfrm>
          <a:prstGeom prst="rect">
            <a:avLst/>
          </a:prstGeom>
          <a:ln w="0">
            <a:noFill/>
          </a:ln>
        </p:spPr>
      </p:pic>
      <p:pic>
        <p:nvPicPr>
          <p:cNvPr id="174" name="Afbeelding 4" descr="experiment.jpg"/>
          <p:cNvPicPr/>
          <p:nvPr/>
        </p:nvPicPr>
        <p:blipFill>
          <a:blip r:embed="rId2"/>
          <a:stretch/>
        </p:blipFill>
        <p:spPr>
          <a:xfrm>
            <a:off x="6875640" y="189000"/>
            <a:ext cx="208908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Proeven doen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t wil ik onderzoe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t is het antwoord volgens mij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t ga ik do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t heb ik nodi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t neem ik wa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lke conclusie kan ik trekken. (wat heb ik geleerd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Afbeelding 3" descr="idee lamp.jpg"/>
          <p:cNvPicPr/>
          <p:nvPr/>
        </p:nvPicPr>
        <p:blipFill>
          <a:blip r:embed="rId1"/>
          <a:stretch/>
        </p:blipFill>
        <p:spPr>
          <a:xfrm>
            <a:off x="6732720" y="1773360"/>
            <a:ext cx="2066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Extra Bs 7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Eetbare wortels, stengels en bladere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plant kan zijn reservevoedsel op verschillende plaatsen bewar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de wort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de steng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de blader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ij eten delen van planten o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wortels: waspeen, radijs, rode bieten, en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stengels: asperges, selderij, en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bladeren: witlof, spinazie, kool, en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bloemen: o.a bloemko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Afbeelding 3" descr="salade.png"/>
          <p:cNvPicPr/>
          <p:nvPr/>
        </p:nvPicPr>
        <p:blipFill>
          <a:blip r:embed="rId1"/>
          <a:stretch/>
        </p:blipFill>
        <p:spPr>
          <a:xfrm>
            <a:off x="6084720" y="278136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Plante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 plant is altijd groen, dit komt door bladgroenkorr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cellige plantjes heten ook wel alg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el planten hebben: een wortel, stengel, bladeren en bloemen. Zij maken zad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Sommige planten hebben nooit bloem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Afbeelding 3" descr="algen.jpg"/>
          <p:cNvPicPr/>
          <p:nvPr/>
        </p:nvPicPr>
        <p:blipFill>
          <a:blip r:embed="rId1"/>
          <a:stretch/>
        </p:blipFill>
        <p:spPr>
          <a:xfrm rot="435600">
            <a:off x="7524720" y="2276640"/>
            <a:ext cx="1428840" cy="113328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4" descr="gras.jpg"/>
          <p:cNvPicPr/>
          <p:nvPr/>
        </p:nvPicPr>
        <p:blipFill>
          <a:blip r:embed="rId2"/>
          <a:stretch/>
        </p:blipFill>
        <p:spPr>
          <a:xfrm rot="21150000">
            <a:off x="7524720" y="1052280"/>
            <a:ext cx="1368360" cy="1008000"/>
          </a:xfrm>
          <a:prstGeom prst="rect">
            <a:avLst/>
          </a:prstGeom>
          <a:ln w="0">
            <a:noFill/>
          </a:ln>
        </p:spPr>
      </p:pic>
      <p:pic>
        <p:nvPicPr>
          <p:cNvPr id="128" name="Afbeelding 5" descr="zaadplant2.jpg"/>
          <p:cNvPicPr/>
          <p:nvPr/>
        </p:nvPicPr>
        <p:blipFill>
          <a:blip r:embed="rId3"/>
          <a:stretch/>
        </p:blipFill>
        <p:spPr>
          <a:xfrm rot="340800">
            <a:off x="8088480" y="3682800"/>
            <a:ext cx="838080" cy="1238040"/>
          </a:xfrm>
          <a:prstGeom prst="rect">
            <a:avLst/>
          </a:prstGeom>
          <a:ln w="0">
            <a:noFill/>
          </a:ln>
        </p:spPr>
      </p:pic>
      <p:pic>
        <p:nvPicPr>
          <p:cNvPr id="129" name="Afbeelding 6" descr="varen plant.jpg"/>
          <p:cNvPicPr/>
          <p:nvPr/>
        </p:nvPicPr>
        <p:blipFill>
          <a:blip r:embed="rId4"/>
          <a:stretch/>
        </p:blipFill>
        <p:spPr>
          <a:xfrm rot="459600">
            <a:off x="6804000" y="508464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s 1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De levenscyclus van een plant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a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iemplant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lantje met blade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lantje met bloe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lant maakt za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iemen = groei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et kiemplantje gebruikt het reservevoedsel om boven de grond te komen. Daarna kan het kiemplantje door zijn bladeren zijn eigen voedsel ma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Afbeelding 3" descr="levenscyclus bruine boon.jpg"/>
          <p:cNvPicPr/>
          <p:nvPr/>
        </p:nvPicPr>
        <p:blipFill>
          <a:blip r:embed="rId1"/>
          <a:stretch/>
        </p:blipFill>
        <p:spPr>
          <a:xfrm>
            <a:off x="4716360" y="1413000"/>
            <a:ext cx="332748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s 2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Wortel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 wortels van een plant hebben drie func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astzetten in de gro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ater en voedingsstoffen/bouwstoffen opne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eservevoedsel opsla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Afbeelding 3" descr="wortel.jpg"/>
          <p:cNvPicPr/>
          <p:nvPr/>
        </p:nvPicPr>
        <p:blipFill>
          <a:blip r:embed="rId1"/>
          <a:stretch/>
        </p:blipFill>
        <p:spPr>
          <a:xfrm rot="20493600">
            <a:off x="5219640" y="3499920"/>
            <a:ext cx="12240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Afbeelding 4" descr="wortelharen.png"/>
          <p:cNvPicPr/>
          <p:nvPr/>
        </p:nvPicPr>
        <p:blipFill>
          <a:blip r:embed="rId1"/>
          <a:stretch/>
        </p:blipFill>
        <p:spPr>
          <a:xfrm rot="2348400">
            <a:off x="6111360" y="2008080"/>
            <a:ext cx="1095480" cy="1619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e bouw van wortel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et wortelstelsel bestaat uit drie onderdel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ofdwort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ijwort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ortelha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 wortelharen zijn hele kleine worteltjes aan het uiteinde van de grote wortels. Zij dienen vooral voor het opnemen van water en voedingsstoffen/bouwstoff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Afbeelding 3" descr="water.jpg"/>
          <p:cNvPicPr/>
          <p:nvPr/>
        </p:nvPicPr>
        <p:blipFill>
          <a:blip r:embed="rId2"/>
          <a:stretch/>
        </p:blipFill>
        <p:spPr>
          <a:xfrm rot="834000">
            <a:off x="6084360" y="5229360"/>
            <a:ext cx="13050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s 3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Stengel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 stam is ook een soort steng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 de stengels zitten de blade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stengel is opgebouwd u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noo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 de plek waar de bladeren aan de stengel vastzit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eden/lid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 de gedeeltes tussen twee knop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Je hebt twee soorten knoppen aan een stenge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kselkno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 zit bij een knoo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indkno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 zit aan het eind van een steng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Afbeelding 3" descr="stengel.jpg"/>
          <p:cNvPicPr/>
          <p:nvPr/>
        </p:nvPicPr>
        <p:blipFill>
          <a:blip r:embed="rId1"/>
          <a:stretch/>
        </p:blipFill>
        <p:spPr>
          <a:xfrm>
            <a:off x="6732720" y="549360"/>
            <a:ext cx="93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Afbeelding 4" descr="kruid engelwortel.jpg"/>
          <p:cNvPicPr/>
          <p:nvPr/>
        </p:nvPicPr>
        <p:blipFill>
          <a:blip r:embed="rId1"/>
          <a:stretch/>
        </p:blipFill>
        <p:spPr>
          <a:xfrm rot="20559600">
            <a:off x="7235640" y="4365720"/>
            <a:ext cx="1596960" cy="2006640"/>
          </a:xfrm>
          <a:prstGeom prst="rect">
            <a:avLst/>
          </a:prstGeom>
          <a:ln w="0">
            <a:noFill/>
          </a:ln>
        </p:spPr>
      </p:pic>
      <p:pic>
        <p:nvPicPr>
          <p:cNvPr id="144" name="Afbeelding 3" descr="boom hout.jpg"/>
          <p:cNvPicPr/>
          <p:nvPr/>
        </p:nvPicPr>
        <p:blipFill>
          <a:blip r:embed="rId2"/>
          <a:stretch/>
        </p:blipFill>
        <p:spPr>
          <a:xfrm rot="607800">
            <a:off x="7210080" y="2189160"/>
            <a:ext cx="1581120" cy="1486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Houtachtig of kruidachtig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ij een houtachtige plant heb je te maken met sterke stengels/een st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deze stengels zit de stof hout, dit zorgt voor stevighe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utachtige planten worden meestal gr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ij een kruidachtige plant heb je vaak slappe stengels. Er zit weinig of geen hout 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ruidachtige stengels bevatten veel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ruidachtige planten worden meestal niet erg gr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e functies van de stengel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stengel heeft twee func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ragen van de bladeren en bloem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voeren van water en voedingsstoffen/bouwstoff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de stengel zitten hele kleine buisjes (=vate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ze buisjes bij elkaar noemen wij vaatbund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 buisjes beginnen in de wortels en eindigen in de blade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an boven naar beneden vervoeren de buisjes voeds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an beneden naar boven vervoeren de buisjes bouwstoffen en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Afbeelding 3" descr="houtvaten en bastvaten.jpg"/>
          <p:cNvPicPr/>
          <p:nvPr/>
        </p:nvPicPr>
        <p:blipFill>
          <a:blip r:embed="rId1"/>
          <a:stretch/>
        </p:blipFill>
        <p:spPr>
          <a:xfrm>
            <a:off x="7236000" y="1268280"/>
            <a:ext cx="129672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s 4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ladere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 bouw van blader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ladsteel, zit aan de stengel va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ladschijf, het platte de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Afbeelding 3" descr="bladeren.jpg"/>
          <p:cNvPicPr/>
          <p:nvPr/>
        </p:nvPicPr>
        <p:blipFill>
          <a:blip r:embed="rId1"/>
          <a:stretch/>
        </p:blipFill>
        <p:spPr>
          <a:xfrm rot="630000">
            <a:off x="3484080" y="3886200"/>
            <a:ext cx="2016360" cy="1684440"/>
          </a:xfrm>
          <a:prstGeom prst="rect">
            <a:avLst/>
          </a:prstGeom>
          <a:ln w="0">
            <a:noFill/>
          </a:ln>
        </p:spPr>
      </p:pic>
      <p:pic>
        <p:nvPicPr>
          <p:cNvPr id="153" name="Afbeelding 5" descr="blad1.jpg"/>
          <p:cNvPicPr/>
          <p:nvPr/>
        </p:nvPicPr>
        <p:blipFill>
          <a:blip r:embed="rId2"/>
          <a:stretch/>
        </p:blipFill>
        <p:spPr>
          <a:xfrm>
            <a:off x="6443640" y="692280"/>
            <a:ext cx="201600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1:13:06Z</dcterms:created>
  <dc:creator>Leerling</dc:creator>
  <dc:description/>
  <dc:language>en-US</dc:language>
  <cp:lastModifiedBy>Pieter</cp:lastModifiedBy>
  <dcterms:modified xsi:type="dcterms:W3CDTF">2012-01-22T10:41:46Z</dcterms:modified>
  <cp:revision>26</cp:revision>
  <dc:subject/>
  <dc:title>Biologie voor Jou. VMBO-BK.</dc:title>
</cp:coreProperties>
</file>