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B756-C582-4370-926E-77C339EB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3E50-0FFB-43D0-BAE0-BB7D815C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0AE-88A5-4D5A-A80E-DCAD6F90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6F6-E77C-48D7-9406-CBB769E7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3A91-F833-4ED3-800B-8317527B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BCB5-8371-4F1F-8873-9D2D87EC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A3DC-6E45-4EDB-8FD6-4BCC7DE3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CC9B-1B9F-4810-BE16-6F674451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B24C-9C18-4D8B-B2BE-2FF4BEFF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7B1A-E743-4450-A8B5-14BE8363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5AD7-3DD5-4113-A7E8-F43507EB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2FB-4D4F-4A52-B02B-B4519B23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D51A-B305-4F62-A588-285218AE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4130-EA39-43E2-9A8C-1D3011A3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C8E4-FED0-4730-871F-F29C3D5A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D035-ADD1-4940-8A21-6A88A16E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6432-FE8B-4EBA-9A2F-A692532B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6986-1FC2-4269-9EEF-D0ADB8EA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8C00-FC2D-4CA6-A2E3-97BB2E1B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FD64-E525-4658-963E-AEDB5207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2F8B-CCA1-4433-9071-61319D4D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435B-5E18-4F6B-B175-A23A98E9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5F54-9CF9-4827-9AC1-8686F3F9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497-8FC3-44C1-AB5A-EC3C9039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52D5-5382-4923-952E-3BF1BB0D1A1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CB14-9DA2-4DC3-AC20-2F07B429700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eec94"/>
                </a:solidFill>
                <a:latin typeface="Times New Roman"/>
              </a:rPr>
              <a:t>Biologie voor Jou.</a:t>
            </a:r>
            <a:br>
              <a:rPr sz="5400"/>
            </a:br>
            <a:r>
              <a:rPr b="1" lang="nl-NL" sz="5400" spc="-1" strike="noStrike">
                <a:solidFill>
                  <a:srgbClr val="feec94"/>
                </a:solidFill>
                <a:latin typeface="Times New Roman"/>
              </a:rPr>
              <a:t>VMBO-BK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hema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lant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Afbeelding 3" descr="planten.jpg"/>
          <p:cNvPicPr/>
          <p:nvPr/>
        </p:nvPicPr>
        <p:blipFill>
          <a:blip r:embed="rId1"/>
          <a:stretch/>
        </p:blipFill>
        <p:spPr>
          <a:xfrm>
            <a:off x="6659640" y="3068640"/>
            <a:ext cx="1800000" cy="1925640"/>
          </a:xfrm>
          <a:prstGeom prst="rect">
            <a:avLst/>
          </a:prstGeom>
          <a:ln w="0">
            <a:noFill/>
          </a:ln>
        </p:spPr>
      </p:pic>
      <p:pic>
        <p:nvPicPr>
          <p:cNvPr id="123" name="Afbeelding 4" descr="planten1.jpg"/>
          <p:cNvPicPr/>
          <p:nvPr/>
        </p:nvPicPr>
        <p:blipFill>
          <a:blip r:embed="rId2"/>
          <a:stretch/>
        </p:blipFill>
        <p:spPr>
          <a:xfrm>
            <a:off x="684360" y="3068640"/>
            <a:ext cx="178092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De bladschijf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 bladschijf bestaat uit meerdere onderdel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ladmo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oofdner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Zijnerv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Afbeelding 3" descr="blad.jpg"/>
          <p:cNvPicPr/>
          <p:nvPr/>
        </p:nvPicPr>
        <p:blipFill>
          <a:blip r:embed="rId1"/>
          <a:stretch/>
        </p:blipFill>
        <p:spPr>
          <a:xfrm rot="597000">
            <a:off x="3992040" y="291096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De functies van de nerven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erven zijn vaatbunde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it zijn kleine buisjes in het bl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eze buisjes brengen voedsel naar de stengel en de worte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anuit de wortels wordt water met bouwstoffen aangevoe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e nerven dienen dus voor het vervoer van stoff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ok zorgen de nerven voor de stevigheid van een blad. Je kunt dus zeggen dat ze een soort botten zij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Afbeelding 3" descr="nerven.jpg"/>
          <p:cNvPicPr/>
          <p:nvPr/>
        </p:nvPicPr>
        <p:blipFill>
          <a:blip r:embed="rId1"/>
          <a:stretch/>
        </p:blipFill>
        <p:spPr>
          <a:xfrm>
            <a:off x="6443640" y="1197000"/>
            <a:ext cx="1771560" cy="1324080"/>
          </a:xfrm>
          <a:prstGeom prst="rect">
            <a:avLst/>
          </a:prstGeom>
          <a:ln w="0">
            <a:noFill/>
          </a:ln>
        </p:spPr>
      </p:pic>
      <p:pic>
        <p:nvPicPr>
          <p:cNvPr id="160" name="Afbeelding 4" descr="rietje.png"/>
          <p:cNvPicPr/>
          <p:nvPr/>
        </p:nvPicPr>
        <p:blipFill>
          <a:blip r:embed="rId2"/>
          <a:stretch/>
        </p:blipFill>
        <p:spPr>
          <a:xfrm>
            <a:off x="3635280" y="5229360"/>
            <a:ext cx="194472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Bs 5:</a:t>
            </a:r>
            <a:br>
              <a:rPr sz="4000"/>
            </a:b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De functie van bladeren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en plant is het enige levend wezen dat zijn eigen voedsel kan mak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it voedsel wordt meestal gemaakt in de blader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en plant heeft hiervoor nodi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Water (via de wortel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Koolstofdioxide (is een gas in de lucht, dat via de bladeren wordt opgenomen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(zon)lic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Afbeelding 3" descr="voedsel mes vork.jpg"/>
          <p:cNvPicPr/>
          <p:nvPr/>
        </p:nvPicPr>
        <p:blipFill>
          <a:blip r:embed="rId1"/>
          <a:stretch/>
        </p:blipFill>
        <p:spPr>
          <a:xfrm>
            <a:off x="6227640" y="3068640"/>
            <a:ext cx="2448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De functie van bladeren (2)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halve dat de bladeren voedsel maken geven ze ook zuurstof  a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oor een plant is dat voornamelijk afval voor ons is het van levensbelang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Afbeelding 3" descr="duikers zuurstof.jpg"/>
          <p:cNvPicPr/>
          <p:nvPr/>
        </p:nvPicPr>
        <p:blipFill>
          <a:blip r:embed="rId1"/>
          <a:stretch/>
        </p:blipFill>
        <p:spPr>
          <a:xfrm>
            <a:off x="3059280" y="3860640"/>
            <a:ext cx="25923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Wat doet een plant voor de dieren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en plant maakt dus voedsel (een moeilijk woord hiervoor is glucose). Dit voedsel wordt afgepakt door de dier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halve dat de dieren het voedsel van een plant afpakken hebben ze ook zuurstof nodi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it wordt ook gemaakt door een plan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Zonder planten zouden er dus geen dieren kunnen bestaa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Afbeelding 3" descr="dief.jpg"/>
          <p:cNvPicPr/>
          <p:nvPr/>
        </p:nvPicPr>
        <p:blipFill>
          <a:blip r:embed="rId1"/>
          <a:stretch/>
        </p:blipFill>
        <p:spPr>
          <a:xfrm>
            <a:off x="7451640" y="5138640"/>
            <a:ext cx="1441440" cy="1719360"/>
          </a:xfrm>
          <a:prstGeom prst="rect">
            <a:avLst/>
          </a:prstGeom>
          <a:ln w="0">
            <a:noFill/>
          </a:ln>
        </p:spPr>
      </p:pic>
      <p:pic>
        <p:nvPicPr>
          <p:cNvPr id="170" name="Afbeelding 4" descr="grafsteen.jpg"/>
          <p:cNvPicPr/>
          <p:nvPr/>
        </p:nvPicPr>
        <p:blipFill>
          <a:blip r:embed="rId2"/>
          <a:stretch/>
        </p:blipFill>
        <p:spPr>
          <a:xfrm>
            <a:off x="4140360" y="5084640"/>
            <a:ext cx="1800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Extra Bs 6:</a:t>
            </a:r>
            <a:br>
              <a:rPr sz="4000"/>
            </a:b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Proeven doen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oor het doen van proeven probeer je iets te ler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Je kunt niet zomaar met een proef beginne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et is belangrijk om na te denken waarom je een proef wilt do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oordat je aan een proef begint probeer je al het antwoord te bedenk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Afbeelding 3" descr="denken.png"/>
          <p:cNvPicPr/>
          <p:nvPr/>
        </p:nvPicPr>
        <p:blipFill>
          <a:blip r:embed="rId1"/>
          <a:stretch/>
        </p:blipFill>
        <p:spPr>
          <a:xfrm>
            <a:off x="5508720" y="5013360"/>
            <a:ext cx="1552320" cy="1514520"/>
          </a:xfrm>
          <a:prstGeom prst="rect">
            <a:avLst/>
          </a:prstGeom>
          <a:ln w="0">
            <a:noFill/>
          </a:ln>
        </p:spPr>
      </p:pic>
      <p:pic>
        <p:nvPicPr>
          <p:cNvPr id="174" name="Afbeelding 4" descr="experiment.jpg"/>
          <p:cNvPicPr/>
          <p:nvPr/>
        </p:nvPicPr>
        <p:blipFill>
          <a:blip r:embed="rId2"/>
          <a:stretch/>
        </p:blipFill>
        <p:spPr>
          <a:xfrm>
            <a:off x="6875640" y="189000"/>
            <a:ext cx="208908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Proeven doen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t wil ik onderzoe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t is het antwoord volgens mij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t ga ik do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t heb ik nodi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t neem ik wa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lke conclusie kan ik trekken. (wat heb ik geleerd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Afbeelding 3" descr="idee lamp.jpg"/>
          <p:cNvPicPr/>
          <p:nvPr/>
        </p:nvPicPr>
        <p:blipFill>
          <a:blip r:embed="rId1"/>
          <a:stretch/>
        </p:blipFill>
        <p:spPr>
          <a:xfrm>
            <a:off x="6732720" y="1773360"/>
            <a:ext cx="2066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Extra Bs 7:</a:t>
            </a:r>
            <a:br>
              <a:rPr sz="4000"/>
            </a:b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Eetbare wortels, stengels en bladeren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Een plant kan zijn reservevoedsel op verschillende plaatsen bewar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 de wort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 de stenge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 de blader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Wij eten delen van planten o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wortels: waspeen, radijs, rode bieten, en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stengels: asperges, selderij, en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bladeren: witlof, spinazie, kool, en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bloemen: o.a bloemko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Afbeelding 3" descr="salade.png"/>
          <p:cNvPicPr/>
          <p:nvPr/>
        </p:nvPicPr>
        <p:blipFill>
          <a:blip r:embed="rId1"/>
          <a:stretch/>
        </p:blipFill>
        <p:spPr>
          <a:xfrm>
            <a:off x="6084720" y="2781360"/>
            <a:ext cx="2619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Planten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en plant is altijd groen, dit komt door bladgroenkorre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encellige plantjes heten ook wel alg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el planten hebben: een wortel, stengel, bladeren en bloemen. Zij maken zad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Sommige planten hebben nooit bloem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Afbeelding 3" descr="algen.jpg"/>
          <p:cNvPicPr/>
          <p:nvPr/>
        </p:nvPicPr>
        <p:blipFill>
          <a:blip r:embed="rId1"/>
          <a:stretch/>
        </p:blipFill>
        <p:spPr>
          <a:xfrm rot="435600">
            <a:off x="7524720" y="2276640"/>
            <a:ext cx="1428840" cy="1133280"/>
          </a:xfrm>
          <a:prstGeom prst="rect">
            <a:avLst/>
          </a:prstGeom>
          <a:ln w="0">
            <a:noFill/>
          </a:ln>
        </p:spPr>
      </p:pic>
      <p:pic>
        <p:nvPicPr>
          <p:cNvPr id="127" name="Afbeelding 4" descr="gras.jpg"/>
          <p:cNvPicPr/>
          <p:nvPr/>
        </p:nvPicPr>
        <p:blipFill>
          <a:blip r:embed="rId2"/>
          <a:stretch/>
        </p:blipFill>
        <p:spPr>
          <a:xfrm rot="21150000">
            <a:off x="7524720" y="1052280"/>
            <a:ext cx="1368360" cy="1008000"/>
          </a:xfrm>
          <a:prstGeom prst="rect">
            <a:avLst/>
          </a:prstGeom>
          <a:ln w="0">
            <a:noFill/>
          </a:ln>
        </p:spPr>
      </p:pic>
      <p:pic>
        <p:nvPicPr>
          <p:cNvPr id="128" name="Afbeelding 5" descr="zaadplant2.jpg"/>
          <p:cNvPicPr/>
          <p:nvPr/>
        </p:nvPicPr>
        <p:blipFill>
          <a:blip r:embed="rId3"/>
          <a:stretch/>
        </p:blipFill>
        <p:spPr>
          <a:xfrm rot="340800">
            <a:off x="8088480" y="3682800"/>
            <a:ext cx="838080" cy="1238040"/>
          </a:xfrm>
          <a:prstGeom prst="rect">
            <a:avLst/>
          </a:prstGeom>
          <a:ln w="0">
            <a:noFill/>
          </a:ln>
        </p:spPr>
      </p:pic>
      <p:pic>
        <p:nvPicPr>
          <p:cNvPr id="129" name="Afbeelding 6" descr="varen plant.jpg"/>
          <p:cNvPicPr/>
          <p:nvPr/>
        </p:nvPicPr>
        <p:blipFill>
          <a:blip r:embed="rId4"/>
          <a:stretch/>
        </p:blipFill>
        <p:spPr>
          <a:xfrm rot="459600">
            <a:off x="6804000" y="508464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Bs 1:</a:t>
            </a:r>
            <a:br>
              <a:rPr sz="4000"/>
            </a:b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De levenscyclus van een plant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Za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Kiemplant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Plantje met blader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Plantje met bloe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Plant maakt za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Kiemen = groei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et kiemplantje gebruikt het reservevoedsel om boven de grond te komen. Daarna kan het kiemplantje door zijn bladeren zijn eigen voedsel mak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Afbeelding 3" descr="levenscyclus bruine boon.jpg"/>
          <p:cNvPicPr/>
          <p:nvPr/>
        </p:nvPicPr>
        <p:blipFill>
          <a:blip r:embed="rId1"/>
          <a:stretch/>
        </p:blipFill>
        <p:spPr>
          <a:xfrm>
            <a:off x="4716360" y="1413000"/>
            <a:ext cx="332748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Bs 2:</a:t>
            </a:r>
            <a:br>
              <a:rPr sz="4000"/>
            </a:b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Wortels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 wortels van een plant hebben drie func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astzetten in de gro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Water en voedingsstoffen/bouwstoffen opne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Reservevoedsel opsla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Afbeelding 3" descr="wortel.jpg"/>
          <p:cNvPicPr/>
          <p:nvPr/>
        </p:nvPicPr>
        <p:blipFill>
          <a:blip r:embed="rId1"/>
          <a:stretch/>
        </p:blipFill>
        <p:spPr>
          <a:xfrm rot="20493600">
            <a:off x="5219640" y="3499920"/>
            <a:ext cx="122400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Afbeelding 4" descr="wortelharen.png"/>
          <p:cNvPicPr/>
          <p:nvPr/>
        </p:nvPicPr>
        <p:blipFill>
          <a:blip r:embed="rId1"/>
          <a:stretch/>
        </p:blipFill>
        <p:spPr>
          <a:xfrm rot="2348400">
            <a:off x="6111360" y="2008080"/>
            <a:ext cx="1095480" cy="16192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De bouw van wortel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et wortelstelsel bestaat uit drie onderdel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oofdwort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Zijworte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Wortelhar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 wortelharen zijn hele kleine worteltjes aan het uiteinde van de grote wortels. Zij dienen vooral voor het opnemen van water en voedingsstoffen/bouwstoff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Afbeelding 3" descr="water.jpg"/>
          <p:cNvPicPr/>
          <p:nvPr/>
        </p:nvPicPr>
        <p:blipFill>
          <a:blip r:embed="rId2"/>
          <a:stretch/>
        </p:blipFill>
        <p:spPr>
          <a:xfrm rot="834000">
            <a:off x="6084360" y="5229360"/>
            <a:ext cx="130500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Bs 3:</a:t>
            </a:r>
            <a:br>
              <a:rPr sz="4000"/>
            </a:b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Stengels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e stam is ook een soort steng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an de stengels zitten de blader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Een stengel is opgebouwd ui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Knoop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: de plek waar de bladeren aan de stengel vastzitt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Leden/lid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: de gedeeltes tussen twee knop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Je hebt twee soorten knoppen aan een stenge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kselknop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: zit bij een knoo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indknop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: zit aan het eind van een steng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Afbeelding 3" descr="stengel.jpg"/>
          <p:cNvPicPr/>
          <p:nvPr/>
        </p:nvPicPr>
        <p:blipFill>
          <a:blip r:embed="rId1"/>
          <a:stretch/>
        </p:blipFill>
        <p:spPr>
          <a:xfrm>
            <a:off x="6732720" y="549360"/>
            <a:ext cx="934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Afbeelding 4" descr="kruid engelwortel.jpg"/>
          <p:cNvPicPr/>
          <p:nvPr/>
        </p:nvPicPr>
        <p:blipFill>
          <a:blip r:embed="rId1"/>
          <a:stretch/>
        </p:blipFill>
        <p:spPr>
          <a:xfrm rot="20559600">
            <a:off x="7235640" y="4365720"/>
            <a:ext cx="1596960" cy="2006640"/>
          </a:xfrm>
          <a:prstGeom prst="rect">
            <a:avLst/>
          </a:prstGeom>
          <a:ln w="0">
            <a:noFill/>
          </a:ln>
        </p:spPr>
      </p:pic>
      <p:pic>
        <p:nvPicPr>
          <p:cNvPr id="144" name="Afbeelding 3" descr="boom hout.jpg"/>
          <p:cNvPicPr/>
          <p:nvPr/>
        </p:nvPicPr>
        <p:blipFill>
          <a:blip r:embed="rId2"/>
          <a:stretch/>
        </p:blipFill>
        <p:spPr>
          <a:xfrm rot="607800">
            <a:off x="7210080" y="2189160"/>
            <a:ext cx="1581120" cy="14860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Houtachtig of kruidachtig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ij een houtachtige plant heb je te maken met sterke stengels/een st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 deze stengels zit de stof hout, dit zorgt voor stevighei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outachtige planten worden meestal gro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ij een kruidachtige plant heb je vaak slappe stengels. Er zit weinig of geen hout 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Kruidachtige stengels bevatten veel w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Kruidachtige planten worden meestal niet erg gro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De functies van de stengel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Een stengel heeft twee func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ragen van de bladeren en bloem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ervoeren van water en voedingsstoffen/bouwstoff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 de stengel zitten hele kleine buisjes (=vaten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eze buisjes bij elkaar noemen wij vaatbunde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e buisjes beginnen in de wortels en eindigen in de blader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an boven naar beneden vervoeren de buisjes voeds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an beneden naar boven vervoeren de buisjes bouwstoffen en w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Afbeelding 3" descr="houtvaten en bastvaten.jpg"/>
          <p:cNvPicPr/>
          <p:nvPr/>
        </p:nvPicPr>
        <p:blipFill>
          <a:blip r:embed="rId1"/>
          <a:stretch/>
        </p:blipFill>
        <p:spPr>
          <a:xfrm>
            <a:off x="7236000" y="1268280"/>
            <a:ext cx="129672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Bs 4:</a:t>
            </a:r>
            <a:br>
              <a:rPr sz="4000"/>
            </a:br>
            <a:r>
              <a:rPr b="1" lang="nl-NL" sz="4000" spc="-1" strike="noStrike">
                <a:solidFill>
                  <a:srgbClr val="feec94"/>
                </a:solidFill>
                <a:latin typeface="Times New Roman"/>
              </a:rPr>
              <a:t>Bladeren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 bouw van blader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ladsteel, zit aan de stengel va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ladschijf, het platte de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Afbeelding 3" descr="bladeren.jpg"/>
          <p:cNvPicPr/>
          <p:nvPr/>
        </p:nvPicPr>
        <p:blipFill>
          <a:blip r:embed="rId1"/>
          <a:stretch/>
        </p:blipFill>
        <p:spPr>
          <a:xfrm rot="630000">
            <a:off x="3484080" y="3886200"/>
            <a:ext cx="2016360" cy="1684440"/>
          </a:xfrm>
          <a:prstGeom prst="rect">
            <a:avLst/>
          </a:prstGeom>
          <a:ln w="0">
            <a:noFill/>
          </a:ln>
        </p:spPr>
      </p:pic>
      <p:pic>
        <p:nvPicPr>
          <p:cNvPr id="153" name="Afbeelding 5" descr="blad1.jpg"/>
          <p:cNvPicPr/>
          <p:nvPr/>
        </p:nvPicPr>
        <p:blipFill>
          <a:blip r:embed="rId2"/>
          <a:stretch/>
        </p:blipFill>
        <p:spPr>
          <a:xfrm>
            <a:off x="6443640" y="692280"/>
            <a:ext cx="2016000" cy="16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1:13:06Z</dcterms:created>
  <dc:creator>Leerling</dc:creator>
  <dc:description/>
  <dc:language>en-US</dc:language>
  <cp:lastModifiedBy>Pieter</cp:lastModifiedBy>
  <dcterms:modified xsi:type="dcterms:W3CDTF">2012-01-22T10:41:46Z</dcterms:modified>
  <cp:revision>26</cp:revision>
  <dc:subject/>
  <dc:title>Biologie voor Jou. VMBO-BK.</dc:title>
</cp:coreProperties>
</file>