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3.wav" ContentType="audio/x-wav"/>
  <Override PartName="/ppt/media/image11.jpeg" ContentType="image/jpeg"/>
  <Override PartName="/ppt/media/image8.jpeg" ContentType="image/jpeg"/>
  <Override PartName="/ppt/media/image10.jpeg" ContentType="image/jpeg"/>
  <Override PartName="/ppt/media/2.wav" ContentType="audio/x-wav"/>
  <Override PartName="/ppt/media/image7.jpeg" ContentType="image/jpeg"/>
  <Override PartName="/ppt/media/image6.jpeg" ContentType="image/jpeg"/>
  <Override PartName="/ppt/media/image5.jpeg" ContentType="image/jpeg"/>
  <Override PartName="/ppt/media/7.wav" ContentType="audio/x-wav"/>
  <Override PartName="/ppt/media/huisdieren1.wav" ContentType="audio/x-wav"/>
  <Override PartName="/ppt/media/image14.jpeg" ContentType="image/jpeg"/>
  <Override PartName="/ppt/media/6.wav" ContentType="audio/x-wav"/>
  <Override PartName="/ppt/media/4.wav" ContentType="audio/x-wav"/>
  <Override PartName="/ppt/media/image13.png" ContentType="image/png"/>
  <Override PartName="/ppt/media/image12.jpeg" ContentType="image/jpeg"/>
  <Override PartName="/ppt/media/image1.jpeg" ContentType="image/jpeg"/>
  <Override PartName="/ppt/media/1.wav" ContentType="audio/x-wav"/>
  <Override PartName="/ppt/media/5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892-5907-4F63-B772-EBD4A65F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AAA-9CAD-4790-87EC-EC1FB1F5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4F2-7F60-4DDC-BF9C-2EE05487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CA7-4AB9-42C6-81EE-FC6E2380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650-B621-4D1F-A4DE-336465F0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365-6354-4D7D-BB48-8BDF260B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876-D5DF-436B-B91E-E7A6791D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CAD-DE0F-47D3-A0DB-F06D2C5C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49A-F033-4536-A6EA-1BC1B959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A68-2714-4007-9140-63C9440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954-6869-4E43-95C4-52FB13F5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9C2-31D1-4B08-808F-8ABE329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0352-79F2-4A7F-8BD8-777564271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uisdieren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2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3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4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5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6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7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esje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isje.wav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1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03720" cy="541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5445000"/>
            <a:ext cx="1081080" cy="9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602136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konij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31000" cy="4497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85080" y="5589720"/>
            <a:ext cx="1081080" cy="938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580536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kanar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3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115920"/>
            <a:ext cx="6480360" cy="4986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01080" y="5661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5661000"/>
            <a:ext cx="1081080" cy="9381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5950080"/>
            <a:ext cx="23763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ca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4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624720" cy="4494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85080" y="5445000"/>
            <a:ext cx="1081080" cy="9381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5877000"/>
            <a:ext cx="22320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p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5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4320" y="2205000"/>
            <a:ext cx="7516800" cy="244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5445000"/>
            <a:ext cx="1081080" cy="938160"/>
          </a:xfrm>
          <a:prstGeom prst="ellipse">
            <a:avLst/>
          </a:prstGeom>
          <a:solidFill>
            <a:srgbClr val="f76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587700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v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6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048720" cy="3646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885080" y="5300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12000" y="5300640"/>
            <a:ext cx="1081080" cy="938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5589720"/>
            <a:ext cx="2232000" cy="56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ho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7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syrian hamster"/>
          <p:cNvPicPr/>
          <p:nvPr/>
        </p:nvPicPr>
        <p:blipFill>
          <a:blip r:embed="rId1"/>
          <a:srcRect l="0" t="0" r="416" b="4176"/>
          <a:stretch/>
        </p:blipFill>
        <p:spPr>
          <a:xfrm>
            <a:off x="2916360" y="1341360"/>
            <a:ext cx="3384360" cy="331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148360" y="5445000"/>
            <a:ext cx="2952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hams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976720" cy="4227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148360" y="544500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konij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513320" cy="540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148360" y="544500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kanar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5689800" cy="3713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148360" y="5445000"/>
            <a:ext cx="23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ca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89000"/>
            <a:ext cx="7200720" cy="511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64000" y="5877000"/>
            <a:ext cx="223236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p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4640"/>
            <a:ext cx="7620120" cy="428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148360" y="5445000"/>
            <a:ext cx="187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v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24944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364000" y="5950080"/>
            <a:ext cx="223236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ho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-137" b="3957"/>
          <a:stretch/>
        </p:blipFill>
        <p:spPr>
          <a:xfrm>
            <a:off x="2195640" y="1484280"/>
            <a:ext cx="4464000" cy="3311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956720" y="544500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12000" y="5445000"/>
            <a:ext cx="1081080" cy="93816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5950080"/>
            <a:ext cx="29527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hams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1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4:57:07Z</dcterms:created>
  <dc:creator>Anne-Marie</dc:creator>
  <dc:description/>
  <dc:language>en-US</dc:language>
  <cp:lastModifiedBy>Anne-Marie</cp:lastModifiedBy>
  <dcterms:modified xsi:type="dcterms:W3CDTF">2011-10-03T19:15:19Z</dcterms:modified>
  <cp:revision>4</cp:revision>
  <dc:subject/>
  <dc:title>huisdieren</dc:title>
</cp:coreProperties>
</file>