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3.png" ContentType="image/png"/>
  <Override PartName="/ppt/media/image35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56A1-F46F-463C-B691-CAF45CCF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DA3D-00A8-42D5-BC87-257328E0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D3C6-A91E-4D47-87F2-7119CC57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B008-CFAA-415D-93F0-C4BDA7A6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5FBA-0F86-4EDC-881A-2E35231A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68CB-D849-4063-A12A-88BA3F0C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DAF6-B3CC-4999-B8A3-DEF09E26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D228-7788-4B3F-8769-1E4751CA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A8E3-18C9-4E9C-AD14-9DA8273A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5333-A78A-4395-A82E-CAF0D64D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C757-8F6F-4519-B6D0-A3A9AC47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6D5-EC82-418A-9649-3377B30C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D220-8EDE-4A05-A247-753B67A8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B195-40F0-466F-85A5-B718D727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E7FA-1528-4B3A-84E9-0BB733C4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4B77-BF5D-46BA-AA15-01227325F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F3F7-FCB3-4521-B4FA-4B8B182C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126B2-3C0E-44B8-8C68-6930AE93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BB400-5E86-401A-8CC0-0BE5C147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61FAB-DBCB-4989-B8B0-2C9E9EDF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184D7-56AC-4057-9D1E-C3DD1152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70BF7-FF37-4C47-B0A1-3D674891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D6C8-2BBC-49FF-90F0-6C6CC698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2FC45-94ED-4C5B-87AF-9B3BE486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4B9E5-7024-42A8-9AF3-19448A11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FB9D6-1AB6-4AC8-BE7B-390E0E14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0B1F4-F097-4012-ABCA-35E3FF35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5EA63-72A0-480C-96B3-CE07A046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FEEA9-24F8-4A3B-8814-897DF13D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69690-D743-4259-9167-A9410524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AD0F6-A133-43FA-B76F-6DE64FDFD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E1213-2289-411E-9BE7-31F78915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7D634-996B-43FE-B003-10FBC1CE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0248-D512-4072-94DD-38026E17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8B138-7A94-414D-9E5B-921E7FAE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5AE81-C305-4FAF-94E1-94E2B186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ED7CF-49CB-4A16-A46C-451EEF0B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08A11-E349-496D-AE6A-C3A24687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184BA-8113-453A-B2C4-7B44F807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882A4-40F6-44AF-A204-4D8491E2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1FB85-3E2B-4B23-BBB1-AD864A38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B2E8A-E28B-45B1-A15D-A941EB64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17364-3CB8-4B02-A80E-FE5E87E6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B1B1-D61C-43D6-A22A-7A9D61B3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C521-EE78-4446-A31F-5517F94B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9241-E937-4248-A0C0-93CDBB42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429A-57B4-45F0-875D-2E539E39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CB4A-722A-4860-A980-B5FC48E0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037B-8A11-4511-85CD-019861A18D86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6F1D-0EF6-412D-BBEB-FA475C9EA773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C71F-6ED0-4891-8827-B9ADC1553412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07C2-7C05-4BFE-B1A6-8D68E29764A6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onstantia"/>
              </a:rPr>
              <a:t>VMBO-B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onstantia"/>
              </a:rPr>
              <a:t>Thema 7: Bloemen, vruchten, zade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Afbeelding 3" descr="planten1.jpg"/>
          <p:cNvPicPr/>
          <p:nvPr/>
        </p:nvPicPr>
        <p:blipFill>
          <a:blip r:embed="rId2"/>
          <a:stretch/>
        </p:blipFill>
        <p:spPr>
          <a:xfrm>
            <a:off x="395280" y="692280"/>
            <a:ext cx="2664000" cy="1944720"/>
          </a:xfrm>
          <a:prstGeom prst="rect">
            <a:avLst/>
          </a:prstGeom>
          <a:ln w="0">
            <a:noFill/>
          </a:ln>
        </p:spPr>
      </p:pic>
      <p:pic>
        <p:nvPicPr>
          <p:cNvPr id="198" name="Afbeelding 4" descr="vruchten.jpg"/>
          <p:cNvPicPr/>
          <p:nvPr/>
        </p:nvPicPr>
        <p:blipFill>
          <a:blip r:embed="rId3"/>
          <a:stretch/>
        </p:blipFill>
        <p:spPr>
          <a:xfrm>
            <a:off x="395280" y="2637000"/>
            <a:ext cx="2664000" cy="1647720"/>
          </a:xfrm>
          <a:prstGeom prst="rect">
            <a:avLst/>
          </a:prstGeom>
          <a:ln w="0">
            <a:noFill/>
          </a:ln>
        </p:spPr>
      </p:pic>
      <p:pic>
        <p:nvPicPr>
          <p:cNvPr id="199" name="Afbeelding 5" descr="zaden.jpg"/>
          <p:cNvPicPr/>
          <p:nvPr/>
        </p:nvPicPr>
        <p:blipFill>
          <a:blip r:embed="rId4"/>
          <a:stretch/>
        </p:blipFill>
        <p:spPr>
          <a:xfrm>
            <a:off x="395280" y="4292640"/>
            <a:ext cx="26607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Windbloemen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412640"/>
            <a:ext cx="641844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nstantia"/>
              </a:rPr>
              <a:t>Kenmerken van windbloemen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Kleine bloem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Geen speciale kleur bloemen, meestal gro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Geen lekkere geu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Geen nect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Hele lange meeldrad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Maken heel veel stuifmeelkorr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De stuifmeelkorrels zijn glad en licht zodat ze gemakkelijk met de wind mee zwev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De stempel is vaak erg groot (een soort handschoen/veer voor het opvangen van de stuifmeelkorrel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Afbeelding 3" descr="windbloem.jpg"/>
          <p:cNvPicPr/>
          <p:nvPr/>
        </p:nvPicPr>
        <p:blipFill>
          <a:blip r:embed="rId1"/>
          <a:stretch/>
        </p:blipFill>
        <p:spPr>
          <a:xfrm>
            <a:off x="7380360" y="907920"/>
            <a:ext cx="1584360" cy="1744920"/>
          </a:xfrm>
          <a:prstGeom prst="rect">
            <a:avLst/>
          </a:prstGeom>
          <a:ln w="0">
            <a:noFill/>
          </a:ln>
        </p:spPr>
      </p:pic>
      <p:pic>
        <p:nvPicPr>
          <p:cNvPr id="239" name="Afbeelding 5" descr="bloeiend gras.png"/>
          <p:cNvPicPr/>
          <p:nvPr/>
        </p:nvPicPr>
        <p:blipFill>
          <a:blip r:embed="rId2"/>
          <a:stretch/>
        </p:blipFill>
        <p:spPr>
          <a:xfrm>
            <a:off x="6372360" y="2708280"/>
            <a:ext cx="2571480" cy="1781280"/>
          </a:xfrm>
          <a:prstGeom prst="rect">
            <a:avLst/>
          </a:prstGeom>
          <a:ln w="0">
            <a:noFill/>
          </a:ln>
        </p:spPr>
      </p:pic>
      <p:pic>
        <p:nvPicPr>
          <p:cNvPr id="240" name="Afbeelding 6" descr="bloem gras.jpg"/>
          <p:cNvPicPr/>
          <p:nvPr/>
        </p:nvPicPr>
        <p:blipFill>
          <a:blip r:embed="rId3"/>
          <a:stretch/>
        </p:blipFill>
        <p:spPr>
          <a:xfrm>
            <a:off x="7020000" y="4508640"/>
            <a:ext cx="1266840" cy="1136520"/>
          </a:xfrm>
          <a:prstGeom prst="rect">
            <a:avLst/>
          </a:prstGeom>
          <a:ln w="0">
            <a:noFill/>
          </a:ln>
        </p:spPr>
      </p:pic>
      <p:pic>
        <p:nvPicPr>
          <p:cNvPr id="241" name="Afbeelding 7" descr="windbloem stuifmeel bestuiving.jpg"/>
          <p:cNvPicPr/>
          <p:nvPr/>
        </p:nvPicPr>
        <p:blipFill>
          <a:blip r:embed="rId4"/>
          <a:stretch/>
        </p:blipFill>
        <p:spPr>
          <a:xfrm>
            <a:off x="5003640" y="189000"/>
            <a:ext cx="2229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4617b"/>
                </a:solidFill>
                <a:latin typeface="Calibri"/>
              </a:rPr>
              <a:t>Bs 3: Bevruchting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6275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Er is een duidelijk verschil tussen bestuiving en bevruchting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Bij bestuiving gaat het erom dat de stuifmeelkorrels van de ene naar de andere plant gaan. (wind, insect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Bij bevruchting moeten de stuifmeelkorrels naar de eicellen vervoerd worden (stuifmeelbuis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Afbeelding 4" descr="bevruchting doorsnede stamper.jpg"/>
          <p:cNvPicPr/>
          <p:nvPr/>
        </p:nvPicPr>
        <p:blipFill>
          <a:blip r:embed="rId1"/>
          <a:stretch/>
        </p:blipFill>
        <p:spPr>
          <a:xfrm>
            <a:off x="6227640" y="1268280"/>
            <a:ext cx="2521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4617b"/>
                </a:solidFill>
                <a:latin typeface="Calibri"/>
              </a:rPr>
              <a:t>Wat gebeurt er bij de bevruchting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Een stuifmeelkorrel komt op de stempel terech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De stuifmeelkorrel maakt een buis door de stijl heen naar de eicellen to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De kern van de stuifmeelkorrel en de kern van de eicel gaan samen (dit is bevruchting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Uit de bevruchte eicel ontstaat een zaadje (de baby van de plant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Afbeelding 4" descr="eicel en zaadcel bevruchting.jpg"/>
          <p:cNvPicPr/>
          <p:nvPr/>
        </p:nvPicPr>
        <p:blipFill>
          <a:blip r:embed="rId1"/>
          <a:stretch/>
        </p:blipFill>
        <p:spPr>
          <a:xfrm>
            <a:off x="3419640" y="4365720"/>
            <a:ext cx="2160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Het zaad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In het zaad zit altijd voedsel en een kiemplantje (kiemen = groeien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Het is de bedoeling dat het zaad niet te dicht bij de ouderplant gaat groei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De ouderplant moet dus een manier bedenken om zijn kinderen zover mogelijk bij hem/haarzelf weg te krijg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Afbeelding 4" descr="appel.jpg"/>
          <p:cNvPicPr/>
          <p:nvPr/>
        </p:nvPicPr>
        <p:blipFill>
          <a:blip r:embed="rId1"/>
          <a:stretch/>
        </p:blipFill>
        <p:spPr>
          <a:xfrm>
            <a:off x="5651640" y="404640"/>
            <a:ext cx="1728720" cy="1440000"/>
          </a:xfrm>
          <a:prstGeom prst="rect">
            <a:avLst/>
          </a:prstGeom>
          <a:ln w="0">
            <a:noFill/>
          </a:ln>
        </p:spPr>
      </p:pic>
      <p:pic>
        <p:nvPicPr>
          <p:cNvPr id="251" name="Afbeelding 5" descr="eikel.jpg"/>
          <p:cNvPicPr/>
          <p:nvPr/>
        </p:nvPicPr>
        <p:blipFill>
          <a:blip r:embed="rId2"/>
          <a:stretch/>
        </p:blipFill>
        <p:spPr>
          <a:xfrm>
            <a:off x="4284720" y="4724280"/>
            <a:ext cx="180000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4617b"/>
                </a:solidFill>
                <a:latin typeface="Calibri"/>
              </a:rPr>
              <a:t>Bs 4: Vruchten en zaden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1934640"/>
            <a:ext cx="6491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Een vrucht zit om de zaden heen en ontstaat uit het vruchtbeginse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De zaden zijn de baby’s van de pla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Als je een zaad openmaakt zie je daarin een heel klein plantje; dit noemen wij de kie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Verder zie je in het zaad: de zaadlobben, dit is het voedsel voor het kiemplantje om te gaan groei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Afbeelding 3" descr="kiemplantje1.jpg"/>
          <p:cNvPicPr/>
          <p:nvPr/>
        </p:nvPicPr>
        <p:blipFill>
          <a:blip r:embed="rId1"/>
          <a:stretch/>
        </p:blipFill>
        <p:spPr>
          <a:xfrm>
            <a:off x="6443640" y="981000"/>
            <a:ext cx="22669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Na de bevruchting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De kroonbladeren hebben hun werk gedaan en vallen eraf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Ook de meeldraden en kelkbladeren hoeven niets meer te doen en verschrompel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Het vruchtbeginsel begint te groei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In de zaadbeginsels worden zaadjes gemaak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Afbeelding 5" descr="bedektzadige.jpg"/>
          <p:cNvPicPr/>
          <p:nvPr/>
        </p:nvPicPr>
        <p:blipFill>
          <a:blip r:embed="rId1"/>
          <a:stretch/>
        </p:blipFill>
        <p:spPr>
          <a:xfrm>
            <a:off x="3635280" y="4724280"/>
            <a:ext cx="165744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Vruchtbeginsel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Het vruchtbeginsel kan er na de bevruchting verschillend uitzi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Dit hangt af van de soort pla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Bij een appel wordt het vruchtbeginsel erg dik (wij eten dit gedeelte op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Bij een boon blijft het vruchtbeginsel veel dunner, het beschermt de zaadj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Afbeelding 3" descr="vruchtbeginsel.jpg"/>
          <p:cNvPicPr/>
          <p:nvPr/>
        </p:nvPicPr>
        <p:blipFill>
          <a:blip r:embed="rId1"/>
          <a:stretch/>
        </p:blipFill>
        <p:spPr>
          <a:xfrm>
            <a:off x="5508720" y="189000"/>
            <a:ext cx="26478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4617b"/>
                </a:solidFill>
                <a:latin typeface="Calibri"/>
              </a:rPr>
              <a:t>Extra Bs 5:</a:t>
            </a:r>
            <a:br>
              <a:rPr sz="4000"/>
            </a:br>
            <a:r>
              <a:rPr b="0" lang="nl-NL" sz="4000" spc="-1" strike="noStrike">
                <a:solidFill>
                  <a:srgbClr val="04617b"/>
                </a:solidFill>
                <a:latin typeface="Calibri"/>
              </a:rPr>
              <a:t>Verspreiding van vruchten en zaden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5554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Zoals jullie weten heeft elke plant zonlicht en water nodig. De plant haalt belangrijke bouwstoffen uit de gron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Wanneer een plant zijn zaadjes niet verspreid moet hij/zij gaan vechten met zijn kinderen want een plant kan niet zomaar weglopen naar een betere ple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Afbeelding 3" descr="schaduw boom.jpg"/>
          <p:cNvPicPr/>
          <p:nvPr/>
        </p:nvPicPr>
        <p:blipFill>
          <a:blip r:embed="rId1"/>
          <a:stretch/>
        </p:blipFill>
        <p:spPr>
          <a:xfrm>
            <a:off x="6084720" y="2349360"/>
            <a:ext cx="261000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Manieren van verspreiding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Hoe kan een plant zijn kinderen verspreiden? Dit kan op verschillende maniere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Door de plant zelf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Door de win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Door dier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Afbeelding 3" descr="zaden wegschieten.jpg"/>
          <p:cNvPicPr/>
          <p:nvPr/>
        </p:nvPicPr>
        <p:blipFill>
          <a:blip r:embed="rId1"/>
          <a:stretch/>
        </p:blipFill>
        <p:spPr>
          <a:xfrm>
            <a:off x="4859280" y="2421000"/>
            <a:ext cx="1862280" cy="2430360"/>
          </a:xfrm>
          <a:prstGeom prst="rect">
            <a:avLst/>
          </a:prstGeom>
          <a:ln w="0">
            <a:noFill/>
          </a:ln>
        </p:spPr>
      </p:pic>
      <p:pic>
        <p:nvPicPr>
          <p:cNvPr id="267" name="Afbeelding 4" descr="paardenbloem uitgebloeid.jpg"/>
          <p:cNvPicPr/>
          <p:nvPr/>
        </p:nvPicPr>
        <p:blipFill>
          <a:blip r:embed="rId2"/>
          <a:stretch/>
        </p:blipFill>
        <p:spPr>
          <a:xfrm>
            <a:off x="6875640" y="2421000"/>
            <a:ext cx="1873080" cy="2448000"/>
          </a:xfrm>
          <a:prstGeom prst="rect">
            <a:avLst/>
          </a:prstGeom>
          <a:ln w="0">
            <a:noFill/>
          </a:ln>
        </p:spPr>
      </p:pic>
      <p:pic>
        <p:nvPicPr>
          <p:cNvPr id="268" name="Afbeelding 6" descr="eekhoorn.jpg"/>
          <p:cNvPicPr/>
          <p:nvPr/>
        </p:nvPicPr>
        <p:blipFill>
          <a:blip r:embed="rId3"/>
          <a:stretch/>
        </p:blipFill>
        <p:spPr>
          <a:xfrm>
            <a:off x="5796000" y="4581360"/>
            <a:ext cx="2523960" cy="18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Verspreiding door de plant zelf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Sommige planten schieten hun zaadjes we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Bijvoorbeeld de klaproos. De naam zegt het al de roos klapt open en gooit dan zijn zaadjes we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Afbeelding 3" descr="klaproos zaad.jpg"/>
          <p:cNvPicPr/>
          <p:nvPr/>
        </p:nvPicPr>
        <p:blipFill>
          <a:blip r:embed="rId1"/>
          <a:stretch/>
        </p:blipFill>
        <p:spPr>
          <a:xfrm>
            <a:off x="1476360" y="3573360"/>
            <a:ext cx="1954080" cy="1379520"/>
          </a:xfrm>
          <a:prstGeom prst="rect">
            <a:avLst/>
          </a:prstGeom>
          <a:ln w="0">
            <a:noFill/>
          </a:ln>
        </p:spPr>
      </p:pic>
      <p:pic>
        <p:nvPicPr>
          <p:cNvPr id="272" name="Afbeelding 4" descr="klaproos zaaddoos.jpg"/>
          <p:cNvPicPr/>
          <p:nvPr/>
        </p:nvPicPr>
        <p:blipFill>
          <a:blip r:embed="rId2"/>
          <a:stretch/>
        </p:blipFill>
        <p:spPr>
          <a:xfrm>
            <a:off x="4572000" y="3645000"/>
            <a:ext cx="22604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4617b"/>
                </a:solidFill>
                <a:latin typeface="Calibri"/>
              </a:rPr>
              <a:t>Thema 7: </a:t>
            </a:r>
            <a:br>
              <a:rPr sz="3600"/>
            </a:br>
            <a:r>
              <a:rPr b="0" lang="nl-NL" sz="3600" spc="-1" strike="noStrike">
                <a:solidFill>
                  <a:srgbClr val="04617b"/>
                </a:solidFill>
                <a:latin typeface="Calibri"/>
              </a:rPr>
              <a:t>Bloemen, vruchten, zaden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934640"/>
            <a:ext cx="62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In dit thema kijken wij waarom planten bloemen mak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Hoe een bloem zijn stuifmeelkorrels verspreid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Hoe zaden worden gemaak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Hoe de plant zijn zaden verspreid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Afbeelding 3" descr="kroonblad.jpg"/>
          <p:cNvPicPr/>
          <p:nvPr/>
        </p:nvPicPr>
        <p:blipFill>
          <a:blip r:embed="rId1"/>
          <a:stretch/>
        </p:blipFill>
        <p:spPr>
          <a:xfrm>
            <a:off x="6804000" y="1125360"/>
            <a:ext cx="1362240" cy="1019520"/>
          </a:xfrm>
          <a:prstGeom prst="rect">
            <a:avLst/>
          </a:prstGeom>
          <a:ln w="0">
            <a:noFill/>
          </a:ln>
        </p:spPr>
      </p:pic>
      <p:pic>
        <p:nvPicPr>
          <p:cNvPr id="203" name="Afbeelding 4" descr="windbloem stuifmeel bestuiving.jpg"/>
          <p:cNvPicPr/>
          <p:nvPr/>
        </p:nvPicPr>
        <p:blipFill>
          <a:blip r:embed="rId2"/>
          <a:stretch/>
        </p:blipFill>
        <p:spPr>
          <a:xfrm>
            <a:off x="6732720" y="2133720"/>
            <a:ext cx="2012760" cy="1150920"/>
          </a:xfrm>
          <a:prstGeom prst="rect">
            <a:avLst/>
          </a:prstGeom>
          <a:ln w="0">
            <a:noFill/>
          </a:ln>
        </p:spPr>
      </p:pic>
      <p:pic>
        <p:nvPicPr>
          <p:cNvPr id="204" name="Afbeelding 6" descr="zaden wegschieten.jpg"/>
          <p:cNvPicPr/>
          <p:nvPr/>
        </p:nvPicPr>
        <p:blipFill>
          <a:blip r:embed="rId3"/>
          <a:stretch/>
        </p:blipFill>
        <p:spPr>
          <a:xfrm>
            <a:off x="6516720" y="4221000"/>
            <a:ext cx="1428840" cy="1781280"/>
          </a:xfrm>
          <a:prstGeom prst="rect">
            <a:avLst/>
          </a:prstGeom>
          <a:ln w="0">
            <a:noFill/>
          </a:ln>
        </p:spPr>
      </p:pic>
      <p:pic>
        <p:nvPicPr>
          <p:cNvPr id="205" name="Afbeelding 7" descr="eikel.jpg"/>
          <p:cNvPicPr/>
          <p:nvPr/>
        </p:nvPicPr>
        <p:blipFill>
          <a:blip r:embed="rId4"/>
          <a:stretch/>
        </p:blipFill>
        <p:spPr>
          <a:xfrm>
            <a:off x="7236000" y="3141720"/>
            <a:ext cx="1439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Verspreiding door de wind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Dit lijkt hetzelfde als bij wind</a:t>
            </a:r>
            <a:r>
              <a:rPr b="0" lang="nl-NL" sz="2600" spc="-1" strike="noStrike" u="sng">
                <a:solidFill>
                  <a:srgbClr val="000000"/>
                </a:solidFill>
                <a:uFillTx/>
                <a:latin typeface="Constantia"/>
              </a:rPr>
              <a:t>bestuiving</a:t>
            </a: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 maar toen werden de </a:t>
            </a:r>
            <a:r>
              <a:rPr b="1" i="1" lang="nl-NL" sz="2600" spc="-1" strike="noStrike">
                <a:solidFill>
                  <a:srgbClr val="000000"/>
                </a:solidFill>
                <a:latin typeface="Constantia"/>
              </a:rPr>
              <a:t>stuifmeelkorrels</a:t>
            </a: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 door de wind vervoe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Je kunt de wind dus ook gebruiken voor het verspreiden van zaadj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Een goed voorbeeld hiervan is de paardenbloem met zijn pluisj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Afbeelding 3" descr="paardenbloem pluis.png"/>
          <p:cNvPicPr/>
          <p:nvPr/>
        </p:nvPicPr>
        <p:blipFill>
          <a:blip r:embed="rId1"/>
          <a:stretch/>
        </p:blipFill>
        <p:spPr>
          <a:xfrm>
            <a:off x="3419640" y="4437000"/>
            <a:ext cx="26002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Verspreiding door dieren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Dit kan zelfs op vele verschillende manier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Dieren eten de zaden op en poepen ze later weer uit. (bijv. besj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De zaadjes kunnen aan de dieren blijven plakken als ze langs de plant lopen (bijv. kleefkrui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Afbeelding 3" descr="vogel en bes.jpg"/>
          <p:cNvPicPr/>
          <p:nvPr/>
        </p:nvPicPr>
        <p:blipFill>
          <a:blip r:embed="rId1"/>
          <a:stretch/>
        </p:blipFill>
        <p:spPr>
          <a:xfrm>
            <a:off x="3348000" y="4221000"/>
            <a:ext cx="23036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4617b"/>
                </a:solidFill>
                <a:latin typeface="Calibri"/>
              </a:rPr>
              <a:t>Extra Bs 6:</a:t>
            </a:r>
            <a:br>
              <a:rPr sz="4000"/>
            </a:br>
            <a:r>
              <a:rPr b="0" lang="nl-NL" sz="4000" spc="-1" strike="noStrike">
                <a:solidFill>
                  <a:srgbClr val="04617b"/>
                </a:solidFill>
                <a:latin typeface="Calibri"/>
              </a:rPr>
              <a:t>Stuifmeel onder de microscoop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6059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nstantia"/>
              </a:rPr>
              <a:t>Je kunt aan de stuifmeelkorrel zien of het afkomstig is van een windbloem of een insectenbloe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nstantia"/>
              </a:rPr>
              <a:t>Windbloem: het stuifmeel is klein, licht en gla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nstantia"/>
              </a:rPr>
              <a:t>Insectenbloem: het stuifmeel is ruw en kleverig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nstantia"/>
              </a:rPr>
              <a:t>Soms je kun je zelfs aan de stuifmeelkorrel zien van welke plant het afkomstig i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Afbeelding 3" descr="stuifmeelkorrels.jpg"/>
          <p:cNvPicPr/>
          <p:nvPr/>
        </p:nvPicPr>
        <p:blipFill>
          <a:blip r:embed="rId1"/>
          <a:stretch/>
        </p:blipFill>
        <p:spPr>
          <a:xfrm>
            <a:off x="6443640" y="1989000"/>
            <a:ext cx="2376360" cy="2160720"/>
          </a:xfrm>
          <a:prstGeom prst="rect">
            <a:avLst/>
          </a:prstGeom>
          <a:ln w="0">
            <a:noFill/>
          </a:ln>
        </p:spPr>
      </p:pic>
      <p:pic>
        <p:nvPicPr>
          <p:cNvPr id="282" name="Afbeelding 4" descr="verschillende stuifmeelkorrels.png"/>
          <p:cNvPicPr/>
          <p:nvPr/>
        </p:nvPicPr>
        <p:blipFill>
          <a:blip r:embed="rId2"/>
          <a:stretch/>
        </p:blipFill>
        <p:spPr>
          <a:xfrm>
            <a:off x="6443640" y="4149720"/>
            <a:ext cx="2376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4617b"/>
                </a:solidFill>
                <a:latin typeface="Calibri"/>
              </a:rPr>
              <a:t>Bs1: De bouw van bloemen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Een bloem bestaat uit verschillende onderdele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De kroonbladeren (meestal mooie, gekleurde bladeren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De stamper (het vrouwelijke deel van de bloem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De meeldraden (het mannelijk deel van de bloem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De kelkbladeren (de kleine groene blaadjes onder de bloemkroon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Afbeelding 3" descr="bloem1.jpg"/>
          <p:cNvPicPr/>
          <p:nvPr/>
        </p:nvPicPr>
        <p:blipFill>
          <a:blip r:embed="rId1"/>
          <a:stretch/>
        </p:blipFill>
        <p:spPr>
          <a:xfrm>
            <a:off x="611280" y="4292640"/>
            <a:ext cx="2448000" cy="1871640"/>
          </a:xfrm>
          <a:prstGeom prst="rect">
            <a:avLst/>
          </a:prstGeom>
          <a:ln w="0">
            <a:noFill/>
          </a:ln>
        </p:spPr>
      </p:pic>
      <p:pic>
        <p:nvPicPr>
          <p:cNvPr id="209" name="Afbeelding 4" descr="stamper.jpg"/>
          <p:cNvPicPr/>
          <p:nvPr/>
        </p:nvPicPr>
        <p:blipFill>
          <a:blip r:embed="rId2"/>
          <a:stretch/>
        </p:blipFill>
        <p:spPr>
          <a:xfrm>
            <a:off x="2916360" y="4653000"/>
            <a:ext cx="1038240" cy="1285920"/>
          </a:xfrm>
          <a:prstGeom prst="rect">
            <a:avLst/>
          </a:prstGeom>
          <a:ln w="0">
            <a:noFill/>
          </a:ln>
        </p:spPr>
      </p:pic>
      <p:pic>
        <p:nvPicPr>
          <p:cNvPr id="210" name="Afbeelding 5" descr="meeldraden.jpg"/>
          <p:cNvPicPr/>
          <p:nvPr/>
        </p:nvPicPr>
        <p:blipFill>
          <a:blip r:embed="rId3"/>
          <a:stretch/>
        </p:blipFill>
        <p:spPr>
          <a:xfrm>
            <a:off x="3780000" y="4076640"/>
            <a:ext cx="1584000" cy="1120680"/>
          </a:xfrm>
          <a:prstGeom prst="rect">
            <a:avLst/>
          </a:prstGeom>
          <a:ln w="0">
            <a:noFill/>
          </a:ln>
        </p:spPr>
      </p:pic>
      <p:pic>
        <p:nvPicPr>
          <p:cNvPr id="211" name="Afbeelding 7" descr="kelkbladeren.png"/>
          <p:cNvPicPr/>
          <p:nvPr/>
        </p:nvPicPr>
        <p:blipFill>
          <a:blip r:embed="rId4"/>
          <a:stretch/>
        </p:blipFill>
        <p:spPr>
          <a:xfrm>
            <a:off x="5292720" y="4005360"/>
            <a:ext cx="19908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De kroonbladeren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Zijn meestal groot en mooi gekleurd om insecten te lokken (voor de bestuiving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Soms zijn deze kroonbladeren juist erg klein en groen gekleurd (bijv. bij gras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Afbeelding 3" descr="bloem.jpg"/>
          <p:cNvPicPr/>
          <p:nvPr/>
        </p:nvPicPr>
        <p:blipFill>
          <a:blip r:embed="rId1"/>
          <a:stretch/>
        </p:blipFill>
        <p:spPr>
          <a:xfrm>
            <a:off x="1403280" y="3933720"/>
            <a:ext cx="1513080" cy="1389240"/>
          </a:xfrm>
          <a:prstGeom prst="rect">
            <a:avLst/>
          </a:prstGeom>
          <a:ln w="0">
            <a:noFill/>
          </a:ln>
        </p:spPr>
      </p:pic>
      <p:pic>
        <p:nvPicPr>
          <p:cNvPr id="215" name="Afbeelding 4" descr="gras.jpg"/>
          <p:cNvPicPr/>
          <p:nvPr/>
        </p:nvPicPr>
        <p:blipFill>
          <a:blip r:embed="rId2"/>
          <a:stretch/>
        </p:blipFill>
        <p:spPr>
          <a:xfrm>
            <a:off x="4788000" y="3933720"/>
            <a:ext cx="14396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De meeldraden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1934640"/>
            <a:ext cx="6418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De meeldraden maken stuifmeelkorrels (dit is de ene helft om zaad te maken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De meeldraden bestaan uit twee onderdele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Helmdraad (een soort stengeltj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Helmknop (hierin worden de stuifmeelkorrels gemaakt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Afbeelding 3" descr="meeldraden.jpg"/>
          <p:cNvPicPr/>
          <p:nvPr/>
        </p:nvPicPr>
        <p:blipFill>
          <a:blip r:embed="rId1"/>
          <a:stretch/>
        </p:blipFill>
        <p:spPr>
          <a:xfrm>
            <a:off x="5508720" y="476280"/>
            <a:ext cx="1942920" cy="1368360"/>
          </a:xfrm>
          <a:prstGeom prst="rect">
            <a:avLst/>
          </a:prstGeom>
          <a:ln w="0">
            <a:noFill/>
          </a:ln>
        </p:spPr>
      </p:pic>
      <p:pic>
        <p:nvPicPr>
          <p:cNvPr id="219" name="Afbeelding 4" descr="meeldraad onderdelen.jpg"/>
          <p:cNvPicPr/>
          <p:nvPr/>
        </p:nvPicPr>
        <p:blipFill>
          <a:blip r:embed="rId2"/>
          <a:stretch/>
        </p:blipFill>
        <p:spPr>
          <a:xfrm>
            <a:off x="6732720" y="2276640"/>
            <a:ext cx="16556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Afbeelding 4" descr="stamper onderdelen.jpg"/>
          <p:cNvPicPr/>
          <p:nvPr/>
        </p:nvPicPr>
        <p:blipFill>
          <a:blip r:embed="rId1"/>
          <a:stretch/>
        </p:blipFill>
        <p:spPr>
          <a:xfrm>
            <a:off x="5508720" y="2492280"/>
            <a:ext cx="3490920" cy="22989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De stamper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6130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In de stamper zitten de eicellen. Het andere deel om zaadjes te mak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De stamper bestaat uit drie onderdele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De stempel (een plakkerig uiteinde van de stamper voor het opvangen van de stuifmeelkorrel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De stijl (ook weer een soort stengeltj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Het vruchtbeginsel (hierin zitten de eicellen (zaadbeginsels) die bij bevruchting uitgroeien tot zaad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Afbeelding 3" descr="stamper.jpg"/>
          <p:cNvPicPr/>
          <p:nvPr/>
        </p:nvPicPr>
        <p:blipFill>
          <a:blip r:embed="rId2"/>
          <a:stretch/>
        </p:blipFill>
        <p:spPr>
          <a:xfrm>
            <a:off x="6227640" y="476280"/>
            <a:ext cx="1038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Hoe lok je een insect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Grote, gekleurde bloem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Een lekkere geur mak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Nectar (= zoet sap) mak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Afbeelding 3" descr="bloem1.jpg"/>
          <p:cNvPicPr/>
          <p:nvPr/>
        </p:nvPicPr>
        <p:blipFill>
          <a:blip r:embed="rId1"/>
          <a:stretch/>
        </p:blipFill>
        <p:spPr>
          <a:xfrm>
            <a:off x="7020000" y="1197000"/>
            <a:ext cx="1209600" cy="1047600"/>
          </a:xfrm>
          <a:prstGeom prst="rect">
            <a:avLst/>
          </a:prstGeom>
          <a:ln w="0">
            <a:noFill/>
          </a:ln>
        </p:spPr>
      </p:pic>
      <p:pic>
        <p:nvPicPr>
          <p:cNvPr id="227" name="Afbeelding 4" descr="parfum.jpg"/>
          <p:cNvPicPr/>
          <p:nvPr/>
        </p:nvPicPr>
        <p:blipFill>
          <a:blip r:embed="rId2"/>
          <a:stretch/>
        </p:blipFill>
        <p:spPr>
          <a:xfrm>
            <a:off x="5003640" y="2276640"/>
            <a:ext cx="2143440" cy="2143080"/>
          </a:xfrm>
          <a:prstGeom prst="rect">
            <a:avLst/>
          </a:prstGeom>
          <a:ln w="0">
            <a:noFill/>
          </a:ln>
        </p:spPr>
      </p:pic>
      <p:pic>
        <p:nvPicPr>
          <p:cNvPr id="228" name="Afbeelding 5" descr="honing.png"/>
          <p:cNvPicPr/>
          <p:nvPr/>
        </p:nvPicPr>
        <p:blipFill>
          <a:blip r:embed="rId3"/>
          <a:stretch/>
        </p:blipFill>
        <p:spPr>
          <a:xfrm>
            <a:off x="2268360" y="4005360"/>
            <a:ext cx="302904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4617b"/>
                </a:solidFill>
                <a:latin typeface="Calibri"/>
              </a:rPr>
              <a:t>Bs 2:</a:t>
            </a:r>
            <a:br>
              <a:rPr sz="4000"/>
            </a:br>
            <a:r>
              <a:rPr b="0" lang="nl-NL" sz="4000" spc="-1" strike="noStrike">
                <a:solidFill>
                  <a:srgbClr val="04617b"/>
                </a:solidFill>
                <a:latin typeface="Calibri"/>
              </a:rPr>
              <a:t>Bestuiving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Let op! Dit verhaal gaat over hoe een stuifmeelkorrel van de helmknop bij de stempel kom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Het verhaal geldt alleen als het planten van dezelfde soort zij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Pas als dit allemaal klopt dan spreken wij van bestuiving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Afbeelding 3" descr="bestuiving insect.png"/>
          <p:cNvPicPr/>
          <p:nvPr/>
        </p:nvPicPr>
        <p:blipFill>
          <a:blip r:embed="rId1"/>
          <a:stretch/>
        </p:blipFill>
        <p:spPr>
          <a:xfrm>
            <a:off x="3851280" y="4437000"/>
            <a:ext cx="2286000" cy="1847880"/>
          </a:xfrm>
          <a:prstGeom prst="rect">
            <a:avLst/>
          </a:prstGeom>
          <a:ln w="0">
            <a:noFill/>
          </a:ln>
        </p:spPr>
      </p:pic>
      <p:pic>
        <p:nvPicPr>
          <p:cNvPr id="232" name="Afbeelding 4" descr="kruisbestuiving en zelfbestuiving.jpg"/>
          <p:cNvPicPr/>
          <p:nvPr/>
        </p:nvPicPr>
        <p:blipFill>
          <a:blip r:embed="rId2"/>
          <a:stretch/>
        </p:blipFill>
        <p:spPr>
          <a:xfrm>
            <a:off x="5076720" y="260280"/>
            <a:ext cx="201636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Insectenbloemen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Kenmerken van insectenbloeme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Grote bloem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Gekleurde bloem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Ruiken lekker. (maken geurstoffe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Maken nect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De stuifmeelkorrels zijn ruw en plakkerig (hierdoor plakken ze beter aan insecten vas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Afbeelding 3" descr="bestuiving bloem.jpg"/>
          <p:cNvPicPr/>
          <p:nvPr/>
        </p:nvPicPr>
        <p:blipFill>
          <a:blip r:embed="rId1"/>
          <a:stretch/>
        </p:blipFill>
        <p:spPr>
          <a:xfrm>
            <a:off x="6300720" y="836640"/>
            <a:ext cx="20876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2T15:32:03Z</dcterms:created>
  <dc:creator>Pieter</dc:creator>
  <dc:description/>
  <dc:language>en-US</dc:language>
  <cp:lastModifiedBy>Pieter</cp:lastModifiedBy>
  <dcterms:modified xsi:type="dcterms:W3CDTF">2012-01-23T20:22:42Z</dcterms:modified>
  <cp:revision>21</cp:revision>
  <dc:subject/>
  <dc:title>Biologie voor Jou.</dc:title>
</cp:coreProperties>
</file>