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.png" ContentType="image/pn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6E8-1F6C-4BAE-BC92-7A56BDD2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DDA-4841-4130-892D-67C30CF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A24-0D28-4A3F-9C01-B5D7C193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CF8-1EEF-4E8C-8130-1BA058CA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AA4-E4E1-4AD9-80FB-CA2CB737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316-AE3E-4FB9-9540-23E1EFB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EA0-6354-4B5D-9C0E-AD6B2238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C8A-496C-4167-8322-EFEC7680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C32C-DADD-4E10-8E28-D152D74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ADD4-8AF9-45E1-9B4D-145DB3C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19A6-DBEA-486B-887E-652AA50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B67-4E12-4320-B814-7540387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6973-DB6B-4B03-865B-96B645A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7AD-09DE-4D32-8CFA-C8C8C74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5582-5BEB-4B7E-A566-F244A6E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5243-6F5E-4582-BADF-EEBB8F82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352B-1600-48CF-A6E8-B9A7C55B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768C-48F6-4712-9F94-3E8E3C36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235A-B271-45EA-AF0E-9507AE4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7942-5166-4259-A37A-4D4AA19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F0B2-BAEE-4192-8839-D35DE3A2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E9AF-46BD-4B46-BEFC-646DF12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796-836E-4A46-AF92-7D77261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8198-075A-4E3E-BDAD-BE14528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73AA-8D38-43F6-8DDC-29D9A6B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5236-EA40-450C-B8B0-6BEA2BB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18A7-5DFA-4EAA-AF8F-BD8D611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4001-F46B-4935-914C-A91332D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86D6-2F94-40DE-A6BF-F55C2025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264C-5753-4FE5-BF9C-79AC4D5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03A2-6C75-4CE2-AF77-AFF699DE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AFE4-02F4-464A-A057-17703D3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1E89-ADD7-4B51-AF5D-F6506FF1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AF7-35F0-4AFC-AAA9-5024DB9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8F97-BCC4-4722-988E-058833F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26DC-BA97-4F91-B4D3-82D3FEB5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7DF0-3F94-499D-AFD1-DBF0D94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04EE-2B21-4E8B-BCE5-9CED0D0C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748F-75B7-469C-B5B2-FE2D492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63F0-F6D0-4906-8C1E-63A2DA4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7E59-793E-41F5-8701-E4D933A4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27EE-A0C4-492C-BADF-6576A78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1DA4-1861-4CCB-9A2E-E30571C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92F-9F83-4338-969D-C18BCCD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EA9-798A-411F-A67A-5AC75A0A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37C-907C-43BC-8FF1-4555354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E24-C7C9-41C9-803A-22CC319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7A5-CA38-41D3-A3D7-F91FED2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FF3-4391-4848-B19B-D7747313422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68E-8C8E-41E5-8FA1-3DD06828FC0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D5E-656A-4BB9-AFEC-340FB254F0F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DAD4-543E-4DC1-ABA4-1C398B10660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VMBO-B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Thema 7: Bloemen, vruchten, zad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Afbeelding 3" descr="planten1.jpg"/>
          <p:cNvPicPr/>
          <p:nvPr/>
        </p:nvPicPr>
        <p:blipFill>
          <a:blip r:embed="rId2"/>
          <a:stretch/>
        </p:blipFill>
        <p:spPr>
          <a:xfrm>
            <a:off x="395280" y="69228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Afbeelding 4" descr="vruchten.jpg"/>
          <p:cNvPicPr/>
          <p:nvPr/>
        </p:nvPicPr>
        <p:blipFill>
          <a:blip r:embed="rId3"/>
          <a:stretch/>
        </p:blipFill>
        <p:spPr>
          <a:xfrm>
            <a:off x="395280" y="263700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199" name="Afbeelding 5" descr="zaden.jpg"/>
          <p:cNvPicPr/>
          <p:nvPr/>
        </p:nvPicPr>
        <p:blipFill>
          <a:blip r:embed="rId4"/>
          <a:stretch/>
        </p:blipFill>
        <p:spPr>
          <a:xfrm>
            <a:off x="395280" y="4292640"/>
            <a:ext cx="2660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Windbloem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412640"/>
            <a:ext cx="64184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Kenmerken van windbloeme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Klein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speciale kleur bloemen, meestal gro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lekkere ge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en nect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e lange meeldra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aken heel veel stuifmeelkorr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uifmeelkorrels zijn glad en licht zodat ze gemakkelijk met de wind mee zwev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empel is vaak erg groot (een soort handschoen/veer voor het opvangen van de stuifmeelkorrel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Afbeelding 3" descr="windbloem.jpg"/>
          <p:cNvPicPr/>
          <p:nvPr/>
        </p:nvPicPr>
        <p:blipFill>
          <a:blip r:embed="rId1"/>
          <a:stretch/>
        </p:blipFill>
        <p:spPr>
          <a:xfrm>
            <a:off x="7380360" y="907920"/>
            <a:ext cx="1584360" cy="174492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bloeiend gras.png"/>
          <p:cNvPicPr/>
          <p:nvPr/>
        </p:nvPicPr>
        <p:blipFill>
          <a:blip r:embed="rId2"/>
          <a:stretch/>
        </p:blipFill>
        <p:spPr>
          <a:xfrm>
            <a:off x="6372360" y="270828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6" descr="bloem gras.jpg"/>
          <p:cNvPicPr/>
          <p:nvPr/>
        </p:nvPicPr>
        <p:blipFill>
          <a:blip r:embed="rId3"/>
          <a:stretch/>
        </p:blipFill>
        <p:spPr>
          <a:xfrm>
            <a:off x="7020000" y="4508640"/>
            <a:ext cx="1266840" cy="113652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7" descr="windbloem stuifmeel bestuiving.jpg"/>
          <p:cNvPicPr/>
          <p:nvPr/>
        </p:nvPicPr>
        <p:blipFill>
          <a:blip r:embed="rId4"/>
          <a:stretch/>
        </p:blipFill>
        <p:spPr>
          <a:xfrm>
            <a:off x="5003640" y="189000"/>
            <a:ext cx="2229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3: Bevruchting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62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r is een duidelijk verschil tussen bestuiving en bevrucht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bestuiving gaat het erom dat de stuifmeelkorrels van de ene naar de andere plant gaan. (wind, insect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bevruchting moeten de stuifmeelkorrels naar de eicellen vervoerd worden (stuifmeelbu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Afbeelding 4" descr="bevruchting doorsnede stamper.jpg"/>
          <p:cNvPicPr/>
          <p:nvPr/>
        </p:nvPicPr>
        <p:blipFill>
          <a:blip r:embed="rId1"/>
          <a:stretch/>
        </p:blipFill>
        <p:spPr>
          <a:xfrm>
            <a:off x="6227640" y="1268280"/>
            <a:ext cx="25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Wat gebeurt er bij de bevruchting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stuifmeelkorrel komt op de stempel terech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stuifmeelkorrel maakt een buis door de stijl heen naar de eicellen to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kern van de stuifmeelkorrel en de kern van de eicel gaan samen (dit is bevruchting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Uit de bevruchte eicel ontstaat een zaadje (de baby van de plan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Afbeelding 4" descr="eicel en zaadcel bevruchting.jpg"/>
          <p:cNvPicPr/>
          <p:nvPr/>
        </p:nvPicPr>
        <p:blipFill>
          <a:blip r:embed="rId1"/>
          <a:stretch/>
        </p:blipFill>
        <p:spPr>
          <a:xfrm>
            <a:off x="3419640" y="4365720"/>
            <a:ext cx="216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et zaa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het zaad zit altijd voedsel en een kiemplantje (kiemen = groei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is de bedoeling dat het zaad niet te dicht bij de ouderplant gaat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ouderplant moet dus een manier bedenken om zijn kinderen zover mogelijk bij hem/haarzelf weg te krijg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Afbeelding 4" descr="appel.jpg"/>
          <p:cNvPicPr/>
          <p:nvPr/>
        </p:nvPicPr>
        <p:blipFill>
          <a:blip r:embed="rId1"/>
          <a:stretch/>
        </p:blipFill>
        <p:spPr>
          <a:xfrm>
            <a:off x="5651640" y="40464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251" name="Afbeelding 5" descr="eikel.jpg"/>
          <p:cNvPicPr/>
          <p:nvPr/>
        </p:nvPicPr>
        <p:blipFill>
          <a:blip r:embed="rId2"/>
          <a:stretch/>
        </p:blipFill>
        <p:spPr>
          <a:xfrm>
            <a:off x="4284720" y="4724280"/>
            <a:ext cx="180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4: Vruchten en zad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934640"/>
            <a:ext cx="6491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vrucht zit om de zaden heen en ontstaat uit het vruchtbegins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zaden zijn de baby’s van de pl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ls je een zaad openmaakt zie je daarin een heel klein plantje; dit noemen wij de ki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Verder zie je in het zaad: de zaadlobben, dit is het voedsel voor het kiemplantje om te gaan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Afbeelding 3" descr="kiemplantje1.jpg"/>
          <p:cNvPicPr/>
          <p:nvPr/>
        </p:nvPicPr>
        <p:blipFill>
          <a:blip r:embed="rId1"/>
          <a:stretch/>
        </p:blipFill>
        <p:spPr>
          <a:xfrm>
            <a:off x="6443640" y="9810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Na de bevruchting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kroonbladeren hebben hun werk gedaan en vallen era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Ook de meeldraden en kelkbladeren hoeven niets meer te doen en verschrompel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ruchtbeginsel begint te groe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e zaadbeginsels worden zaadjes gemaak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Afbeelding 5" descr="bedektzadige.jpg"/>
          <p:cNvPicPr/>
          <p:nvPr/>
        </p:nvPicPr>
        <p:blipFill>
          <a:blip r:embed="rId1"/>
          <a:stretch/>
        </p:blipFill>
        <p:spPr>
          <a:xfrm>
            <a:off x="3635280" y="4724280"/>
            <a:ext cx="16574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ruchtbeginse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ruchtbeginsel kan er na de bevruchting verschillend uitz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hangt af van de soort pl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een appel wordt het vruchtbeginsel erg dik (wij eten dit gedeelte op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een boon blijft het vruchtbeginsel veel dunner, het beschermt de zaad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Afbeelding 3" descr="vruchtbeginsel.jpg"/>
          <p:cNvPicPr/>
          <p:nvPr/>
        </p:nvPicPr>
        <p:blipFill>
          <a:blip r:embed="rId1"/>
          <a:stretch/>
        </p:blipFill>
        <p:spPr>
          <a:xfrm>
            <a:off x="5508720" y="18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Extra Bs 5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Verspreiding van vruchten en zad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55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Zoals jullie weten heeft elke plant zonlicht en water nodig. De plant haalt belangrijke bouwstoffen uit de gro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nneer een plant zijn zaadjes niet verspreid moet hij/zij gaan vechten met zijn kinderen want een plant kan niet zomaar weglopen naar een betere ple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Afbeelding 3" descr="schaduw boom.jpg"/>
          <p:cNvPicPr/>
          <p:nvPr/>
        </p:nvPicPr>
        <p:blipFill>
          <a:blip r:embed="rId1"/>
          <a:stretch/>
        </p:blipFill>
        <p:spPr>
          <a:xfrm>
            <a:off x="6084720" y="2349360"/>
            <a:ext cx="26100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Manieren van verspreiding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kan een plant zijn kinderen verspreiden? Dit kan op verschillende manier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e plant z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e w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oor dier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Afbeelding 3" descr="zaden wegschieten.jpg"/>
          <p:cNvPicPr/>
          <p:nvPr/>
        </p:nvPicPr>
        <p:blipFill>
          <a:blip r:embed="rId1"/>
          <a:stretch/>
        </p:blipFill>
        <p:spPr>
          <a:xfrm>
            <a:off x="4859280" y="2421000"/>
            <a:ext cx="1862280" cy="2430360"/>
          </a:xfrm>
          <a:prstGeom prst="rect">
            <a:avLst/>
          </a:prstGeom>
          <a:ln w="0">
            <a:noFill/>
          </a:ln>
        </p:spPr>
      </p:pic>
      <p:pic>
        <p:nvPicPr>
          <p:cNvPr id="267" name="Afbeelding 4" descr="paardenbloem uitgebloeid.jpg"/>
          <p:cNvPicPr/>
          <p:nvPr/>
        </p:nvPicPr>
        <p:blipFill>
          <a:blip r:embed="rId2"/>
          <a:stretch/>
        </p:blipFill>
        <p:spPr>
          <a:xfrm>
            <a:off x="6875640" y="2421000"/>
            <a:ext cx="1873080" cy="2448000"/>
          </a:xfrm>
          <a:prstGeom prst="rect">
            <a:avLst/>
          </a:prstGeom>
          <a:ln w="0">
            <a:noFill/>
          </a:ln>
        </p:spPr>
      </p:pic>
      <p:pic>
        <p:nvPicPr>
          <p:cNvPr id="268" name="Afbeelding 6" descr="eekhoorn.jpg"/>
          <p:cNvPicPr/>
          <p:nvPr/>
        </p:nvPicPr>
        <p:blipFill>
          <a:blip r:embed="rId3"/>
          <a:stretch/>
        </p:blipFill>
        <p:spPr>
          <a:xfrm>
            <a:off x="5796000" y="4581360"/>
            <a:ext cx="252396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e plant zelf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ommige planten schieten hun zaadjes w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voorbeeld de klaproos. De naam zegt het al de roos klapt open en gooit dan zijn zaadjes w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Afbeelding 3" descr="klaproos zaad.jpg"/>
          <p:cNvPicPr/>
          <p:nvPr/>
        </p:nvPicPr>
        <p:blipFill>
          <a:blip r:embed="rId1"/>
          <a:stretch/>
        </p:blipFill>
        <p:spPr>
          <a:xfrm>
            <a:off x="1476360" y="3573360"/>
            <a:ext cx="1954080" cy="1379520"/>
          </a:xfrm>
          <a:prstGeom prst="rect">
            <a:avLst/>
          </a:prstGeom>
          <a:ln w="0">
            <a:noFill/>
          </a:ln>
        </p:spPr>
      </p:pic>
      <p:pic>
        <p:nvPicPr>
          <p:cNvPr id="272" name="Afbeelding 4" descr="klaproos zaaddoos.jpg"/>
          <p:cNvPicPr/>
          <p:nvPr/>
        </p:nvPicPr>
        <p:blipFill>
          <a:blip r:embed="rId2"/>
          <a:stretch/>
        </p:blipFill>
        <p:spPr>
          <a:xfrm>
            <a:off x="4572000" y="3645000"/>
            <a:ext cx="2260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4617b"/>
                </a:solidFill>
                <a:latin typeface="Calibri"/>
              </a:rPr>
              <a:t>Thema 7: </a:t>
            </a:r>
            <a:br>
              <a:rPr sz="3600"/>
            </a:br>
            <a:r>
              <a:rPr b="0" lang="nl-NL" sz="3600" spc="-1" strike="noStrike">
                <a:solidFill>
                  <a:srgbClr val="04617b"/>
                </a:solidFill>
                <a:latin typeface="Calibri"/>
              </a:rPr>
              <a:t>Bloemen, vruchten, zaden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934640"/>
            <a:ext cx="62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it thema kijken wij waarom planten bloemen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een bloem zijn stuifmeelkorrels verspreid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zaden worden gemaak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oe de plant zijn zaden verspreid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Afbeelding 3" descr="kroonblad.jpg"/>
          <p:cNvPicPr/>
          <p:nvPr/>
        </p:nvPicPr>
        <p:blipFill>
          <a:blip r:embed="rId1"/>
          <a:stretch/>
        </p:blipFill>
        <p:spPr>
          <a:xfrm>
            <a:off x="6804000" y="1125360"/>
            <a:ext cx="1362240" cy="1019520"/>
          </a:xfrm>
          <a:prstGeom prst="rect">
            <a:avLst/>
          </a:prstGeom>
          <a:ln w="0">
            <a:noFill/>
          </a:ln>
        </p:spPr>
      </p:pic>
      <p:pic>
        <p:nvPicPr>
          <p:cNvPr id="203" name="Afbeelding 4" descr="windbloem stuifmeel bestuiving.jpg"/>
          <p:cNvPicPr/>
          <p:nvPr/>
        </p:nvPicPr>
        <p:blipFill>
          <a:blip r:embed="rId2"/>
          <a:stretch/>
        </p:blipFill>
        <p:spPr>
          <a:xfrm>
            <a:off x="6732720" y="2133720"/>
            <a:ext cx="2012760" cy="115092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6" descr="zaden wegschieten.jpg"/>
          <p:cNvPicPr/>
          <p:nvPr/>
        </p:nvPicPr>
        <p:blipFill>
          <a:blip r:embed="rId3"/>
          <a:stretch/>
        </p:blipFill>
        <p:spPr>
          <a:xfrm>
            <a:off x="6516720" y="4221000"/>
            <a:ext cx="1428840" cy="1781280"/>
          </a:xfrm>
          <a:prstGeom prst="rect">
            <a:avLst/>
          </a:prstGeom>
          <a:ln w="0">
            <a:noFill/>
          </a:ln>
        </p:spPr>
      </p:pic>
      <p:pic>
        <p:nvPicPr>
          <p:cNvPr id="205" name="Afbeelding 7" descr="eikel.jpg"/>
          <p:cNvPicPr/>
          <p:nvPr/>
        </p:nvPicPr>
        <p:blipFill>
          <a:blip r:embed="rId4"/>
          <a:stretch/>
        </p:blipFill>
        <p:spPr>
          <a:xfrm>
            <a:off x="7236000" y="3141720"/>
            <a:ext cx="143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e wind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lijkt hetzelfde als bij wind</a:t>
            </a:r>
            <a:r>
              <a:rPr b="0" lang="nl-NL" sz="2600" spc="-1" strike="noStrike" u="sng">
                <a:solidFill>
                  <a:srgbClr val="000000"/>
                </a:solidFill>
                <a:uFillTx/>
                <a:latin typeface="Constantia"/>
              </a:rPr>
              <a:t>bestuiving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maar toen werden de </a:t>
            </a:r>
            <a:r>
              <a:rPr b="1" i="1" lang="nl-NL" sz="2600" spc="-1" strike="noStrike">
                <a:solidFill>
                  <a:srgbClr val="000000"/>
                </a:solidFill>
                <a:latin typeface="Constantia"/>
              </a:rPr>
              <a:t>stuifmeelkorrels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door de wind vervoe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Je kunt de wind dus ook gebruiken voor het verspreiden van zaad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goed voorbeeld hiervan is de paardenbloem met zijn pluisj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Afbeelding 3" descr="paardenbloem pluis.png"/>
          <p:cNvPicPr/>
          <p:nvPr/>
        </p:nvPicPr>
        <p:blipFill>
          <a:blip r:embed="rId1"/>
          <a:stretch/>
        </p:blipFill>
        <p:spPr>
          <a:xfrm>
            <a:off x="3419640" y="443700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spreiding door dier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t kan zelfs op vele verschillende manier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ieren eten de zaden op en poepen ze later weer uit. (bijv. bes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zaadjes kunnen aan de dieren blijven plakken als ze langs de plant lopen (bijv. kleefkrui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Afbeelding 3" descr="vogel en bes.jpg"/>
          <p:cNvPicPr/>
          <p:nvPr/>
        </p:nvPicPr>
        <p:blipFill>
          <a:blip r:embed="rId1"/>
          <a:stretch/>
        </p:blipFill>
        <p:spPr>
          <a:xfrm>
            <a:off x="3348000" y="4221000"/>
            <a:ext cx="2303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Extra Bs 6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Stuifmeel onder de microscoop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6059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Je kunt aan de stuifmeelkorrel zien of het afkomstig is van een windbloem of een insectenblo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Windbloem: het stuifmeel is klein, licht en gl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Insectenbloem: het stuifmeel is ruw en kleveri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nstantia"/>
              </a:rPr>
              <a:t>Soms je kun je zelfs aan de stuifmeelkorrel zien van welke plant het afkomstig 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Afbeelding 3" descr="stuifmeelkorrels.jpg"/>
          <p:cNvPicPr/>
          <p:nvPr/>
        </p:nvPicPr>
        <p:blipFill>
          <a:blip r:embed="rId1"/>
          <a:stretch/>
        </p:blipFill>
        <p:spPr>
          <a:xfrm>
            <a:off x="6443640" y="1989000"/>
            <a:ext cx="2376360" cy="2160720"/>
          </a:xfrm>
          <a:prstGeom prst="rect">
            <a:avLst/>
          </a:prstGeom>
          <a:ln w="0">
            <a:noFill/>
          </a:ln>
        </p:spPr>
      </p:pic>
      <p:pic>
        <p:nvPicPr>
          <p:cNvPr id="282" name="Afbeelding 4" descr="verschillende stuifmeelkorrels.png"/>
          <p:cNvPicPr/>
          <p:nvPr/>
        </p:nvPicPr>
        <p:blipFill>
          <a:blip r:embed="rId2"/>
          <a:stretch/>
        </p:blipFill>
        <p:spPr>
          <a:xfrm>
            <a:off x="6443640" y="4149720"/>
            <a:ext cx="237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1: De bouw van bloemen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bloem bestaat uit verschillend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kroonbladeren (meestal mooie, gekleurde bladere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amper (het vrouwelijke deel van de bloe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meeldraden (het mannelijk deel van de bloe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kelkbladeren (de kleine groene blaadjes onder de bloemkroo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Afbeelding 3" descr="bloem1.jpg"/>
          <p:cNvPicPr/>
          <p:nvPr/>
        </p:nvPicPr>
        <p:blipFill>
          <a:blip r:embed="rId1"/>
          <a:stretch/>
        </p:blipFill>
        <p:spPr>
          <a:xfrm>
            <a:off x="611280" y="429264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209" name="Afbeelding 4" descr="stamper.jpg"/>
          <p:cNvPicPr/>
          <p:nvPr/>
        </p:nvPicPr>
        <p:blipFill>
          <a:blip r:embed="rId2"/>
          <a:stretch/>
        </p:blipFill>
        <p:spPr>
          <a:xfrm>
            <a:off x="2916360" y="4653000"/>
            <a:ext cx="1038240" cy="1285920"/>
          </a:xfrm>
          <a:prstGeom prst="rect">
            <a:avLst/>
          </a:prstGeom>
          <a:ln w="0">
            <a:noFill/>
          </a:ln>
        </p:spPr>
      </p:pic>
      <p:pic>
        <p:nvPicPr>
          <p:cNvPr id="210" name="Afbeelding 5" descr="meeldraden.jpg"/>
          <p:cNvPicPr/>
          <p:nvPr/>
        </p:nvPicPr>
        <p:blipFill>
          <a:blip r:embed="rId3"/>
          <a:stretch/>
        </p:blipFill>
        <p:spPr>
          <a:xfrm>
            <a:off x="3780000" y="4076640"/>
            <a:ext cx="1584000" cy="1120680"/>
          </a:xfrm>
          <a:prstGeom prst="rect">
            <a:avLst/>
          </a:prstGeom>
          <a:ln w="0">
            <a:noFill/>
          </a:ln>
        </p:spPr>
      </p:pic>
      <p:pic>
        <p:nvPicPr>
          <p:cNvPr id="211" name="Afbeelding 7" descr="kelkbladeren.png"/>
          <p:cNvPicPr/>
          <p:nvPr/>
        </p:nvPicPr>
        <p:blipFill>
          <a:blip r:embed="rId4"/>
          <a:stretch/>
        </p:blipFill>
        <p:spPr>
          <a:xfrm>
            <a:off x="5292720" y="4005360"/>
            <a:ext cx="19908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kroonblader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Zijn meestal groot en mooi gekleurd om insecten te lokken (voor de bestuiving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oms zijn deze kroonbladeren juist erg klein en groen gekleurd (bijv. bij gra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Afbeelding 3" descr="bloem.jpg"/>
          <p:cNvPicPr/>
          <p:nvPr/>
        </p:nvPicPr>
        <p:blipFill>
          <a:blip r:embed="rId1"/>
          <a:stretch/>
        </p:blipFill>
        <p:spPr>
          <a:xfrm>
            <a:off x="1403280" y="3933720"/>
            <a:ext cx="1513080" cy="1389240"/>
          </a:xfrm>
          <a:prstGeom prst="rect">
            <a:avLst/>
          </a:prstGeom>
          <a:ln w="0">
            <a:noFill/>
          </a:ln>
        </p:spPr>
      </p:pic>
      <p:pic>
        <p:nvPicPr>
          <p:cNvPr id="215" name="Afbeelding 4" descr="gras.jpg"/>
          <p:cNvPicPr/>
          <p:nvPr/>
        </p:nvPicPr>
        <p:blipFill>
          <a:blip r:embed="rId2"/>
          <a:stretch/>
        </p:blipFill>
        <p:spPr>
          <a:xfrm>
            <a:off x="4788000" y="3933720"/>
            <a:ext cx="1439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meeldrad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934640"/>
            <a:ext cx="6418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meeldraden maken stuifmeelkorrels (dit is de ene helft om zaad te mak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meeldraden bestaan uit twe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mdraad (een soort stengeltj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lmknop (hierin worden de stuifmeelkorrels gemaakt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Afbeelding 3" descr="meeldraden.jpg"/>
          <p:cNvPicPr/>
          <p:nvPr/>
        </p:nvPicPr>
        <p:blipFill>
          <a:blip r:embed="rId1"/>
          <a:stretch/>
        </p:blipFill>
        <p:spPr>
          <a:xfrm>
            <a:off x="5508720" y="47628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219" name="Afbeelding 4" descr="meeldraad onderdelen.jpg"/>
          <p:cNvPicPr/>
          <p:nvPr/>
        </p:nvPicPr>
        <p:blipFill>
          <a:blip r:embed="rId2"/>
          <a:stretch/>
        </p:blipFill>
        <p:spPr>
          <a:xfrm>
            <a:off x="6732720" y="2276640"/>
            <a:ext cx="165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fbeelding 4" descr="stamper onderdelen.jpg"/>
          <p:cNvPicPr/>
          <p:nvPr/>
        </p:nvPicPr>
        <p:blipFill>
          <a:blip r:embed="rId1"/>
          <a:stretch/>
        </p:blipFill>
        <p:spPr>
          <a:xfrm>
            <a:off x="5508720" y="2492280"/>
            <a:ext cx="3490920" cy="2298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e stamper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6130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In de stamper zitten de eicellen. Het andere deel om zaadjes te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De stamper bestaat uit drie onderdel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empel (een plakkerig uiteinde van de stamper voor het opvangen van de stuifmeelkorre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ijl (ook weer een soort stengeltj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et vruchtbeginsel (hierin zitten de eicellen (zaadbeginsels) die bij bevruchting uitgroeien tot zaad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Afbeelding 3" descr="stamper.jpg"/>
          <p:cNvPicPr/>
          <p:nvPr/>
        </p:nvPicPr>
        <p:blipFill>
          <a:blip r:embed="rId2"/>
          <a:stretch/>
        </p:blipFill>
        <p:spPr>
          <a:xfrm>
            <a:off x="6227640" y="476280"/>
            <a:ext cx="1038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oe lok je een insec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rote, gekleurde bloem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en lekkere geur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Nectar (= zoet sap) mak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Afbeelding 3" descr="bloem1.jpg"/>
          <p:cNvPicPr/>
          <p:nvPr/>
        </p:nvPicPr>
        <p:blipFill>
          <a:blip r:embed="rId1"/>
          <a:stretch/>
        </p:blipFill>
        <p:spPr>
          <a:xfrm>
            <a:off x="7020000" y="119700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227" name="Afbeelding 4" descr="parfum.jpg"/>
          <p:cNvPicPr/>
          <p:nvPr/>
        </p:nvPicPr>
        <p:blipFill>
          <a:blip r:embed="rId2"/>
          <a:stretch/>
        </p:blipFill>
        <p:spPr>
          <a:xfrm>
            <a:off x="5003640" y="227664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Afbeelding 5" descr="honing.png"/>
          <p:cNvPicPr/>
          <p:nvPr/>
        </p:nvPicPr>
        <p:blipFill>
          <a:blip r:embed="rId3"/>
          <a:stretch/>
        </p:blipFill>
        <p:spPr>
          <a:xfrm>
            <a:off x="2268360" y="4005360"/>
            <a:ext cx="30290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s 2:</a:t>
            </a:r>
            <a:br>
              <a:rPr sz="4000"/>
            </a:br>
            <a:r>
              <a:rPr b="0" lang="nl-NL" sz="4000" spc="-1" strike="noStrike">
                <a:solidFill>
                  <a:srgbClr val="04617b"/>
                </a:solidFill>
                <a:latin typeface="Calibri"/>
              </a:rPr>
              <a:t>Bestuiving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et op! Dit verhaal gaat over hoe een stuifmeelkorrel van de helmknop bij de stempel kom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et verhaal geldt alleen als het planten van dezelfde soort zij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as als dit allemaal klopt dan spreken wij van bestuiv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Afbeelding 3" descr="bestuiving insect.png"/>
          <p:cNvPicPr/>
          <p:nvPr/>
        </p:nvPicPr>
        <p:blipFill>
          <a:blip r:embed="rId1"/>
          <a:stretch/>
        </p:blipFill>
        <p:spPr>
          <a:xfrm>
            <a:off x="3851280" y="443700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Afbeelding 4" descr="kruisbestuiving en zelfbestuiving.jpg"/>
          <p:cNvPicPr/>
          <p:nvPr/>
        </p:nvPicPr>
        <p:blipFill>
          <a:blip r:embed="rId2"/>
          <a:stretch/>
        </p:blipFill>
        <p:spPr>
          <a:xfrm>
            <a:off x="5076720" y="260280"/>
            <a:ext cx="2016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Insectenbloeme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Kenmerken van insectenbloem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rot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Gekleurde bloem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Ruiken lekker. (maken geurstoffe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aken nect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e stuifmeelkorrels zijn ruw en plakkerig (hierdoor plakken ze beter aan insecten va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Afbeelding 3" descr="bestuiving bloem.jpg"/>
          <p:cNvPicPr/>
          <p:nvPr/>
        </p:nvPicPr>
        <p:blipFill>
          <a:blip r:embed="rId1"/>
          <a:stretch/>
        </p:blipFill>
        <p:spPr>
          <a:xfrm>
            <a:off x="6300720" y="83664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5:32:03Z</dcterms:created>
  <dc:creator>Pieter</dc:creator>
  <dc:description/>
  <dc:language>en-US</dc:language>
  <cp:lastModifiedBy>Pieter</cp:lastModifiedBy>
  <dcterms:modified xsi:type="dcterms:W3CDTF">2012-01-23T20:22:42Z</dcterms:modified>
  <cp:revision>21</cp:revision>
  <dc:subject/>
  <dc:title>Biologie voor Jou.</dc:title>
</cp:coreProperties>
</file>