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2.docx" ContentType="application/vnd.openxmlformats-officedocument.wordprocessingml.document"/>
  <Override PartName="/ppt/embeddings/oleObject6.bin" ContentType="application/vnd.openxmlformats-officedocument.oleObject"/>
  <Override PartName="/ppt/embeddings/oleObject1.docx" ContentType="application/vnd.openxmlformats-officedocument.wordprocessingml.document"/>
  <Override PartName="/ppt/media/image59.jpeg" ContentType="image/jpeg"/>
  <Override PartName="/ppt/media/image6.png" ContentType="image/png"/>
  <Override PartName="/ppt/media/image83.png" ContentType="image/png"/>
  <Override PartName="/ppt/media/image55.jpeg" ContentType="image/jpeg"/>
  <Override PartName="/ppt/media/image43.png" ContentType="image/png"/>
  <Override PartName="/ppt/media/image58.jpeg" ContentType="image/jpeg"/>
  <Override PartName="/ppt/media/image73.png" ContentType="image/png"/>
  <Override PartName="/ppt/media/image53.png" ContentType="image/png"/>
  <Override PartName="/ppt/media/image56.jpeg" ContentType="image/jpeg"/>
  <Override PartName="/ppt/media/image52.png" ContentType="image/png"/>
  <Override PartName="/ppt/media/image47.jpeg" ContentType="image/jpeg"/>
  <Override PartName="/ppt/media/image46.jpeg" ContentType="image/jpeg"/>
  <Override PartName="/ppt/media/image80.wmf" ContentType="image/x-wmf"/>
  <Override PartName="/ppt/media/image45.jpeg" ContentType="image/jpeg"/>
  <Override PartName="/ppt/media/image48.png" ContentType="image/png"/>
  <Override PartName="/ppt/media/image44.jpeg" ContentType="image/jpeg"/>
  <Override PartName="/ppt/media/image38.png" ContentType="image/png"/>
  <Override PartName="/ppt/media/image57.jpeg" ContentType="image/jpeg"/>
  <Override PartName="/ppt/media/image42.png" ContentType="image/png"/>
  <Override PartName="/ppt/media/image41.png" ContentType="image/png"/>
  <Override PartName="/ppt/media/image40.png" ContentType="image/png"/>
  <Override PartName="/ppt/media/image37.jpeg" ContentType="image/jpeg"/>
  <Override PartName="/ppt/media/image20.png" ContentType="image/png"/>
  <Override PartName="/ppt/media/image30.png" ContentType="image/png"/>
  <Override PartName="/ppt/media/image98.wmf" ContentType="image/x-wmf"/>
  <Override PartName="/ppt/media/image8.png" ContentType="image/png"/>
  <Override PartName="/ppt/media/image23.jpeg" ContentType="image/jpeg"/>
  <Override PartName="/ppt/media/image54.png" ContentType="image/png"/>
  <Override PartName="/ppt/media/image76.jpeg" ContentType="image/jpeg"/>
  <Override PartName="/ppt/media/image14.jpeg" ContentType="image/jpeg"/>
  <Override PartName="/ppt/media/image7.png" ContentType="image/png"/>
  <Override PartName="/ppt/media/image39.png" ContentType="image/png"/>
  <Override PartName="/ppt/media/image64.jpeg" ContentType="image/jpeg"/>
  <Override PartName="/ppt/media/image22.jpeg" ContentType="image/jpeg"/>
  <Override PartName="/ppt/media/image75.png" ContentType="image/png"/>
  <Override PartName="/ppt/media/image51.wmf" ContentType="image/x-wmf"/>
  <Override PartName="/ppt/media/image29.png" ContentType="image/png"/>
  <Override PartName="/ppt/media/image63.jpeg" ContentType="image/jpeg"/>
  <Override PartName="/ppt/media/image94.png" ContentType="image/png"/>
  <Override PartName="/ppt/media/image32.png" ContentType="image/png"/>
  <Override PartName="/ppt/media/image72.wmf" ContentType="image/x-wmf"/>
  <Override PartName="/ppt/media/image25.jpeg" ContentType="image/jpeg"/>
  <Override PartName="/ppt/media/image60.png" ContentType="image/png"/>
  <Override PartName="/ppt/media/image97.png" ContentType="image/png"/>
  <Override PartName="/ppt/media/image90.png" ContentType="image/png"/>
  <Override PartName="/ppt/media/image11.png" ContentType="image/png"/>
  <Override PartName="/ppt/media/image82.wmf" ContentType="image/x-wmf"/>
  <Override PartName="/ppt/media/image21.png" ContentType="image/png"/>
  <Override PartName="/ppt/media/image89.wmf" ContentType="image/x-wmf"/>
  <Override PartName="/ppt/media/image67.jpeg" ContentType="image/jpeg"/>
  <Override PartName="/ppt/media/image91.wmf" ContentType="image/x-wmf"/>
  <Override PartName="/ppt/media/image88.png" ContentType="image/png"/>
  <Override PartName="/ppt/media/image69.jpeg" ContentType="image/jpeg"/>
  <Override PartName="/ppt/media/image66.jpeg" ContentType="image/jpeg"/>
  <Override PartName="/ppt/media/image81.wmf" ContentType="image/x-wmf"/>
  <Override PartName="/ppt/media/image78.png" ContentType="image/png"/>
  <Override PartName="/ppt/media/image70.jpeg" ContentType="image/jpeg"/>
  <Override PartName="/ppt/media/image5.png" ContentType="image/png"/>
  <Override PartName="/ppt/media/image35.png" ContentType="image/png"/>
  <Override PartName="/ppt/media/image84.wmf" ContentType="image/x-wmf"/>
  <Override PartName="/ppt/media/image13.jpeg" ContentType="image/jpeg"/>
  <Override PartName="/ppt/media/image24.jpeg" ContentType="image/jpeg"/>
  <Override PartName="/ppt/media/image61.png" ContentType="image/png"/>
  <Override PartName="/ppt/media/image79.png" ContentType="image/png"/>
  <Override PartName="/ppt/media/image68.jpeg" ContentType="image/jpeg"/>
  <Override PartName="/ppt/media/image1.png" ContentType="image/png"/>
  <Override PartName="/ppt/media/image31.png" ContentType="image/png"/>
  <Override PartName="/ppt/media/image96.png" ContentType="image/png"/>
  <Override PartName="/ppt/media/image95.wmf" ContentType="image/x-wmf"/>
  <Override PartName="/ppt/media/image93.wmf" ContentType="image/x-wmf"/>
  <Override PartName="/ppt/media/image86.png" ContentType="image/png"/>
  <Override PartName="/ppt/media/image85.wmf" ContentType="image/x-wmf"/>
  <Override PartName="/ppt/media/image74.png" ContentType="image/png"/>
  <Override PartName="/ppt/media/image62.png" ContentType="image/png"/>
  <Override PartName="/ppt/media/image18.jpeg" ContentType="image/jpeg"/>
  <Override PartName="/ppt/media/image16.jpeg" ContentType="image/jpeg"/>
  <Override PartName="/ppt/media/image77.wmf" ContentType="image/x-wmf"/>
  <Override PartName="/ppt/media/image15.jpeg" ContentType="image/jpeg"/>
  <Override PartName="/ppt/media/image49.png" ContentType="image/png"/>
  <Override PartName="/ppt/media/image71.wmf" ContentType="image/x-wmf"/>
  <Override PartName="/ppt/media/image65.jpeg" ContentType="image/jpeg"/>
  <Override PartName="/ppt/media/image2.wmf" ContentType="image/x-wmf"/>
  <Override PartName="/ppt/media/image26.png" ContentType="image/png"/>
  <Override PartName="/ppt/media/image10.png" ContentType="image/png"/>
  <Override PartName="/ppt/media/image87.wmf" ContentType="image/x-wmf"/>
  <Override PartName="/ppt/media/image17.jpeg" ContentType="image/jpe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50.wmf" ContentType="image/x-wmf"/>
  <Override PartName="/ppt/media/image28.png" ContentType="image/png"/>
  <Override PartName="/ppt/media/image19.jpeg" ContentType="image/jpeg"/>
  <Override PartName="/ppt/media/image9.jpeg" ContentType="image/jpeg"/>
  <Override PartName="/ppt/media/image3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61BF-008D-40A2-AD01-1DD8736E6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566720" y="42577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6644-FC60-496A-9BA7-0334FA4A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98096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875D-FDC6-4F3F-B0F5-AE83361CB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81960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7248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56672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81960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7248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C71A-A289-4D5A-8531-1AB5C5693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85182-1440-4428-9DC5-3DAF21A2E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EA44-C1CE-4688-B5FE-3B259EFDE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8AD60-677E-4A78-BA08-9B2C70C3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DC75-600E-4356-92A5-5F395AE6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6B707-692E-44C2-ABB2-135C36A6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1169640" y="1045800"/>
            <a:ext cx="7380360" cy="46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C750-5DD7-449C-99E7-806CE4B6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F733-82F1-43EB-83E4-61E514B5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A0B2-F318-4E13-9BE5-F9C59944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98096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97C8B-209D-4ACE-8EA7-89C4EC6F6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3435-81CE-4ADB-A531-80977A93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1566720" y="42577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E5382-E26D-4486-B711-D23E0086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98096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5EDBE-331A-4FEB-9258-E096329F2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81960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7248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156672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81960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7248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12CD-52F5-42B1-9F40-970F7CC56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4F61-32CC-45F1-B547-F9EF4BE5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A880-8FC9-4808-B0D1-D2875171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B0DA-E58B-4B4D-9126-2B969176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169640" y="1045800"/>
            <a:ext cx="7380360" cy="46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3041-AB5C-4BC8-83C6-3A32A5C5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BF15-0F33-40FB-83F5-D0935DBAE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8096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DE24-E801-4BF8-8F76-257FF847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91AD-A69D-4265-A06B-A9D3B6B5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3808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F229-497B-4695-A7E0-E97D59CEFF33}" type="slidenum">
              <a:rPr b="0" lang="nl-NL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769080" y="2590920"/>
          <a:ext cx="2374920" cy="40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69080" y="2590920"/>
                    <a:ext cx="237492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9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51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9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0D10-9588-41BD-AD16-D9BEA45495D7}" type="slidenum">
              <a:rPr b="0" lang="nl-NL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lvl="2" marL="85716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3" marL="1200240" algn="ctr">
              <a:spcBef>
                <a:spcPts val="400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800000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7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17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6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hyperlink" Target="http://cheminf.cmbi.ru.nl/wetche/cgi-bin/stereobouwer.pl?fname=/var/www/html/wetche/organic/datfiles/methaans.dat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image" Target="../media/image30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image" Target="../media/image30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image" Target="../media/image30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9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7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slideLayout" Target="../slideLayouts/slideLayout1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8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49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5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52.png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53.png"/><Relationship Id="rId15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4.png"/><Relationship Id="rId5" Type="http://schemas.openxmlformats.org/officeDocument/2006/relationships/image" Target="../media/image55.jpeg"/><Relationship Id="rId6" Type="http://schemas.openxmlformats.org/officeDocument/2006/relationships/image" Target="../media/image56.jpeg"/><Relationship Id="rId7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2.png"/><Relationship Id="rId7" Type="http://schemas.openxmlformats.org/officeDocument/2006/relationships/slideLayout" Target="../slideLayouts/slideLayout1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7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60.png"/><Relationship Id="rId7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61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62.png"/><Relationship Id="rId7" Type="http://schemas.openxmlformats.org/officeDocument/2006/relationships/image" Target="../media/image63.jpeg"/><Relationship Id="rId8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image" Target="../media/image66.jpeg"/><Relationship Id="rId6" Type="http://schemas.openxmlformats.org/officeDocument/2006/relationships/image" Target="../media/image63.jpeg"/><Relationship Id="rId7" Type="http://schemas.openxmlformats.org/officeDocument/2006/relationships/image" Target="../media/image65.jpeg"/><Relationship Id="rId8" Type="http://schemas.openxmlformats.org/officeDocument/2006/relationships/image" Target="../media/image63.jpeg"/><Relationship Id="rId9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image" Target="../media/image66.jpeg"/><Relationship Id="rId5" Type="http://schemas.openxmlformats.org/officeDocument/2006/relationships/image" Target="../media/image66.jpeg"/><Relationship Id="rId6" Type="http://schemas.openxmlformats.org/officeDocument/2006/relationships/image" Target="../media/image63.jpeg"/><Relationship Id="rId7" Type="http://schemas.openxmlformats.org/officeDocument/2006/relationships/image" Target="../media/image65.jpeg"/><Relationship Id="rId8" Type="http://schemas.openxmlformats.org/officeDocument/2006/relationships/image" Target="../media/image63.jpeg"/><Relationship Id="rId9" Type="http://schemas.openxmlformats.org/officeDocument/2006/relationships/image" Target="../media/image67.jpeg"/><Relationship Id="rId10" Type="http://schemas.openxmlformats.org/officeDocument/2006/relationships/image" Target="../media/image68.jpeg"/><Relationship Id="rId11" Type="http://schemas.openxmlformats.org/officeDocument/2006/relationships/image" Target="../media/image69.jpeg"/><Relationship Id="rId12" Type="http://schemas.openxmlformats.org/officeDocument/2006/relationships/image" Target="../media/image70.jpeg"/><Relationship Id="rId13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2.wmf"/><Relationship Id="rId5" Type="http://schemas.openxmlformats.org/officeDocument/2006/relationships/image" Target="../media/image73.png"/><Relationship Id="rId6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5.png"/><Relationship Id="rId9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5.png"/><Relationship Id="rId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5.png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5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5.pn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5.png"/><Relationship Id="rId5" Type="http://schemas.openxmlformats.org/officeDocument/2006/relationships/image" Target="../media/image79.png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1.wmf"/><Relationship Id="rId6" Type="http://schemas.openxmlformats.org/officeDocument/2006/relationships/image" Target="../media/image79.png"/><Relationship Id="rId7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7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2.wmf"/><Relationship Id="rId5" Type="http://schemas.openxmlformats.org/officeDocument/2006/relationships/slideLayout" Target="../slideLayouts/slideLayout8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5.png"/><Relationship Id="rId6" Type="http://schemas.openxmlformats.org/officeDocument/2006/relationships/slideLayout" Target="../slideLayouts/slideLayout8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5.png"/><Relationship Id="rId9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8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75.png"/><Relationship Id="rId10" Type="http://schemas.openxmlformats.org/officeDocument/2006/relationships/slideLayout" Target="../slideLayouts/slideLayout1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8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75.png"/><Relationship Id="rId10" Type="http://schemas.openxmlformats.org/officeDocument/2006/relationships/slideLayout" Target="../slideLayouts/slideLayout1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8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75.png"/><Relationship Id="rId10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9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75.png"/><Relationship Id="rId10" Type="http://schemas.openxmlformats.org/officeDocument/2006/relationships/slideLayout" Target="../slideLayouts/slideLayout1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9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75.png"/><Relationship Id="rId10" Type="http://schemas.openxmlformats.org/officeDocument/2006/relationships/slideLayout" Target="../slideLayouts/slideLayout1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9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4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75.png"/><Relationship Id="rId10" Type="http://schemas.openxmlformats.org/officeDocument/2006/relationships/slideLayout" Target="../slideLayouts/slideLayout1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image" Target="../media/image96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9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7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75.png"/><Relationship Id="rId9" Type="http://schemas.openxmlformats.org/officeDocument/2006/relationships/slideLayout" Target="../slideLayouts/slideLayout1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image" Target="../media/image9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4.wmf"/><Relationship Id="rId5" Type="http://schemas.openxmlformats.org/officeDocument/2006/relationships/package" Target="../embeddings/oleObject2.docx"/><Relationship Id="rId6" Type="http://schemas.openxmlformats.org/officeDocument/2006/relationships/image" Target="../media/image9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74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75.png"/><Relationship Id="rId11" Type="http://schemas.openxmlformats.org/officeDocument/2006/relationships/slideLayout" Target="../slideLayouts/slideLayout1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5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800000"/>
                </a:solidFill>
                <a:latin typeface="Times New Roman"/>
              </a:rPr>
              <a:t>Isomerie</a:t>
            </a:r>
            <a:endParaRPr b="0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6769080" y="2590920"/>
          <a:ext cx="2374920" cy="403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69080" y="2590920"/>
                    <a:ext cx="2374920" cy="40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1042920" y="2997360"/>
            <a:ext cx="1554120" cy="22320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3044880" y="2997360"/>
            <a:ext cx="1554120" cy="223200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5105520" y="2997360"/>
            <a:ext cx="1554120" cy="22320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2914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71640" y="5300640"/>
            <a:ext cx="78246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dentiek 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6"/>
          <a:stretch/>
        </p:blipFill>
        <p:spPr>
          <a:xfrm>
            <a:off x="7353360" y="0"/>
            <a:ext cx="1322280" cy="19890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8153280" y="649116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BankGothic Md BT"/>
              </a:rPr>
              <a:t>©B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38080" y="2798640"/>
            <a:ext cx="3902040" cy="270216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6300720" y="0"/>
            <a:ext cx="2513160" cy="173988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8080" y="2349360"/>
            <a:ext cx="5894640" cy="37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ype C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Verschillende plaatsnummer van de karakteristieke groep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84360" y="3789360"/>
            <a:ext cx="5975280" cy="199080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onstitutie-isomeren </a:t>
            </a:r>
            <a:br>
              <a:rPr sz="4400"/>
            </a:b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orten &amp; Opgaven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826920" y="5877000"/>
            <a:ext cx="5894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Maak nu opgaven 1,2 &amp; 3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3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Stereo-isomeren</a:t>
            </a:r>
            <a:br>
              <a:rPr sz="4400"/>
            </a:b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orten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5904000" cy="4087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900000" y="2492280"/>
            <a:ext cx="5759640" cy="398772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onformeren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4932360" y="4510080"/>
            <a:ext cx="1676520" cy="186372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3"/>
          <a:stretch/>
        </p:blipFill>
        <p:spPr>
          <a:xfrm>
            <a:off x="6372360" y="55440"/>
            <a:ext cx="2441520" cy="16909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1042920" y="2060640"/>
            <a:ext cx="63374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efinitie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Conformeren zijn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dezelfde moleculen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 in een andere lichaamshoud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Conformeren zijn eigenlijk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geen isomeren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onformeren gaan in elkaar over door draaiing over een enkele binding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4"/>
          <a:stretch/>
        </p:blipFill>
        <p:spPr>
          <a:xfrm>
            <a:off x="1908000" y="4581360"/>
            <a:ext cx="2387880" cy="1676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900000" y="2492280"/>
            <a:ext cx="5759640" cy="398772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onformeren</a:t>
            </a:r>
            <a:br>
              <a:rPr sz="4400"/>
            </a:b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Voorbeelden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4932360" y="3429000"/>
            <a:ext cx="1676520" cy="186372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1619280" y="3500280"/>
            <a:ext cx="2387520" cy="167652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4"/>
          <a:stretch/>
        </p:blipFill>
        <p:spPr>
          <a:xfrm>
            <a:off x="6372360" y="55440"/>
            <a:ext cx="2441520" cy="169092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1042920" y="2421000"/>
            <a:ext cx="58942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utaan (C</a:t>
            </a:r>
            <a:r>
              <a:rPr b="0" lang="en-US" sz="3200" spc="-1" strike="noStrike" baseline="-25000">
                <a:solidFill>
                  <a:srgbClr val="003366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003366"/>
                </a:solidFill>
                <a:latin typeface="Times New Roman"/>
              </a:rPr>
              <a:t>10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Geschrankt &amp; geëclipseer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5"/>
          <a:stretch/>
        </p:blipFill>
        <p:spPr>
          <a:xfrm>
            <a:off x="5003640" y="5562720"/>
            <a:ext cx="1289160" cy="128880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6"/>
          <a:stretch/>
        </p:blipFill>
        <p:spPr>
          <a:xfrm>
            <a:off x="2195640" y="5365800"/>
            <a:ext cx="1234800" cy="1492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900000" y="2492280"/>
            <a:ext cx="5759640" cy="39877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onformeren</a:t>
            </a:r>
            <a:br>
              <a:rPr sz="4400"/>
            </a:b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Voorbeelden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1619280" y="3429000"/>
            <a:ext cx="2387520" cy="185436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3"/>
          <a:stretch/>
        </p:blipFill>
        <p:spPr>
          <a:xfrm>
            <a:off x="4284720" y="3429000"/>
            <a:ext cx="2387520" cy="18543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4"/>
          <a:stretch/>
        </p:blipFill>
        <p:spPr>
          <a:xfrm>
            <a:off x="6372360" y="55440"/>
            <a:ext cx="2441520" cy="169092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1042920" y="2421000"/>
            <a:ext cx="58942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Times New Roman"/>
              </a:rPr>
              <a:t>Cyclohexaan (C</a:t>
            </a:r>
            <a:r>
              <a:rPr b="0" lang="nl-NL" sz="3200" spc="-1" strike="noStrike" baseline="-25000">
                <a:solidFill>
                  <a:srgbClr val="003366"/>
                </a:solidFill>
                <a:latin typeface="Times New Roman"/>
              </a:rPr>
              <a:t>6</a:t>
            </a:r>
            <a:r>
              <a:rPr b="0" lang="nl-NL" sz="3200" spc="-1" strike="noStrike">
                <a:solidFill>
                  <a:srgbClr val="003366"/>
                </a:solidFill>
                <a:latin typeface="Times New Roman"/>
              </a:rPr>
              <a:t>H</a:t>
            </a:r>
            <a:r>
              <a:rPr b="0" lang="nl-NL" sz="3200" spc="-1" strike="noStrike" baseline="-25000">
                <a:solidFill>
                  <a:srgbClr val="003366"/>
                </a:solidFill>
                <a:latin typeface="Times New Roman"/>
              </a:rPr>
              <a:t>12</a:t>
            </a:r>
            <a:r>
              <a:rPr b="0" lang="nl-NL" sz="32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Stoel &amp; boo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5"/>
          <a:stretch/>
        </p:blipFill>
        <p:spPr>
          <a:xfrm>
            <a:off x="2627280" y="5321160"/>
            <a:ext cx="3441600" cy="15368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900000" y="981000"/>
            <a:ext cx="468360" cy="393840"/>
          </a:xfrm>
          <a:custGeom>
            <a:avLst/>
            <a:gdLst>
              <a:gd name="textAreaLeft" fmla="*/ 25200 w 468360"/>
              <a:gd name="textAreaRight" fmla="*/ 443160 w 4683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683" h="21600">
                <a:moveTo>
                  <a:pt x="0" y="0"/>
                </a:moveTo>
                <a:lnTo>
                  <a:pt x="25683" y="0"/>
                </a:lnTo>
                <a:lnTo>
                  <a:pt x="25683" y="21600"/>
                </a:lnTo>
                <a:lnTo>
                  <a:pt x="0" y="21600"/>
                </a:lnTo>
                <a:close/>
              </a:path>
              <a:path fill="lightenLess" w="25683" h="21600">
                <a:moveTo>
                  <a:pt x="0" y="0"/>
                </a:moveTo>
                <a:lnTo>
                  <a:pt x="25683" y="0"/>
                </a:lnTo>
                <a:lnTo>
                  <a:pt x="24283" y="1400"/>
                </a:lnTo>
                <a:lnTo>
                  <a:pt x="1400" y="1400"/>
                </a:lnTo>
                <a:close/>
              </a:path>
              <a:path fill="darken" w="25683" h="21600">
                <a:moveTo>
                  <a:pt x="25683" y="0"/>
                </a:moveTo>
                <a:lnTo>
                  <a:pt x="25683" y="21600"/>
                </a:lnTo>
                <a:lnTo>
                  <a:pt x="24283" y="20200"/>
                </a:lnTo>
                <a:lnTo>
                  <a:pt x="24283" y="1400"/>
                </a:lnTo>
                <a:close/>
              </a:path>
              <a:path fill="darkenLess" w="25683" h="21600">
                <a:moveTo>
                  <a:pt x="25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83" y="20200"/>
                </a:lnTo>
                <a:close/>
              </a:path>
              <a:path fill="lighten" w="25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83" h="21600">
                <a:moveTo>
                  <a:pt x="5835" y="7301"/>
                </a:moveTo>
                <a:lnTo>
                  <a:pt x="6749" y="7301"/>
                </a:lnTo>
                <a:lnTo>
                  <a:pt x="7132" y="7667"/>
                </a:lnTo>
                <a:lnTo>
                  <a:pt x="16341" y="7667"/>
                </a:lnTo>
                <a:lnTo>
                  <a:pt x="16898" y="8224"/>
                </a:lnTo>
                <a:lnTo>
                  <a:pt x="16898" y="8772"/>
                </a:lnTo>
                <a:lnTo>
                  <a:pt x="18743" y="8772"/>
                </a:lnTo>
                <a:lnTo>
                  <a:pt x="19108" y="8224"/>
                </a:lnTo>
                <a:lnTo>
                  <a:pt x="19848" y="8224"/>
                </a:lnTo>
                <a:lnTo>
                  <a:pt x="19848" y="13376"/>
                </a:lnTo>
                <a:lnTo>
                  <a:pt x="19108" y="13376"/>
                </a:lnTo>
                <a:lnTo>
                  <a:pt x="18743" y="12828"/>
                </a:lnTo>
                <a:lnTo>
                  <a:pt x="16898" y="12828"/>
                </a:lnTo>
                <a:lnTo>
                  <a:pt x="16898" y="14107"/>
                </a:lnTo>
                <a:lnTo>
                  <a:pt x="7315" y="14107"/>
                </a:lnTo>
                <a:lnTo>
                  <a:pt x="7315" y="9877"/>
                </a:lnTo>
                <a:lnTo>
                  <a:pt x="7132" y="9877"/>
                </a:lnTo>
                <a:lnTo>
                  <a:pt x="6749" y="10243"/>
                </a:lnTo>
                <a:lnTo>
                  <a:pt x="5835" y="10243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900000" y="2492280"/>
            <a:ext cx="5832720" cy="403884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042920" y="2421000"/>
            <a:ext cx="58942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Times New Roman"/>
              </a:rPr>
              <a:t>Definitie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Bij configuratie-isomeren zijn verschillen </a:t>
            </a:r>
            <a:r>
              <a:rPr b="1" i="1" lang="nl-NL" sz="2400" spc="-1" strike="noStrike">
                <a:solidFill>
                  <a:srgbClr val="003366"/>
                </a:solidFill>
                <a:latin typeface="Times New Roman"/>
              </a:rPr>
              <a:t>niet</a:t>
            </a: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 op te heffen door draaiing rond enkelvoudige binding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Times New Roman"/>
              </a:rPr>
              <a:t>Drie soorten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800000"/>
                </a:solidFill>
                <a:latin typeface="Times New Roman"/>
              </a:rPr>
              <a:t>Cis-trans</a:t>
            </a: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 isomer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Enantiomer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Diastereo-isomer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6372360" y="55440"/>
            <a:ext cx="2441520" cy="1690920"/>
          </a:xfrm>
          <a:prstGeom prst="rect">
            <a:avLst/>
          </a:prstGeom>
          <a:ln w="0">
            <a:noFill/>
          </a:ln>
        </p:spPr>
      </p:pic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onfiguratie-isomeren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3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3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900000" y="2492280"/>
            <a:ext cx="5832720" cy="40388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042920" y="2060640"/>
            <a:ext cx="66978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Times New Roman"/>
              </a:rPr>
              <a:t>Kenmerken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800000"/>
                </a:solidFill>
                <a:latin typeface="Times New Roman"/>
              </a:rPr>
              <a:t>Cis-trans</a:t>
            </a: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 isomeren hebben een </a:t>
            </a:r>
            <a:r>
              <a:rPr b="1" i="1" lang="nl-NL" sz="2400" spc="-1" strike="noStrike">
                <a:solidFill>
                  <a:srgbClr val="003366"/>
                </a:solidFill>
                <a:latin typeface="Times New Roman"/>
              </a:rPr>
              <a:t>starre</a:t>
            </a: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 binding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Times New Roman"/>
              </a:rPr>
              <a:t>C=C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Times New Roman"/>
              </a:rPr>
              <a:t>Ring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Aan elk atoom van de starre binding zitten </a:t>
            </a:r>
            <a:r>
              <a:rPr b="1" i="1" lang="nl-NL" sz="2400" spc="-1" strike="noStrike">
                <a:solidFill>
                  <a:srgbClr val="003366"/>
                </a:solidFill>
                <a:latin typeface="Times New Roman"/>
              </a:rPr>
              <a:t>twee verschillende </a:t>
            </a: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atoomgroepen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800000"/>
                </a:solidFill>
                <a:latin typeface="Times New Roman"/>
              </a:rPr>
              <a:t>Cis-trans</a:t>
            </a:r>
            <a:r>
              <a:rPr b="0" lang="nl-NL" sz="4400" spc="-1" strike="noStrike">
                <a:solidFill>
                  <a:srgbClr val="800000"/>
                </a:solidFill>
                <a:latin typeface="Times New Roman"/>
              </a:rPr>
              <a:t>-isomeren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6372360" y="84240"/>
            <a:ext cx="2390760" cy="16556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1763640" y="4746600"/>
          <a:ext cx="1971720" cy="211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4746600"/>
                    <a:ext cx="197172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"/>
          <p:cNvSpPr/>
          <p:nvPr/>
        </p:nvSpPr>
        <p:spPr>
          <a:xfrm>
            <a:off x="-46836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859280" y="4703760"/>
          <a:ext cx="2051280" cy="2154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59280" y="4703760"/>
                    <a:ext cx="2051280" cy="21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900000" y="2492280"/>
            <a:ext cx="5832720" cy="403884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042920" y="2565360"/>
            <a:ext cx="64818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Times New Roman"/>
              </a:rPr>
              <a:t>Maak opgave 5 &amp; 6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Times New Roman"/>
              </a:rPr>
              <a:t>Ga van onderstaande stoffen na of er sprake is van </a:t>
            </a:r>
            <a:r>
              <a:rPr b="0" i="1" lang="nl-NL" sz="3200" spc="-1" strike="noStrike">
                <a:solidFill>
                  <a:srgbClr val="003366"/>
                </a:solidFill>
                <a:latin typeface="Times New Roman"/>
              </a:rPr>
              <a:t>cis/trans</a:t>
            </a:r>
            <a:r>
              <a:rPr b="0" lang="nl-NL" sz="3200" spc="-1" strike="noStrike">
                <a:solidFill>
                  <a:srgbClr val="003366"/>
                </a:solidFill>
                <a:latin typeface="Times New Roman"/>
              </a:rPr>
              <a:t>-isomerie</a:t>
            </a:r>
            <a:r>
              <a:rPr b="0" lang="nl-NL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3-hexe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3-ethyl-3-hepteen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1-chloor-3-methylcyclobutaan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6372360" y="84240"/>
            <a:ext cx="2390760" cy="165564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800000"/>
                </a:solidFill>
                <a:latin typeface="Times New Roman"/>
              </a:rPr>
              <a:t>Cis-trans</a:t>
            </a:r>
            <a:r>
              <a:rPr b="0" lang="nl-NL" sz="4400" spc="-1" strike="noStrike">
                <a:solidFill>
                  <a:srgbClr val="800000"/>
                </a:solidFill>
                <a:latin typeface="Times New Roman"/>
              </a:rPr>
              <a:t>-isomeren</a:t>
            </a:r>
            <a:br>
              <a:rPr sz="4400"/>
            </a:br>
            <a:r>
              <a:rPr b="0" lang="nl-NL" sz="2400" spc="-1" strike="noStrike">
                <a:solidFill>
                  <a:srgbClr val="003366"/>
                </a:solidFill>
                <a:latin typeface="Times New Roman"/>
              </a:rPr>
              <a:t>Opgaven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900000" y="2492280"/>
            <a:ext cx="5832720" cy="403884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042920" y="2060640"/>
            <a:ext cx="64818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3366"/>
                </a:solidFill>
                <a:latin typeface="Times New Roman"/>
              </a:rPr>
              <a:t>Trans-</a:t>
            </a:r>
            <a:r>
              <a:rPr b="0" lang="nl-NL" sz="3200" spc="-1" strike="noStrike">
                <a:solidFill>
                  <a:srgbClr val="003366"/>
                </a:solidFill>
                <a:latin typeface="Times New Roman"/>
              </a:rPr>
              <a:t>naa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de substituenten zitten </a:t>
            </a:r>
            <a:r>
              <a:rPr b="1" i="1" lang="nl-NL" sz="2400" spc="-1" strike="noStrike">
                <a:solidFill>
                  <a:srgbClr val="003366"/>
                </a:solidFill>
                <a:latin typeface="Times New Roman"/>
              </a:rPr>
              <a:t>tegenover</a:t>
            </a: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 elkaa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3366"/>
                </a:solidFill>
                <a:latin typeface="Times New Roman"/>
              </a:rPr>
              <a:t>Cis-</a:t>
            </a:r>
            <a:r>
              <a:rPr b="0" lang="nl-NL" sz="3200" spc="-1" strike="noStrike">
                <a:solidFill>
                  <a:srgbClr val="003366"/>
                </a:solidFill>
                <a:latin typeface="Times New Roman"/>
              </a:rPr>
              <a:t>naa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de substituenten zitten </a:t>
            </a:r>
            <a:r>
              <a:rPr b="1" i="1" lang="nl-NL" sz="2400" spc="-1" strike="noStrike">
                <a:solidFill>
                  <a:srgbClr val="003366"/>
                </a:solidFill>
                <a:latin typeface="Times New Roman"/>
              </a:rPr>
              <a:t>aan dezelfde kan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6372360" y="84240"/>
            <a:ext cx="2390760" cy="165564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800000"/>
                </a:solidFill>
                <a:latin typeface="Times New Roman"/>
              </a:rPr>
              <a:t>Cis-trans</a:t>
            </a:r>
            <a:r>
              <a:rPr b="0" lang="nl-NL" sz="4400" spc="-1" strike="noStrike">
                <a:solidFill>
                  <a:srgbClr val="800000"/>
                </a:solidFill>
                <a:latin typeface="Times New Roman"/>
              </a:rPr>
              <a:t>-isomeren </a:t>
            </a:r>
            <a:br>
              <a:rPr sz="4400"/>
            </a:br>
            <a:r>
              <a:rPr b="0" lang="nl-NL" sz="2400" spc="-1" strike="noStrike">
                <a:solidFill>
                  <a:srgbClr val="003366"/>
                </a:solidFill>
                <a:latin typeface="Times New Roman"/>
              </a:rPr>
              <a:t>Naamgeving (substituenten </a:t>
            </a:r>
            <a:r>
              <a:rPr b="0" lang="nl-NL" sz="2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= </a:t>
            </a:r>
            <a:r>
              <a:rPr b="0" lang="nl-NL" sz="2400" spc="-1" strike="noStrike">
                <a:solidFill>
                  <a:srgbClr val="003366"/>
                </a:solidFill>
                <a:latin typeface="Times New Roman"/>
              </a:rPr>
              <a:t>2)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1547640" y="4365720"/>
          <a:ext cx="3213360" cy="13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4365720"/>
                    <a:ext cx="321336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0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31" name=""/>
          <p:cNvGraphicFramePr/>
          <p:nvPr/>
        </p:nvGraphicFramePr>
        <p:xfrm>
          <a:off x="4788000" y="4365720"/>
          <a:ext cx="1770120" cy="138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88000" y="4365720"/>
                    <a:ext cx="1770120" cy="13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"/>
          <p:cNvSpPr/>
          <p:nvPr/>
        </p:nvSpPr>
        <p:spPr>
          <a:xfrm>
            <a:off x="1042920" y="5734080"/>
            <a:ext cx="64818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Maak opgave 7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4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4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971640" y="2565360"/>
            <a:ext cx="5761080" cy="398952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6443640" y="77760"/>
            <a:ext cx="2332080" cy="161460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042920" y="2060640"/>
            <a:ext cx="590544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gel 1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08440" indent="-2214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Neem de </a:t>
            </a:r>
            <a:r>
              <a:rPr b="1" i="1" lang="en-US" sz="1800" spc="-1" strike="noStrike">
                <a:solidFill>
                  <a:srgbClr val="800000"/>
                </a:solidFill>
                <a:latin typeface="Times New Roman"/>
              </a:rPr>
              <a:t>twee koolstofatomen van de dubbele binding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centraal.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08440" indent="-2214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Kijk naar de groepen of atomen die gebonden zijn aan het </a:t>
            </a:r>
            <a:r>
              <a:rPr b="1" i="1" lang="en-US" sz="1800" spc="-1" strike="noStrike">
                <a:solidFill>
                  <a:srgbClr val="800000"/>
                </a:solidFill>
                <a:latin typeface="Times New Roman"/>
              </a:rPr>
              <a:t>linker koolstofatoom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van de dubbele binding.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08440" indent="-2214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tel de </a:t>
            </a:r>
            <a:r>
              <a:rPr b="1" i="1" lang="en-US" sz="1800" spc="-1" strike="noStrike">
                <a:solidFill>
                  <a:srgbClr val="800000"/>
                </a:solidFill>
                <a:latin typeface="Times New Roman"/>
              </a:rPr>
              <a:t>prioriteit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van ieder atoom vast, waarbij het atoom met het </a:t>
            </a:r>
            <a:r>
              <a:rPr b="1" i="1" lang="en-US" sz="1800" spc="-1" strike="noStrike">
                <a:solidFill>
                  <a:srgbClr val="800000"/>
                </a:solidFill>
                <a:latin typeface="Times New Roman"/>
              </a:rPr>
              <a:t>hoogste atoomnummer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de </a:t>
            </a:r>
            <a:r>
              <a:rPr b="1" i="1" lang="en-US" sz="1800" spc="-1" strike="noStrike">
                <a:solidFill>
                  <a:srgbClr val="800000"/>
                </a:solidFill>
                <a:latin typeface="Times New Roman"/>
              </a:rPr>
              <a:t>hoogste prioriteit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krijgt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08440" indent="-2214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Kijk naar de groepen of atomen die gebonden zijn aan het </a:t>
            </a:r>
            <a:r>
              <a:rPr b="1" i="1" lang="en-US" sz="1800" spc="-1" strike="noStrike">
                <a:solidFill>
                  <a:srgbClr val="800000"/>
                </a:solidFill>
                <a:latin typeface="Times New Roman"/>
              </a:rPr>
              <a:t>rechter koolstofatoom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van de dubbele binding. 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08440" indent="-2214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Stel de </a:t>
            </a:r>
            <a:r>
              <a:rPr b="1" i="1" lang="en-US" sz="1800" spc="-1" strike="noStrike">
                <a:solidFill>
                  <a:srgbClr val="800000"/>
                </a:solidFill>
                <a:latin typeface="Times New Roman"/>
              </a:rPr>
              <a:t>prioriteit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van ieder atoom vast, waarbij het atoom met het </a:t>
            </a:r>
            <a:r>
              <a:rPr b="1" i="1" lang="en-US" sz="1800" spc="-1" strike="noStrike">
                <a:solidFill>
                  <a:srgbClr val="800000"/>
                </a:solidFill>
                <a:latin typeface="Times New Roman"/>
              </a:rPr>
              <a:t>hoogste atoomnummer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de </a:t>
            </a:r>
            <a:r>
              <a:rPr b="1" i="1" lang="en-US" sz="1800" spc="-1" strike="noStrike">
                <a:solidFill>
                  <a:srgbClr val="800000"/>
                </a:solidFill>
                <a:latin typeface="Times New Roman"/>
              </a:rPr>
              <a:t>hoogste prioriteit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krijgt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3"/>
          <a:stretch/>
        </p:blipFill>
        <p:spPr>
          <a:xfrm>
            <a:off x="6443640" y="476280"/>
            <a:ext cx="2305080" cy="44748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800000"/>
                </a:solidFill>
                <a:latin typeface="Times New Roman"/>
              </a:rPr>
              <a:t>Cis-trans</a:t>
            </a:r>
            <a:r>
              <a:rPr b="0" lang="nl-NL" sz="4400" spc="-1" strike="noStrike">
                <a:solidFill>
                  <a:srgbClr val="800000"/>
                </a:solidFill>
                <a:latin typeface="Times New Roman"/>
              </a:rPr>
              <a:t>-isomeren </a:t>
            </a:r>
            <a:br>
              <a:rPr sz="4400"/>
            </a:br>
            <a:r>
              <a:rPr b="0" lang="nl-NL" sz="2400" spc="-1" strike="noStrike">
                <a:solidFill>
                  <a:srgbClr val="003366"/>
                </a:solidFill>
                <a:latin typeface="Times New Roman"/>
              </a:rPr>
              <a:t>Naamgeving (substituenten &gt; 2)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Identiek?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684360" y="2997360"/>
            <a:ext cx="2933640" cy="287640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3564000" y="2997360"/>
            <a:ext cx="3203640" cy="27399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755640" y="2133720"/>
            <a:ext cx="65530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2-hydroxypropaanzuu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0920" y="6165720"/>
            <a:ext cx="4093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L-2-hydroxypropaanzuu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">
            <a:hlinkClick r:id="rId3"/>
          </p:cNvPr>
          <p:cNvSpPr/>
          <p:nvPr/>
        </p:nvSpPr>
        <p:spPr>
          <a:xfrm>
            <a:off x="900000" y="981000"/>
            <a:ext cx="468360" cy="393840"/>
          </a:xfrm>
          <a:custGeom>
            <a:avLst/>
            <a:gdLst>
              <a:gd name="textAreaLeft" fmla="*/ 25200 w 468360"/>
              <a:gd name="textAreaRight" fmla="*/ 443160 w 4683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683" h="21600">
                <a:moveTo>
                  <a:pt x="0" y="0"/>
                </a:moveTo>
                <a:lnTo>
                  <a:pt x="25683" y="0"/>
                </a:lnTo>
                <a:lnTo>
                  <a:pt x="25683" y="21600"/>
                </a:lnTo>
                <a:lnTo>
                  <a:pt x="0" y="21600"/>
                </a:lnTo>
                <a:close/>
              </a:path>
              <a:path fill="lightenLess" w="25683" h="21600">
                <a:moveTo>
                  <a:pt x="0" y="0"/>
                </a:moveTo>
                <a:lnTo>
                  <a:pt x="25683" y="0"/>
                </a:lnTo>
                <a:lnTo>
                  <a:pt x="24283" y="1400"/>
                </a:lnTo>
                <a:lnTo>
                  <a:pt x="1400" y="1400"/>
                </a:lnTo>
                <a:close/>
              </a:path>
              <a:path fill="darken" w="25683" h="21600">
                <a:moveTo>
                  <a:pt x="25683" y="0"/>
                </a:moveTo>
                <a:lnTo>
                  <a:pt x="25683" y="21600"/>
                </a:lnTo>
                <a:lnTo>
                  <a:pt x="24283" y="20200"/>
                </a:lnTo>
                <a:lnTo>
                  <a:pt x="24283" y="1400"/>
                </a:lnTo>
                <a:close/>
              </a:path>
              <a:path fill="darkenLess" w="25683" h="21600">
                <a:moveTo>
                  <a:pt x="25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83" y="20200"/>
                </a:lnTo>
                <a:close/>
              </a:path>
              <a:path fill="lighten" w="25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83" h="21600">
                <a:moveTo>
                  <a:pt x="5835" y="7301"/>
                </a:moveTo>
                <a:lnTo>
                  <a:pt x="6749" y="7301"/>
                </a:lnTo>
                <a:lnTo>
                  <a:pt x="7132" y="7667"/>
                </a:lnTo>
                <a:lnTo>
                  <a:pt x="16341" y="7667"/>
                </a:lnTo>
                <a:lnTo>
                  <a:pt x="16898" y="8224"/>
                </a:lnTo>
                <a:lnTo>
                  <a:pt x="16898" y="8772"/>
                </a:lnTo>
                <a:lnTo>
                  <a:pt x="18743" y="8772"/>
                </a:lnTo>
                <a:lnTo>
                  <a:pt x="19108" y="8224"/>
                </a:lnTo>
                <a:lnTo>
                  <a:pt x="19848" y="8224"/>
                </a:lnTo>
                <a:lnTo>
                  <a:pt x="19848" y="13376"/>
                </a:lnTo>
                <a:lnTo>
                  <a:pt x="19108" y="13376"/>
                </a:lnTo>
                <a:lnTo>
                  <a:pt x="18743" y="12828"/>
                </a:lnTo>
                <a:lnTo>
                  <a:pt x="16898" y="12828"/>
                </a:lnTo>
                <a:lnTo>
                  <a:pt x="16898" y="14107"/>
                </a:lnTo>
                <a:lnTo>
                  <a:pt x="7315" y="14107"/>
                </a:lnTo>
                <a:lnTo>
                  <a:pt x="7315" y="9877"/>
                </a:lnTo>
                <a:lnTo>
                  <a:pt x="7132" y="9877"/>
                </a:lnTo>
                <a:lnTo>
                  <a:pt x="6749" y="10243"/>
                </a:lnTo>
                <a:lnTo>
                  <a:pt x="5835" y="10243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348000" y="5589720"/>
            <a:ext cx="409428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D-2-hydroxypropaanzuu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7412040" y="0"/>
            <a:ext cx="1225440" cy="1749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26920" y="2565360"/>
            <a:ext cx="5832720" cy="403848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6443640" y="77760"/>
            <a:ext cx="2332080" cy="161460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042920" y="2060640"/>
            <a:ext cx="59054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Voorbeeld </a:t>
            </a: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(Regel 1):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Times New Roman"/>
              </a:rPr>
              <a:t>cis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-2-chloor-2-bute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6443640" y="476280"/>
            <a:ext cx="2305080" cy="44748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800000"/>
                </a:solidFill>
                <a:latin typeface="Times New Roman"/>
              </a:rPr>
              <a:t>Cis-trans</a:t>
            </a:r>
            <a:r>
              <a:rPr b="0" lang="nl-NL" sz="4400" spc="-1" strike="noStrike">
                <a:solidFill>
                  <a:srgbClr val="800000"/>
                </a:solidFill>
                <a:latin typeface="Times New Roman"/>
              </a:rPr>
              <a:t>-isomeren </a:t>
            </a:r>
            <a:br>
              <a:rPr sz="4400"/>
            </a:br>
            <a:r>
              <a:rPr b="0" lang="nl-NL" sz="2400" spc="-1" strike="noStrike">
                <a:solidFill>
                  <a:srgbClr val="003366"/>
                </a:solidFill>
                <a:latin typeface="Times New Roman"/>
              </a:rPr>
              <a:t>Naamgeving (substituenten &gt; 2)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311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1619280" y="3284640"/>
          <a:ext cx="5153040" cy="1690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19280" y="3284640"/>
                    <a:ext cx="5153040" cy="16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800000"/>
                </a:solidFill>
                <a:latin typeface="Times New Roman"/>
              </a:rPr>
              <a:t>Cis-trans</a:t>
            </a:r>
            <a:r>
              <a:rPr b="0" lang="nl-NL" sz="4400" spc="-1" strike="noStrike">
                <a:solidFill>
                  <a:srgbClr val="800000"/>
                </a:solidFill>
                <a:latin typeface="Times New Roman"/>
              </a:rPr>
              <a:t>-isomeren </a:t>
            </a:r>
            <a:br>
              <a:rPr sz="4400"/>
            </a:br>
            <a:r>
              <a:rPr b="0" lang="nl-NL" sz="2400" spc="-1" strike="noStrike">
                <a:solidFill>
                  <a:srgbClr val="003366"/>
                </a:solidFill>
                <a:latin typeface="Times New Roman"/>
              </a:rPr>
              <a:t>Naamgeving (substituenten &gt; 2)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042920" y="2637000"/>
            <a:ext cx="5689800" cy="394164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6372360" y="27000"/>
            <a:ext cx="2403360" cy="16653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6372360" y="476280"/>
            <a:ext cx="2305080" cy="4474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042920" y="2133720"/>
            <a:ext cx="590544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gel 2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Als regel 1 </a:t>
            </a:r>
            <a:r>
              <a:rPr b="1" i="1" lang="en-US" sz="1800" spc="-1" strike="noStrike">
                <a:solidFill>
                  <a:srgbClr val="800000"/>
                </a:solidFill>
                <a:latin typeface="Times New Roman"/>
              </a:rPr>
              <a:t>geen uitsluitsel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biedt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Er wordt nu gekeken naar de prioriteit van de </a:t>
            </a:r>
            <a:r>
              <a:rPr b="1" i="1" lang="en-US" sz="1800" spc="-1" strike="noStrike">
                <a:solidFill>
                  <a:srgbClr val="800000"/>
                </a:solidFill>
                <a:latin typeface="Times New Roman"/>
              </a:rPr>
              <a:t>daaraan gebonden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atomen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ok daarvoor geldt dat het </a:t>
            </a:r>
            <a:r>
              <a:rPr b="1" i="1" lang="en-US" sz="1800" spc="-1" strike="noStrike">
                <a:solidFill>
                  <a:srgbClr val="800000"/>
                </a:solidFill>
                <a:latin typeface="Times New Roman"/>
              </a:rPr>
              <a:t>hoogste atoomnummer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een </a:t>
            </a:r>
            <a:r>
              <a:rPr b="1" i="1" lang="en-US" sz="1800" spc="-1" strike="noStrike">
                <a:solidFill>
                  <a:srgbClr val="800000"/>
                </a:solidFill>
                <a:latin typeface="Times New Roman"/>
              </a:rPr>
              <a:t>hogere prioriteit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geeft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042920" y="4292640"/>
            <a:ext cx="5905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Voorbeeld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Times New Roman"/>
              </a:rPr>
              <a:t>trans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-3-methyl-2-pente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4"/>
          <a:stretch/>
        </p:blipFill>
        <p:spPr>
          <a:xfrm>
            <a:off x="1547640" y="5229360"/>
            <a:ext cx="4768920" cy="1525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4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4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800000"/>
                </a:solidFill>
                <a:latin typeface="Times New Roman"/>
              </a:rPr>
              <a:t>Cis-trans</a:t>
            </a:r>
            <a:r>
              <a:rPr b="0" lang="nl-NL" sz="4400" spc="-1" strike="noStrike">
                <a:solidFill>
                  <a:srgbClr val="800000"/>
                </a:solidFill>
                <a:latin typeface="Times New Roman"/>
              </a:rPr>
              <a:t>-isomeren </a:t>
            </a:r>
            <a:br>
              <a:rPr sz="4400"/>
            </a:br>
            <a:r>
              <a:rPr b="0" lang="nl-NL" sz="2400" spc="-1" strike="noStrike">
                <a:solidFill>
                  <a:srgbClr val="003366"/>
                </a:solidFill>
                <a:latin typeface="Times New Roman"/>
              </a:rPr>
              <a:t>Naamgeving (substituenten &gt; 2)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332000" y="2565360"/>
            <a:ext cx="5400720" cy="374004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6372360" y="27000"/>
            <a:ext cx="2403360" cy="166536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3"/>
          <a:stretch/>
        </p:blipFill>
        <p:spPr>
          <a:xfrm>
            <a:off x="6372360" y="476280"/>
            <a:ext cx="2305080" cy="44748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84160" y="1925640"/>
            <a:ext cx="5905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Times New Roman"/>
              </a:rPr>
              <a:t>Regel 3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845640" indent="-16884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800000"/>
                </a:solidFill>
                <a:latin typeface="Times New Roman"/>
              </a:rPr>
              <a:t>Dubbelgebonden koolstofatomen</a:t>
            </a:r>
            <a:r>
              <a:rPr b="0" lang="nl-NL" sz="1800" spc="-1" strike="noStrike">
                <a:solidFill>
                  <a:srgbClr val="003366"/>
                </a:solidFill>
                <a:latin typeface="Times New Roman"/>
              </a:rPr>
              <a:t> tellen voor </a:t>
            </a:r>
            <a:r>
              <a:rPr b="1" i="1" lang="nl-NL" sz="1800" spc="-1" strike="noStrike">
                <a:solidFill>
                  <a:srgbClr val="800000"/>
                </a:solidFill>
                <a:latin typeface="Times New Roman"/>
              </a:rPr>
              <a:t>twee</a:t>
            </a:r>
            <a:r>
              <a:rPr b="0" lang="nl-NL" sz="1800" spc="-1" strike="noStrike">
                <a:solidFill>
                  <a:srgbClr val="003366"/>
                </a:solidFill>
                <a:latin typeface="Times New Roman"/>
              </a:rPr>
              <a:t> bindingen met koolstof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845640" indent="-16884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Times New Roman"/>
              </a:rPr>
              <a:t>Een </a:t>
            </a:r>
            <a:r>
              <a:rPr b="1" i="1" lang="nl-NL" sz="1800" spc="-1" strike="noStrike">
                <a:solidFill>
                  <a:srgbClr val="800000"/>
                </a:solidFill>
                <a:latin typeface="Times New Roman"/>
              </a:rPr>
              <a:t>ethenyl-groep</a:t>
            </a:r>
            <a:r>
              <a:rPr b="0" lang="nl-NL" sz="1800" spc="-1" strike="noStrike">
                <a:solidFill>
                  <a:srgbClr val="003366"/>
                </a:solidFill>
                <a:latin typeface="Times New Roman"/>
              </a:rPr>
              <a:t> heeft dus een </a:t>
            </a:r>
            <a:r>
              <a:rPr b="1" i="1" lang="nl-NL" sz="1800" spc="-1" strike="noStrike">
                <a:solidFill>
                  <a:srgbClr val="800000"/>
                </a:solidFill>
                <a:latin typeface="Times New Roman"/>
              </a:rPr>
              <a:t>hogere</a:t>
            </a:r>
            <a:r>
              <a:rPr b="0" lang="nl-NL" sz="1800" spc="-1" strike="noStrike">
                <a:solidFill>
                  <a:srgbClr val="003366"/>
                </a:solidFill>
                <a:latin typeface="Times New Roman"/>
              </a:rPr>
              <a:t> prioriteit dan een </a:t>
            </a:r>
            <a:r>
              <a:rPr b="1" i="1" lang="nl-NL" sz="1800" spc="-1" strike="noStrike">
                <a:solidFill>
                  <a:srgbClr val="800000"/>
                </a:solidFill>
                <a:latin typeface="Times New Roman"/>
              </a:rPr>
              <a:t>ethylgroep</a:t>
            </a:r>
            <a:r>
              <a:rPr b="0" lang="nl-NL" sz="1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84160" y="3652920"/>
            <a:ext cx="5905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Voorbeeld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0000"/>
                </a:solidFill>
                <a:latin typeface="Times New Roman"/>
              </a:rPr>
              <a:t>cis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-3-ethyl-1,3-pentadie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4"/>
          <a:stretch/>
        </p:blipFill>
        <p:spPr>
          <a:xfrm>
            <a:off x="1482840" y="4734000"/>
            <a:ext cx="4765680" cy="1501560"/>
          </a:xfrm>
          <a:prstGeom prst="rect">
            <a:avLst/>
          </a:prstGeom>
          <a:ln w="0">
            <a:noFill/>
          </a:ln>
        </p:spPr>
      </p:pic>
      <p:sp>
        <p:nvSpPr>
          <p:cNvPr id="481" name=""/>
          <p:cNvSpPr/>
          <p:nvPr/>
        </p:nvSpPr>
        <p:spPr>
          <a:xfrm>
            <a:off x="884160" y="6161040"/>
            <a:ext cx="59054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Maak opgave 8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400" spc="-1" strike="noStrike">
                <a:solidFill>
                  <a:srgbClr val="800000"/>
                </a:solidFill>
                <a:latin typeface="Times New Roman"/>
              </a:rPr>
              <a:t>Cis-trans</a:t>
            </a:r>
            <a:r>
              <a:rPr b="0" lang="nl-NL" sz="4400" spc="-1" strike="noStrike">
                <a:solidFill>
                  <a:srgbClr val="800000"/>
                </a:solidFill>
                <a:latin typeface="Times New Roman"/>
              </a:rPr>
              <a:t>-isomeren </a:t>
            </a:r>
            <a:br>
              <a:rPr sz="4400"/>
            </a:br>
            <a:r>
              <a:rPr b="0" lang="nl-NL" sz="2400" spc="-1" strike="noStrike">
                <a:solidFill>
                  <a:srgbClr val="003366"/>
                </a:solidFill>
                <a:latin typeface="Times New Roman"/>
              </a:rPr>
              <a:t>Naamgeving (C=C-bindingen &gt; 1)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187280" y="2637000"/>
            <a:ext cx="5545440" cy="384156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2"/>
          <a:stretch/>
        </p:blipFill>
        <p:spPr>
          <a:xfrm>
            <a:off x="6372360" y="27000"/>
            <a:ext cx="2403360" cy="166536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3"/>
          <a:stretch/>
        </p:blipFill>
        <p:spPr>
          <a:xfrm>
            <a:off x="6372360" y="476280"/>
            <a:ext cx="2376360" cy="89676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116000" y="1940040"/>
            <a:ext cx="741672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Times New Roman"/>
              </a:rPr>
              <a:t>2,4-hexadieen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Tussen C2 en C3 bevindt zich een dubbele binding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Times New Roman"/>
              </a:rPr>
              <a:t>Deze dubbele binding maakt cis/trans-isomerie mogelijk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Tussen C4 en C5 bevindt zich een dubbele binding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Times New Roman"/>
              </a:rPr>
              <a:t>Deze dubbele binding maakt cis/trans-isomerie mogelijk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302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116000" y="4221000"/>
            <a:ext cx="590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Voorbeeld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(2-</a:t>
            </a:r>
            <a:r>
              <a:rPr b="0" i="1" lang="en-US" sz="1800" spc="-1" strike="noStrike">
                <a:solidFill>
                  <a:srgbClr val="003366"/>
                </a:solidFill>
                <a:latin typeface="Times New Roman"/>
              </a:rPr>
              <a:t>trans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,4-</a:t>
            </a:r>
            <a:r>
              <a:rPr b="0" i="1" lang="en-US" sz="1800" spc="-1" strike="noStrike">
                <a:solidFill>
                  <a:srgbClr val="003366"/>
                </a:solidFill>
                <a:latin typeface="Times New Roman"/>
              </a:rPr>
              <a:t>cis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)-2,4-hexadie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4"/>
          <a:stretch/>
        </p:blipFill>
        <p:spPr>
          <a:xfrm>
            <a:off x="2340000" y="5013360"/>
            <a:ext cx="2548080" cy="126684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5"/>
          <a:stretch/>
        </p:blipFill>
        <p:spPr>
          <a:xfrm>
            <a:off x="5796000" y="5013360"/>
            <a:ext cx="2548080" cy="126684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1116000" y="6165720"/>
            <a:ext cx="74167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Maak opgaven 9 &amp; 1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4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4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4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4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Enantiomeren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042920" y="2421000"/>
            <a:ext cx="5689800" cy="394020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2"/>
          <a:stretch/>
        </p:blipFill>
        <p:spPr>
          <a:xfrm>
            <a:off x="6372360" y="27000"/>
            <a:ext cx="2403360" cy="166536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3"/>
          <a:stretch/>
        </p:blipFill>
        <p:spPr>
          <a:xfrm>
            <a:off x="7308720" y="2205000"/>
            <a:ext cx="1440000" cy="118116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971640" y="1989000"/>
            <a:ext cx="583236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Times New Roman"/>
              </a:rPr>
              <a:t>Definitie</a:t>
            </a:r>
            <a:r>
              <a:rPr b="0" lang="nl-NL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Enantiomeren zijn moleculen die </a:t>
            </a:r>
            <a:r>
              <a:rPr b="1" i="1" lang="nl-NL" sz="2400" spc="-1" strike="noStrike">
                <a:solidFill>
                  <a:srgbClr val="003366"/>
                </a:solidFill>
                <a:latin typeface="Times New Roman"/>
              </a:rPr>
              <a:t>elkaars spiegelbeeld</a:t>
            </a: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 zijn maar die </a:t>
            </a:r>
            <a:r>
              <a:rPr b="1" i="1" lang="nl-NL" sz="2400" spc="-1" strike="noStrike">
                <a:solidFill>
                  <a:srgbClr val="003366"/>
                </a:solidFill>
                <a:latin typeface="Times New Roman"/>
              </a:rPr>
              <a:t>niet</a:t>
            </a: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 met elkaar </a:t>
            </a:r>
            <a:r>
              <a:rPr b="1" i="1" lang="nl-NL" sz="2400" spc="-1" strike="noStrike">
                <a:solidFill>
                  <a:srgbClr val="003366"/>
                </a:solidFill>
                <a:latin typeface="Times New Roman"/>
              </a:rPr>
              <a:t>tot dekking</a:t>
            </a: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 gebracht kunnen worden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Enantiomeren worden daarom ook wel </a:t>
            </a:r>
            <a:r>
              <a:rPr b="1" i="1" lang="nl-NL" sz="2400" spc="-1" strike="noStrike">
                <a:solidFill>
                  <a:srgbClr val="003366"/>
                </a:solidFill>
                <a:latin typeface="Times New Roman"/>
              </a:rPr>
              <a:t>spiegelbeeld-isomeren</a:t>
            </a: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 genoemd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1116000" y="4965840"/>
          <a:ext cx="1944720" cy="1892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16000" y="4965840"/>
                    <a:ext cx="194472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2987640" y="4944960"/>
          <a:ext cx="1889280" cy="1913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87640" y="4944960"/>
                    <a:ext cx="1889280" cy="19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8" name="" descr=""/>
          <p:cNvPicPr/>
          <p:nvPr/>
        </p:nvPicPr>
        <p:blipFill>
          <a:blip r:embed="rId8"/>
          <a:stretch/>
        </p:blipFill>
        <p:spPr>
          <a:xfrm>
            <a:off x="7308720" y="3357720"/>
            <a:ext cx="1440000" cy="118080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9"/>
          <a:stretch/>
        </p:blipFill>
        <p:spPr>
          <a:xfrm>
            <a:off x="7308720" y="4508640"/>
            <a:ext cx="1440000" cy="118080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10"/>
          <a:stretch/>
        </p:blipFill>
        <p:spPr>
          <a:xfrm>
            <a:off x="7380360" y="5661000"/>
            <a:ext cx="1368360" cy="1123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5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5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5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Enantiomeren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200240" y="2471760"/>
            <a:ext cx="5533920" cy="383220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2"/>
          <a:stretch/>
        </p:blipFill>
        <p:spPr>
          <a:xfrm>
            <a:off x="6354720" y="49320"/>
            <a:ext cx="2370240" cy="164124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3"/>
          <a:stretch/>
        </p:blipFill>
        <p:spPr>
          <a:xfrm>
            <a:off x="2755800" y="4346640"/>
            <a:ext cx="2030400" cy="23670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515" name=""/>
          <p:cNvSpPr/>
          <p:nvPr/>
        </p:nvSpPr>
        <p:spPr>
          <a:xfrm>
            <a:off x="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923760" y="2001960"/>
            <a:ext cx="58327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Times New Roman"/>
              </a:rPr>
              <a:t>Kenmerken</a:t>
            </a:r>
            <a:r>
              <a:rPr b="0" lang="nl-NL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Spiegelbeeld-isomeren hebben </a:t>
            </a:r>
            <a:r>
              <a:rPr b="1" i="1" lang="nl-NL" sz="2400" spc="-1" strike="noStrike">
                <a:solidFill>
                  <a:srgbClr val="003366"/>
                </a:solidFill>
                <a:latin typeface="Times New Roman"/>
              </a:rPr>
              <a:t>geen symmetrievlak</a:t>
            </a: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 (inwendig spiegelvlak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Spiegelbeeld-isomeren hebben </a:t>
            </a:r>
            <a:r>
              <a:rPr b="1" i="1" lang="nl-NL" sz="2400" spc="-1" strike="noStrike">
                <a:solidFill>
                  <a:srgbClr val="003366"/>
                </a:solidFill>
                <a:latin typeface="Times New Roman"/>
              </a:rPr>
              <a:t>wel</a:t>
            </a: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nl-NL" sz="2400" spc="-1" strike="noStrike">
                <a:solidFill>
                  <a:srgbClr val="003366"/>
                </a:solidFill>
                <a:latin typeface="Times New Roman"/>
              </a:rPr>
              <a:t>een asymmetrisch centrum</a:t>
            </a: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4"/>
          <a:stretch/>
        </p:blipFill>
        <p:spPr>
          <a:xfrm>
            <a:off x="696960" y="4346640"/>
            <a:ext cx="2019240" cy="238104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518" name="" descr=""/>
          <p:cNvPicPr/>
          <p:nvPr/>
        </p:nvPicPr>
        <p:blipFill>
          <a:blip r:embed="rId5"/>
          <a:stretch/>
        </p:blipFill>
        <p:spPr>
          <a:xfrm>
            <a:off x="4924440" y="4344840"/>
            <a:ext cx="2019240" cy="238140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pic>
        <p:nvPicPr>
          <p:cNvPr id="519" name="" descr=""/>
          <p:cNvPicPr/>
          <p:nvPr/>
        </p:nvPicPr>
        <p:blipFill>
          <a:blip r:embed="rId6"/>
          <a:stretch/>
        </p:blipFill>
        <p:spPr>
          <a:xfrm>
            <a:off x="6980400" y="4344840"/>
            <a:ext cx="2030400" cy="2376720"/>
          </a:xfrm>
          <a:prstGeom prst="rect">
            <a:avLst/>
          </a:prstGeom>
          <a:ln w="9360">
            <a:solidFill>
              <a:srgbClr val="003366"/>
            </a:solidFill>
            <a:miter/>
          </a:ln>
        </p:spPr>
      </p:pic>
      <p:sp>
        <p:nvSpPr>
          <p:cNvPr id="520" name=""/>
          <p:cNvSpPr/>
          <p:nvPr/>
        </p:nvSpPr>
        <p:spPr>
          <a:xfrm>
            <a:off x="-289080" y="5724360"/>
            <a:ext cx="453888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lvl="2" marL="1085760" indent="-21708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Wél symmetrievlak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Geen asymmetrisch centrum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Times New Roman"/>
              </a:rPr>
              <a:t>Identieke molecul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924360" y="5724360"/>
            <a:ext cx="506412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lvl="2" marL="1085760" indent="-21708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800000"/>
                </a:solidFill>
                <a:latin typeface="Times New Roman"/>
              </a:rPr>
              <a:t>Géén symmetrievlak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800000"/>
                </a:solidFill>
                <a:latin typeface="Times New Roman"/>
              </a:rPr>
              <a:t>Wel asymmetrisch centrum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800000"/>
                </a:solidFill>
                <a:latin typeface="Times New Roman"/>
              </a:rPr>
              <a:t>Enantiomeer (spiegelbeeld isomeer)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800000"/>
                </a:solidFill>
                <a:latin typeface="Times New Roman"/>
              </a:rPr>
              <a:t>Enantiomeren</a:t>
            </a:r>
            <a:br>
              <a:rPr sz="4400"/>
            </a:br>
            <a:r>
              <a:rPr b="0" lang="nl-NL" sz="2400" spc="-1" strike="noStrike">
                <a:solidFill>
                  <a:srgbClr val="003366"/>
                </a:solidFill>
                <a:latin typeface="Times New Roman"/>
              </a:rPr>
              <a:t>Het asymmetrisch C-atoom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200240" y="2471760"/>
            <a:ext cx="5533920" cy="383220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6354720" y="49320"/>
            <a:ext cx="2370240" cy="164124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923760" y="2001960"/>
            <a:ext cx="61628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Times New Roman"/>
              </a:rPr>
              <a:t>Kenmerken</a:t>
            </a:r>
            <a:r>
              <a:rPr b="0" lang="nl-NL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Het asymmetrische centrum is </a:t>
            </a:r>
            <a:r>
              <a:rPr b="1" i="1" lang="nl-NL" sz="2400" spc="-1" strike="noStrike">
                <a:solidFill>
                  <a:srgbClr val="003366"/>
                </a:solidFill>
                <a:latin typeface="Times New Roman"/>
              </a:rPr>
              <a:t>tetraëdisch</a:t>
            </a: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 (AX</a:t>
            </a:r>
            <a:r>
              <a:rPr b="0" lang="nl-NL" sz="2400" spc="-1" strike="noStrike" baseline="-25000">
                <a:solidFill>
                  <a:srgbClr val="800000"/>
                </a:solidFill>
                <a:latin typeface="Times New Roman"/>
              </a:rPr>
              <a:t>4</a:t>
            </a: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 of AX</a:t>
            </a:r>
            <a:r>
              <a:rPr b="0" lang="nl-NL" sz="2400" spc="-1" strike="noStrike" baseline="-25000">
                <a:solidFill>
                  <a:srgbClr val="800000"/>
                </a:solidFill>
                <a:latin typeface="Times New Roman"/>
              </a:rPr>
              <a:t>3</a:t>
            </a: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E)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Het asymmetrische centrum heeft </a:t>
            </a:r>
            <a:r>
              <a:rPr b="1" i="1" lang="nl-NL" sz="2400" spc="-1" strike="noStrike">
                <a:solidFill>
                  <a:srgbClr val="003366"/>
                </a:solidFill>
                <a:latin typeface="Times New Roman"/>
              </a:rPr>
              <a:t>vier verschillende atoomgroepen</a:t>
            </a: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 gebonden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7392960" y="260280"/>
          <a:ext cx="1446120" cy="160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92960" y="260280"/>
                    <a:ext cx="1446120" cy="16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7392960" y="2141640"/>
          <a:ext cx="1446120" cy="1593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92960" y="2141640"/>
                    <a:ext cx="1446120" cy="159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3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405560" y="3564000"/>
          <a:ext cx="1420920" cy="1609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405560" y="3564000"/>
                    <a:ext cx="1420920" cy="16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6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537" name=""/>
          <p:cNvGraphicFramePr/>
          <p:nvPr/>
        </p:nvGraphicFramePr>
        <p:xfrm>
          <a:off x="7365960" y="5022720"/>
          <a:ext cx="1406520" cy="1611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65960" y="5022720"/>
                    <a:ext cx="1406520" cy="16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540" name=""/>
          <p:cNvGraphicFramePr/>
          <p:nvPr/>
        </p:nvGraphicFramePr>
        <p:xfrm>
          <a:off x="1217520" y="4522680"/>
          <a:ext cx="2059200" cy="2335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217520" y="4522680"/>
                    <a:ext cx="2059200" cy="23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2" name=""/>
          <p:cNvSpPr/>
          <p:nvPr/>
        </p:nvSpPr>
        <p:spPr>
          <a:xfrm>
            <a:off x="0" y="292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4162320" y="4533840"/>
          <a:ext cx="2363760" cy="22780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4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62320" y="4533840"/>
                    <a:ext cx="2363760" cy="22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800000"/>
                </a:solidFill>
                <a:latin typeface="Times New Roman"/>
              </a:rPr>
              <a:t>Enantiomeren</a:t>
            </a:r>
            <a:br>
              <a:rPr sz="4400"/>
            </a:br>
            <a:r>
              <a:rPr b="0" lang="nl-NL" sz="2400" spc="-1" strike="noStrike">
                <a:solidFill>
                  <a:srgbClr val="003366"/>
                </a:solidFill>
                <a:latin typeface="Times New Roman"/>
              </a:rPr>
              <a:t>Het asymmetrisch C-atoom zoeken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76240" y="2468520"/>
            <a:ext cx="5765760" cy="399276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2"/>
          <a:stretch/>
        </p:blipFill>
        <p:spPr>
          <a:xfrm>
            <a:off x="6423120" y="96840"/>
            <a:ext cx="2340000" cy="162072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770040" y="1865160"/>
            <a:ext cx="7961040" cy="8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Times New Roman"/>
              </a:rPr>
              <a:t>Werkwijze</a:t>
            </a:r>
            <a:r>
              <a:rPr b="0" lang="nl-NL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1708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Times New Roman"/>
              </a:rPr>
              <a:t>Bekijk alleen atomen met een </a:t>
            </a:r>
            <a:r>
              <a:rPr b="1" i="1" lang="nl-NL" sz="1800" spc="-1" strike="noStrike">
                <a:solidFill>
                  <a:srgbClr val="800000"/>
                </a:solidFill>
                <a:latin typeface="Times New Roman"/>
              </a:rPr>
              <a:t>tetraëdische omringing</a:t>
            </a:r>
            <a:r>
              <a:rPr b="0" lang="nl-NL" sz="1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0" y="292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6411960" y="0"/>
          <a:ext cx="2333520" cy="172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11960" y="0"/>
                    <a:ext cx="2333520" cy="172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"/>
          <p:cNvSpPr/>
          <p:nvPr/>
        </p:nvSpPr>
        <p:spPr>
          <a:xfrm>
            <a:off x="770040" y="2808360"/>
            <a:ext cx="7951680" cy="30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Teken of draai een molecuul zo dat je alle groepen, die aan het te onderzoeken koolstofatoom verbonden zijn, </a:t>
            </a:r>
            <a:r>
              <a:rPr b="1" i="1" lang="en-US" sz="1800" spc="-1" strike="noStrike">
                <a:solidFill>
                  <a:srgbClr val="800000"/>
                </a:solidFill>
                <a:latin typeface="Times New Roman"/>
              </a:rPr>
              <a:t>duidelijk kunt zien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Bepaal in gedachte, of door cirkels te zetten, </a:t>
            </a:r>
            <a:r>
              <a:rPr b="1" i="1" lang="en-US" sz="1800" spc="-1" strike="noStrike">
                <a:solidFill>
                  <a:srgbClr val="800000"/>
                </a:solidFill>
                <a:latin typeface="Times New Roman"/>
              </a:rPr>
              <a:t>welke groepen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er aan het te onderzoeken koolstofatoom gebonden zijn: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Times New Roman"/>
              </a:rPr>
              <a:t>groep</a:t>
            </a: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 1: </a:t>
            </a: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-COOH </a:t>
            </a:r>
            <a:r>
              <a:rPr b="0" lang="en-US" sz="1600" spc="-1" strike="noStrike">
                <a:solidFill>
                  <a:srgbClr val="800000"/>
                </a:solidFill>
                <a:latin typeface="Times New Roman"/>
              </a:rPr>
              <a:t>(carbonzuur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Times New Roman"/>
              </a:rPr>
              <a:t>groep</a:t>
            </a: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 2: </a:t>
            </a: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-H </a:t>
            </a:r>
            <a:r>
              <a:rPr b="0" lang="en-US" sz="1600" spc="-1" strike="noStrike">
                <a:solidFill>
                  <a:srgbClr val="800000"/>
                </a:solidFill>
                <a:latin typeface="Times New Roman"/>
              </a:rPr>
              <a:t>(waterstofatoom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Times New Roman"/>
              </a:rPr>
              <a:t>groep</a:t>
            </a: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 3:</a:t>
            </a: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-Cl </a:t>
            </a:r>
            <a:r>
              <a:rPr b="0" lang="en-US" sz="1600" spc="-1" strike="noStrike">
                <a:solidFill>
                  <a:srgbClr val="800000"/>
                </a:solidFill>
                <a:latin typeface="Times New Roman"/>
              </a:rPr>
              <a:t>(chlooratoom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Times New Roman"/>
              </a:rPr>
              <a:t>groep</a:t>
            </a: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 4: </a:t>
            </a: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-H</a:t>
            </a:r>
            <a:r>
              <a:rPr b="0" lang="en-US" sz="1600" spc="-1" strike="noStrike">
                <a:solidFill>
                  <a:srgbClr val="800000"/>
                </a:solidFill>
                <a:latin typeface="Times New Roman"/>
              </a:rPr>
              <a:t> (waterstofatoom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70040" y="5230800"/>
            <a:ext cx="796104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Zijn de </a:t>
            </a:r>
            <a:r>
              <a:rPr b="1" i="1" lang="en-US" sz="1800" spc="-1" strike="noStrike">
                <a:solidFill>
                  <a:srgbClr val="800000"/>
                </a:solidFill>
                <a:latin typeface="Times New Roman"/>
              </a:rPr>
              <a:t>vier gebonden groepen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vier </a:t>
            </a:r>
            <a:r>
              <a:rPr b="1" i="1" lang="en-US" sz="1800" spc="-1" strike="noStrike">
                <a:solidFill>
                  <a:srgbClr val="800000"/>
                </a:solidFill>
                <a:latin typeface="Times New Roman"/>
              </a:rPr>
              <a:t>verschillende groepen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dan is het onderzochte koolstofatoom een asymmetrisch koolstofatoom.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In dit voorbeeld is het betreffende koolstofatoom dus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geen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 asymmetrisch atoom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60" name="" descr=""/>
          <p:cNvPicPr/>
          <p:nvPr/>
        </p:nvPicPr>
        <p:blipFill>
          <a:blip r:embed="rId5"/>
          <a:stretch/>
        </p:blipFill>
        <p:spPr>
          <a:xfrm>
            <a:off x="6338880" y="0"/>
            <a:ext cx="2428920" cy="1762200"/>
          </a:xfrm>
          <a:prstGeom prst="rect">
            <a:avLst/>
          </a:prstGeom>
          <a:ln w="0">
            <a:noFill/>
          </a:ln>
        </p:spPr>
      </p:pic>
      <p:pic>
        <p:nvPicPr>
          <p:cNvPr id="561" name="" descr=""/>
          <p:cNvPicPr/>
          <p:nvPr/>
        </p:nvPicPr>
        <p:blipFill>
          <a:blip r:embed="rId6"/>
          <a:stretch/>
        </p:blipFill>
        <p:spPr>
          <a:xfrm>
            <a:off x="6399360" y="0"/>
            <a:ext cx="2377800" cy="1792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6" dur="500"/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6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1" dur="5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1" dur="500"/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5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Enantiomeren</a:t>
            </a:r>
            <a:br>
              <a:rPr sz="4400"/>
            </a:b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Opgaven &amp; modellenpracticum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200240" y="2471760"/>
            <a:ext cx="5533920" cy="38322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6354720" y="49320"/>
            <a:ext cx="2370240" cy="164124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0" y="292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572" name=""/>
          <p:cNvGraphicFramePr/>
          <p:nvPr/>
        </p:nvGraphicFramePr>
        <p:xfrm>
          <a:off x="7618320" y="5386320"/>
          <a:ext cx="1525680" cy="14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18320" y="5386320"/>
                    <a:ext cx="1525680" cy="14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4" name=""/>
          <p:cNvGraphicFramePr/>
          <p:nvPr/>
        </p:nvGraphicFramePr>
        <p:xfrm>
          <a:off x="6381720" y="5356080"/>
          <a:ext cx="1324080" cy="1501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81720" y="5356080"/>
                    <a:ext cx="1324080" cy="15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6" name=""/>
          <p:cNvSpPr/>
          <p:nvPr/>
        </p:nvSpPr>
        <p:spPr>
          <a:xfrm>
            <a:off x="923760" y="2001960"/>
            <a:ext cx="7972560" cy="43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Times New Roman"/>
              </a:rPr>
              <a:t>Doen 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3366"/>
                </a:solidFill>
                <a:latin typeface="Times New Roman"/>
              </a:rPr>
              <a:t>Maak</a:t>
            </a: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 opgaven 11 t/m 1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3366"/>
                </a:solidFill>
                <a:latin typeface="Times New Roman"/>
              </a:rPr>
              <a:t>Voer</a:t>
            </a: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 experiment 9.1 (deel 1 t/m 5) uit § 9.3 </a:t>
            </a:r>
            <a:r>
              <a:rPr b="1" i="1" lang="nl-NL" sz="2400" spc="-1" strike="noStrike">
                <a:solidFill>
                  <a:srgbClr val="003366"/>
                </a:solidFill>
                <a:latin typeface="Times New Roman"/>
              </a:rPr>
              <a:t>uit</a:t>
            </a: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 en </a:t>
            </a:r>
            <a:r>
              <a:rPr b="1" i="1" lang="nl-NL" sz="2400" spc="-1" strike="noStrike">
                <a:solidFill>
                  <a:srgbClr val="003366"/>
                </a:solidFill>
                <a:latin typeface="Times New Roman"/>
              </a:rPr>
              <a:t>maak</a:t>
            </a: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 het bijbehorende meetrapport in je Werkboek.</a:t>
            </a: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3366"/>
                </a:solidFill>
                <a:latin typeface="Times New Roman"/>
              </a:rPr>
              <a:t>Internetopdracht</a:t>
            </a: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 ‘Molecuulbouwer’:</a:t>
            </a:r>
            <a:br>
              <a:rPr sz="2400"/>
            </a:br>
            <a:r>
              <a:rPr b="0" i="1" lang="nl-NL" sz="2400" spc="-1" strike="noStrike">
                <a:solidFill>
                  <a:srgbClr val="800000"/>
                </a:solidFill>
                <a:latin typeface="Times New Roman"/>
              </a:rPr>
              <a:t>Het asymmetrisch koolstofatoom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3366"/>
                </a:solidFill>
                <a:latin typeface="Times New Roman"/>
              </a:rPr>
              <a:t>Internetopdracht</a:t>
            </a: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 ‘Molecuulbouwer’:</a:t>
            </a:r>
            <a:br>
              <a:rPr sz="2400"/>
            </a:br>
            <a:r>
              <a:rPr b="0" i="1" lang="nl-NL" sz="2400" spc="-1" strike="noStrike">
                <a:solidFill>
                  <a:srgbClr val="800000"/>
                </a:solidFill>
                <a:latin typeface="Times New Roman"/>
              </a:rPr>
              <a:t>Enantiomer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3366"/>
                </a:solidFill>
                <a:latin typeface="Times New Roman"/>
              </a:rPr>
              <a:t>Internetopdracht</a:t>
            </a: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 ‘Molecuulbouwer’:</a:t>
            </a:r>
            <a:br>
              <a:rPr sz="2400"/>
            </a:br>
            <a:r>
              <a:rPr b="0" i="1" lang="nl-NL" sz="2400" spc="-1" strike="noStrike">
                <a:solidFill>
                  <a:srgbClr val="800000"/>
                </a:solidFill>
                <a:latin typeface="Times New Roman"/>
              </a:rPr>
              <a:t>Constitutie-isomeren &amp; Enantiomer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0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500"/>
                            </p:stCondLst>
                            <p:childTnLst>
                              <p:par>
                                <p:cTn id="8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2" dur="500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7" dur="500"/>
                                        <p:tgtEl>
                                          <p:spTgt spid="5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Enantiomeren</a:t>
            </a:r>
            <a:br>
              <a:rPr sz="4400"/>
            </a:b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eerdere asymmetrische centra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200240" y="2471760"/>
            <a:ext cx="5533920" cy="383220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2"/>
          <a:stretch/>
        </p:blipFill>
        <p:spPr>
          <a:xfrm>
            <a:off x="6354720" y="49320"/>
            <a:ext cx="2370240" cy="164124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923760" y="2001960"/>
            <a:ext cx="797256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Times New Roman"/>
              </a:rPr>
              <a:t>Eén asymmetrisch centrum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Het molecuul heeft een enantiomeer </a:t>
            </a:r>
            <a:r>
              <a:rPr b="1" i="1" lang="nl-NL" sz="2400" spc="-1" strike="noStrike">
                <a:solidFill>
                  <a:srgbClr val="003366"/>
                </a:solidFill>
                <a:latin typeface="Times New Roman"/>
              </a:rPr>
              <a:t>(spiegelbeeldisomeer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Voorbeeld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Times New Roman"/>
              </a:rPr>
              <a:t>2-broombutaa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0" y="292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3"/>
          <a:stretch/>
        </p:blipFill>
        <p:spPr>
          <a:xfrm>
            <a:off x="3679920" y="3430440"/>
            <a:ext cx="4641840" cy="330516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900000" y="981000"/>
            <a:ext cx="468360" cy="393840"/>
          </a:xfrm>
          <a:custGeom>
            <a:avLst/>
            <a:gdLst>
              <a:gd name="textAreaLeft" fmla="*/ 25200 w 468360"/>
              <a:gd name="textAreaRight" fmla="*/ 443160 w 4683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683" h="21600">
                <a:moveTo>
                  <a:pt x="0" y="0"/>
                </a:moveTo>
                <a:lnTo>
                  <a:pt x="25683" y="0"/>
                </a:lnTo>
                <a:lnTo>
                  <a:pt x="25683" y="21600"/>
                </a:lnTo>
                <a:lnTo>
                  <a:pt x="0" y="21600"/>
                </a:lnTo>
                <a:close/>
              </a:path>
              <a:path fill="lightenLess" w="25683" h="21600">
                <a:moveTo>
                  <a:pt x="0" y="0"/>
                </a:moveTo>
                <a:lnTo>
                  <a:pt x="25683" y="0"/>
                </a:lnTo>
                <a:lnTo>
                  <a:pt x="24283" y="1400"/>
                </a:lnTo>
                <a:lnTo>
                  <a:pt x="1400" y="1400"/>
                </a:lnTo>
                <a:close/>
              </a:path>
              <a:path fill="darken" w="25683" h="21600">
                <a:moveTo>
                  <a:pt x="25683" y="0"/>
                </a:moveTo>
                <a:lnTo>
                  <a:pt x="25683" y="21600"/>
                </a:lnTo>
                <a:lnTo>
                  <a:pt x="24283" y="20200"/>
                </a:lnTo>
                <a:lnTo>
                  <a:pt x="24283" y="1400"/>
                </a:lnTo>
                <a:close/>
              </a:path>
              <a:path fill="darkenLess" w="25683" h="21600">
                <a:moveTo>
                  <a:pt x="25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83" y="20200"/>
                </a:lnTo>
                <a:close/>
              </a:path>
              <a:path fill="lighten" w="25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83" h="21600">
                <a:moveTo>
                  <a:pt x="5835" y="7301"/>
                </a:moveTo>
                <a:lnTo>
                  <a:pt x="6749" y="7301"/>
                </a:lnTo>
                <a:lnTo>
                  <a:pt x="7132" y="7667"/>
                </a:lnTo>
                <a:lnTo>
                  <a:pt x="16341" y="7667"/>
                </a:lnTo>
                <a:lnTo>
                  <a:pt x="16898" y="8224"/>
                </a:lnTo>
                <a:lnTo>
                  <a:pt x="16898" y="8772"/>
                </a:lnTo>
                <a:lnTo>
                  <a:pt x="18743" y="8772"/>
                </a:lnTo>
                <a:lnTo>
                  <a:pt x="19108" y="8224"/>
                </a:lnTo>
                <a:lnTo>
                  <a:pt x="19848" y="8224"/>
                </a:lnTo>
                <a:lnTo>
                  <a:pt x="19848" y="13376"/>
                </a:lnTo>
                <a:lnTo>
                  <a:pt x="19108" y="13376"/>
                </a:lnTo>
                <a:lnTo>
                  <a:pt x="18743" y="12828"/>
                </a:lnTo>
                <a:lnTo>
                  <a:pt x="16898" y="12828"/>
                </a:lnTo>
                <a:lnTo>
                  <a:pt x="16898" y="14107"/>
                </a:lnTo>
                <a:lnTo>
                  <a:pt x="7315" y="14107"/>
                </a:lnTo>
                <a:lnTo>
                  <a:pt x="7315" y="9877"/>
                </a:lnTo>
                <a:lnTo>
                  <a:pt x="7132" y="9877"/>
                </a:lnTo>
                <a:lnTo>
                  <a:pt x="6749" y="10243"/>
                </a:lnTo>
                <a:lnTo>
                  <a:pt x="5835" y="10243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4" dur="500"/>
                                        <p:tgtEl>
                                          <p:spTgt spid="5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5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Overzicht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895320" y="2266920"/>
            <a:ext cx="5803920" cy="40197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2"/>
          <a:stretch/>
        </p:blipFill>
        <p:spPr>
          <a:xfrm>
            <a:off x="7418520" y="0"/>
            <a:ext cx="1215720" cy="1733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Enantiomeren (?)</a:t>
            </a:r>
            <a:br>
              <a:rPr sz="4400"/>
            </a:b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eerdere asymmetrische centra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68320" y="2476440"/>
            <a:ext cx="5896080" cy="408312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>
            <a:off x="6354720" y="90360"/>
            <a:ext cx="2381400" cy="164952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/>
          <p:nvPr/>
        </p:nvSpPr>
        <p:spPr>
          <a:xfrm>
            <a:off x="0" y="207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933480" y="2021040"/>
            <a:ext cx="7991280" cy="24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Times New Roman"/>
              </a:rPr>
              <a:t>Twee asymmetrische centr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Het molecuul </a:t>
            </a:r>
            <a:r>
              <a:rPr b="1" i="1" lang="nl-NL" sz="2400" spc="-1" strike="noStrike">
                <a:solidFill>
                  <a:srgbClr val="003366"/>
                </a:solidFill>
                <a:latin typeface="Times New Roman"/>
              </a:rPr>
              <a:t>kán toch symmetrisch</a:t>
            </a: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 zij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Times New Roman"/>
              </a:rPr>
              <a:t>Het molecuul heeft dus </a:t>
            </a:r>
            <a:r>
              <a:rPr b="1" i="1" lang="nl-NL" sz="1800" spc="-1" strike="noStrike">
                <a:solidFill>
                  <a:srgbClr val="800000"/>
                </a:solidFill>
                <a:latin typeface="Times New Roman"/>
              </a:rPr>
              <a:t>geen enantiomer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Times New Roman"/>
              </a:rPr>
              <a:t>Het molecuul heeft een </a:t>
            </a:r>
            <a:r>
              <a:rPr b="1" i="1" lang="nl-NL" sz="1800" spc="-1" strike="noStrike">
                <a:solidFill>
                  <a:srgbClr val="800000"/>
                </a:solidFill>
                <a:latin typeface="Times New Roman"/>
              </a:rPr>
              <a:t>intern spiegelvlak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Voorbeeld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Times New Roman"/>
              </a:rPr>
              <a:t>2,3-dibroombutaa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292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3"/>
          <a:stretch/>
        </p:blipFill>
        <p:spPr>
          <a:xfrm>
            <a:off x="644400" y="4459320"/>
            <a:ext cx="3570480" cy="239868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4"/>
          <a:stretch/>
        </p:blipFill>
        <p:spPr>
          <a:xfrm>
            <a:off x="4643280" y="4459320"/>
            <a:ext cx="2502000" cy="162864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/>
          <p:nvPr/>
        </p:nvSpPr>
        <p:spPr>
          <a:xfrm>
            <a:off x="4002120" y="6116760"/>
            <a:ext cx="36734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800000"/>
                </a:solidFill>
                <a:latin typeface="Times New Roman"/>
              </a:rPr>
              <a:t>meso</a:t>
            </a:r>
            <a:r>
              <a:rPr b="0" lang="nl-NL" sz="1800" spc="-1" strike="noStrike">
                <a:solidFill>
                  <a:srgbClr val="003366"/>
                </a:solidFill>
                <a:latin typeface="Times New Roman"/>
              </a:rPr>
              <a:t>-2,3-dibroombutaa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604" name=""/>
          <p:cNvGraphicFramePr/>
          <p:nvPr/>
        </p:nvGraphicFramePr>
        <p:xfrm>
          <a:off x="673200" y="4776840"/>
          <a:ext cx="1712880" cy="157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3200" y="4776840"/>
                    <a:ext cx="1712880" cy="15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/>
                                        <p:tgtEl>
                                          <p:spTgt spid="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6" dur="500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Enantiomeren (!)</a:t>
            </a:r>
            <a:br>
              <a:rPr sz="4400"/>
            </a:b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eerdere asymmetrische centra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68320" y="2476440"/>
            <a:ext cx="5896080" cy="408312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2"/>
          <a:stretch/>
        </p:blipFill>
        <p:spPr>
          <a:xfrm>
            <a:off x="6354720" y="90360"/>
            <a:ext cx="2381400" cy="1649520"/>
          </a:xfrm>
          <a:prstGeom prst="rect">
            <a:avLst/>
          </a:prstGeom>
          <a:ln w="0">
            <a:noFill/>
          </a:ln>
        </p:spPr>
      </p:pic>
      <p:sp>
        <p:nvSpPr>
          <p:cNvPr id="609" name=""/>
          <p:cNvSpPr/>
          <p:nvPr/>
        </p:nvSpPr>
        <p:spPr>
          <a:xfrm>
            <a:off x="0" y="207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933480" y="2021040"/>
            <a:ext cx="7991280" cy="24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Times New Roman"/>
              </a:rPr>
              <a:t>Twee asymmetrische centr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Het molecuul </a:t>
            </a:r>
            <a:r>
              <a:rPr b="1" i="1" lang="nl-NL" sz="2400" spc="-1" strike="noStrike">
                <a:solidFill>
                  <a:srgbClr val="003366"/>
                </a:solidFill>
                <a:latin typeface="Times New Roman"/>
              </a:rPr>
              <a:t>kán ook asymmetrisch</a:t>
            </a: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 zij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Times New Roman"/>
              </a:rPr>
              <a:t>Het molecuul heeft dus </a:t>
            </a:r>
            <a:r>
              <a:rPr b="1" i="1" lang="nl-NL" sz="1800" spc="-1" strike="noStrike">
                <a:solidFill>
                  <a:srgbClr val="800000"/>
                </a:solidFill>
                <a:latin typeface="Times New Roman"/>
              </a:rPr>
              <a:t>wel enantiomer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Times New Roman"/>
              </a:rPr>
              <a:t>Het molecuul heeft dus </a:t>
            </a:r>
            <a:r>
              <a:rPr b="1" i="1" lang="nl-NL" sz="1800" spc="-1" strike="noStrike">
                <a:solidFill>
                  <a:srgbClr val="800000"/>
                </a:solidFill>
                <a:latin typeface="Times New Roman"/>
              </a:rPr>
              <a:t>geen</a:t>
            </a:r>
            <a:r>
              <a:rPr b="0" lang="nl-NL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i="1" lang="nl-NL" sz="1800" spc="-1" strike="noStrike">
                <a:solidFill>
                  <a:srgbClr val="800000"/>
                </a:solidFill>
                <a:latin typeface="Times New Roman"/>
              </a:rPr>
              <a:t>intern spiegelvlak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Voorbeeld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Times New Roman"/>
              </a:rPr>
              <a:t>2-amino-3-hydroxybutaanzuu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0" y="292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709560" y="4535640"/>
          <a:ext cx="2457360" cy="23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9560" y="4535640"/>
                    <a:ext cx="2457360" cy="23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621" name=""/>
          <p:cNvGraphicFramePr/>
          <p:nvPr/>
        </p:nvGraphicFramePr>
        <p:xfrm>
          <a:off x="3151080" y="4535640"/>
          <a:ext cx="2392560" cy="224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51080" y="4535640"/>
                    <a:ext cx="2392560" cy="22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3" name="" descr=""/>
          <p:cNvPicPr/>
          <p:nvPr/>
        </p:nvPicPr>
        <p:blipFill>
          <a:blip r:embed="rId7"/>
          <a:srcRect l="-376923" t="33288" r="0" b="0"/>
          <a:stretch/>
        </p:blipFill>
        <p:spPr>
          <a:xfrm>
            <a:off x="3100320" y="4576680"/>
            <a:ext cx="44640" cy="2281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3" dur="500"/>
                                        <p:tgtEl>
                                          <p:spTgt spid="6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6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3" dur="500"/>
                                        <p:tgtEl>
                                          <p:spTgt spid="6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8" dur="500"/>
                                        <p:tgtEl>
                                          <p:spTgt spid="6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3" dur="500"/>
                                        <p:tgtEl>
                                          <p:spTgt spid="6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8" dur="500"/>
                                        <p:tgtEl>
                                          <p:spTgt spid="6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8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500"/>
                            </p:stCondLst>
                            <p:childTnLst>
                              <p:par>
                                <p:cTn id="10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2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258920" y="2514600"/>
            <a:ext cx="5481720" cy="3795840"/>
          </a:xfrm>
          <a:prstGeom prst="rect">
            <a:avLst/>
          </a:prstGeom>
          <a:ln w="0">
            <a:noFill/>
          </a:ln>
        </p:spPr>
      </p:pic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800000"/>
                </a:solidFill>
                <a:latin typeface="Times New Roman"/>
              </a:rPr>
              <a:t>Diastereo-isomeren </a:t>
            </a:r>
            <a:br>
              <a:rPr sz="4400"/>
            </a:br>
            <a:r>
              <a:rPr b="0" lang="nl-NL" sz="2400" spc="-1" strike="noStrike">
                <a:solidFill>
                  <a:srgbClr val="003366"/>
                </a:solidFill>
                <a:latin typeface="Times New Roman"/>
              </a:rPr>
              <a:t>&amp; Enantiomeren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0" y="207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952560" y="1913040"/>
            <a:ext cx="7991280" cy="28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Times New Roman"/>
              </a:rPr>
              <a:t>Twee asymmetrische centr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Er zijn twee paren </a:t>
            </a:r>
            <a:r>
              <a:rPr b="1" i="1" lang="nl-NL" sz="2400" spc="-1" strike="noStrike">
                <a:solidFill>
                  <a:srgbClr val="003366"/>
                </a:solidFill>
                <a:latin typeface="Times New Roman"/>
              </a:rPr>
              <a:t>enantiomer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Times New Roman"/>
              </a:rPr>
              <a:t>Twee paren </a:t>
            </a:r>
            <a:r>
              <a:rPr b="1" i="1" lang="nl-NL" sz="1800" spc="-1" strike="noStrike">
                <a:solidFill>
                  <a:srgbClr val="800000"/>
                </a:solidFill>
                <a:latin typeface="Times New Roman"/>
              </a:rPr>
              <a:t>spiegelbeeld isomer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Er zijn twee paren </a:t>
            </a:r>
            <a:r>
              <a:rPr b="1" i="1" lang="nl-NL" sz="2400" spc="-1" strike="noStrike">
                <a:solidFill>
                  <a:srgbClr val="003366"/>
                </a:solidFill>
                <a:latin typeface="Times New Roman"/>
              </a:rPr>
              <a:t>dia-stereoisomer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Times New Roman"/>
              </a:rPr>
              <a:t>Twee paren </a:t>
            </a:r>
            <a:r>
              <a:rPr b="1" i="1" lang="nl-NL" sz="1800" spc="-1" strike="noStrike">
                <a:solidFill>
                  <a:srgbClr val="800000"/>
                </a:solidFill>
                <a:latin typeface="Times New Roman"/>
              </a:rPr>
              <a:t>niet-spiegelbeeld isomer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Voorbeeld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Times New Roman"/>
              </a:rPr>
              <a:t>2-amino-3-hydroxybutaanzuur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0" y="292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2"/>
          <a:stretch/>
        </p:blipFill>
        <p:spPr>
          <a:xfrm>
            <a:off x="6384960" y="60480"/>
            <a:ext cx="2379600" cy="1649160"/>
          </a:xfrm>
          <a:prstGeom prst="rect">
            <a:avLst/>
          </a:prstGeom>
          <a:ln w="0">
            <a:noFill/>
          </a:ln>
        </p:spPr>
      </p:pic>
      <p:pic>
        <p:nvPicPr>
          <p:cNvPr id="635" name="" descr=""/>
          <p:cNvPicPr/>
          <p:nvPr/>
        </p:nvPicPr>
        <p:blipFill>
          <a:blip r:embed="rId3"/>
          <a:stretch/>
        </p:blipFill>
        <p:spPr>
          <a:xfrm>
            <a:off x="684360" y="4827600"/>
            <a:ext cx="1147680" cy="2030400"/>
          </a:xfrm>
          <a:prstGeom prst="rect">
            <a:avLst/>
          </a:prstGeom>
          <a:ln w="0">
            <a:noFill/>
          </a:ln>
        </p:spPr>
      </p:pic>
      <p:pic>
        <p:nvPicPr>
          <p:cNvPr id="636" name="" descr=""/>
          <p:cNvPicPr/>
          <p:nvPr/>
        </p:nvPicPr>
        <p:blipFill>
          <a:blip r:embed="rId4"/>
          <a:stretch/>
        </p:blipFill>
        <p:spPr>
          <a:xfrm>
            <a:off x="4352760" y="4832280"/>
            <a:ext cx="1144800" cy="2025720"/>
          </a:xfrm>
          <a:prstGeom prst="rect">
            <a:avLst/>
          </a:prstGeom>
          <a:ln w="0">
            <a:noFill/>
          </a:ln>
        </p:spPr>
      </p:pic>
      <p:grpSp>
        <p:nvGrpSpPr>
          <p:cNvPr id="637" name=""/>
          <p:cNvGrpSpPr/>
          <p:nvPr/>
        </p:nvGrpSpPr>
        <p:grpSpPr>
          <a:xfrm>
            <a:off x="5548320" y="4791240"/>
            <a:ext cx="1251000" cy="2066760"/>
            <a:chOff x="5548320" y="4791240"/>
            <a:chExt cx="1251000" cy="2066760"/>
          </a:xfrm>
        </p:grpSpPr>
        <p:pic>
          <p:nvPicPr>
            <p:cNvPr id="638" name="" descr=""/>
            <p:cNvPicPr/>
            <p:nvPr/>
          </p:nvPicPr>
          <p:blipFill>
            <a:blip r:embed="rId5"/>
            <a:stretch/>
          </p:blipFill>
          <p:spPr>
            <a:xfrm flipH="1">
              <a:off x="5654520" y="4832280"/>
              <a:ext cx="1144800" cy="202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9" name="" descr=""/>
            <p:cNvPicPr/>
            <p:nvPr/>
          </p:nvPicPr>
          <p:blipFill>
            <a:blip r:embed="rId6"/>
            <a:srcRect l="-515385" t="39562" r="0" b="0"/>
            <a:stretch/>
          </p:blipFill>
          <p:spPr>
            <a:xfrm>
              <a:off x="5548320" y="4791240"/>
              <a:ext cx="57240" cy="2066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0" name=""/>
          <p:cNvGrpSpPr/>
          <p:nvPr/>
        </p:nvGrpSpPr>
        <p:grpSpPr>
          <a:xfrm>
            <a:off x="1757520" y="4830840"/>
            <a:ext cx="1228680" cy="2027160"/>
            <a:chOff x="1757520" y="4830840"/>
            <a:chExt cx="1228680" cy="2027160"/>
          </a:xfrm>
        </p:grpSpPr>
        <p:pic>
          <p:nvPicPr>
            <p:cNvPr id="641" name="" descr=""/>
            <p:cNvPicPr/>
            <p:nvPr/>
          </p:nvPicPr>
          <p:blipFill>
            <a:blip r:embed="rId7"/>
            <a:stretch/>
          </p:blipFill>
          <p:spPr>
            <a:xfrm flipH="1">
              <a:off x="1841400" y="4832280"/>
              <a:ext cx="1144800" cy="202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2" name="" descr=""/>
            <p:cNvPicPr/>
            <p:nvPr/>
          </p:nvPicPr>
          <p:blipFill>
            <a:blip r:embed="rId8"/>
            <a:srcRect l="-376923" t="40720" r="0" b="0"/>
            <a:stretch/>
          </p:blipFill>
          <p:spPr>
            <a:xfrm>
              <a:off x="1757520" y="4830840"/>
              <a:ext cx="44280" cy="20271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6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6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9" dur="500"/>
                                        <p:tgtEl>
                                          <p:spTgt spid="6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4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9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4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258920" y="2457360"/>
            <a:ext cx="5481720" cy="3795840"/>
          </a:xfrm>
          <a:prstGeom prst="rect">
            <a:avLst/>
          </a:prstGeom>
          <a:ln w="0">
            <a:noFill/>
          </a:ln>
        </p:spPr>
      </p:pic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800000"/>
                </a:solidFill>
                <a:latin typeface="Times New Roman"/>
              </a:rPr>
              <a:t>Diastereo-isomeren</a:t>
            </a:r>
            <a:r>
              <a:rPr b="0" lang="nl-NL" sz="4800" spc="-1" strike="noStrike">
                <a:solidFill>
                  <a:srgbClr val="800000"/>
                </a:solidFill>
                <a:latin typeface="Times New Roman"/>
              </a:rPr>
              <a:t> </a:t>
            </a:r>
            <a:br>
              <a:rPr sz="4800"/>
            </a:br>
            <a:r>
              <a:rPr b="0" lang="nl-NL" sz="2800" spc="-1" strike="noStrike">
                <a:solidFill>
                  <a:srgbClr val="003366"/>
                </a:solidFill>
                <a:latin typeface="Times New Roman"/>
              </a:rPr>
              <a:t>&amp; Enantiomeren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207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952560" y="1913040"/>
            <a:ext cx="799128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2-amino-3-hydroxybutaanzuu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292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2"/>
          <a:stretch/>
        </p:blipFill>
        <p:spPr>
          <a:xfrm>
            <a:off x="6384960" y="60480"/>
            <a:ext cx="2379600" cy="1649160"/>
          </a:xfrm>
          <a:prstGeom prst="rect">
            <a:avLst/>
          </a:prstGeom>
          <a:ln w="0">
            <a:noFill/>
          </a:ln>
        </p:spPr>
      </p:pic>
      <p:grpSp>
        <p:nvGrpSpPr>
          <p:cNvPr id="654" name=""/>
          <p:cNvGrpSpPr/>
          <p:nvPr/>
        </p:nvGrpSpPr>
        <p:grpSpPr>
          <a:xfrm>
            <a:off x="1327320" y="2382840"/>
            <a:ext cx="6114960" cy="3535200"/>
            <a:chOff x="1327320" y="2382840"/>
            <a:chExt cx="6114960" cy="3535200"/>
          </a:xfrm>
        </p:grpSpPr>
        <p:pic>
          <p:nvPicPr>
            <p:cNvPr id="655" name="" descr=""/>
            <p:cNvPicPr/>
            <p:nvPr/>
          </p:nvPicPr>
          <p:blipFill>
            <a:blip r:embed="rId3"/>
            <a:stretch/>
          </p:blipFill>
          <p:spPr>
            <a:xfrm>
              <a:off x="1327320" y="2514600"/>
              <a:ext cx="1147680" cy="203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" descr=""/>
            <p:cNvPicPr/>
            <p:nvPr/>
          </p:nvPicPr>
          <p:blipFill>
            <a:blip r:embed="rId4"/>
            <a:stretch/>
          </p:blipFill>
          <p:spPr>
            <a:xfrm>
              <a:off x="4995720" y="2519280"/>
              <a:ext cx="1144800" cy="202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" descr=""/>
            <p:cNvPicPr/>
            <p:nvPr/>
          </p:nvPicPr>
          <p:blipFill>
            <a:blip r:embed="rId5"/>
            <a:stretch/>
          </p:blipFill>
          <p:spPr>
            <a:xfrm flipH="1">
              <a:off x="6297480" y="2519280"/>
              <a:ext cx="1144800" cy="202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8" name="" descr=""/>
            <p:cNvPicPr/>
            <p:nvPr/>
          </p:nvPicPr>
          <p:blipFill>
            <a:blip r:embed="rId6"/>
            <a:srcRect l="-376923" t="3716" r="-203846" b="-2548"/>
            <a:stretch/>
          </p:blipFill>
          <p:spPr>
            <a:xfrm>
              <a:off x="6242040" y="2527200"/>
              <a:ext cx="63360" cy="338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9" name="" descr=""/>
            <p:cNvPicPr/>
            <p:nvPr/>
          </p:nvPicPr>
          <p:blipFill>
            <a:blip r:embed="rId7"/>
            <a:stretch/>
          </p:blipFill>
          <p:spPr>
            <a:xfrm flipH="1">
              <a:off x="2484360" y="2519280"/>
              <a:ext cx="1144800" cy="202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0" name="" descr=""/>
            <p:cNvPicPr/>
            <p:nvPr/>
          </p:nvPicPr>
          <p:blipFill>
            <a:blip r:embed="rId8"/>
            <a:srcRect l="-376923" t="-3379" r="0" b="0"/>
            <a:stretch/>
          </p:blipFill>
          <p:spPr>
            <a:xfrm>
              <a:off x="2419200" y="2382840"/>
              <a:ext cx="44640" cy="3535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61" name="" descr=""/>
          <p:cNvPicPr/>
          <p:nvPr/>
        </p:nvPicPr>
        <p:blipFill>
          <a:blip r:embed="rId9"/>
          <a:stretch/>
        </p:blipFill>
        <p:spPr>
          <a:xfrm>
            <a:off x="1346040" y="4522680"/>
            <a:ext cx="1087560" cy="1301760"/>
          </a:xfrm>
          <a:prstGeom prst="rect">
            <a:avLst/>
          </a:prstGeom>
          <a:ln w="0">
            <a:noFill/>
          </a:ln>
        </p:spPr>
      </p:pic>
      <p:pic>
        <p:nvPicPr>
          <p:cNvPr id="662" name="" descr=""/>
          <p:cNvPicPr/>
          <p:nvPr/>
        </p:nvPicPr>
        <p:blipFill>
          <a:blip r:embed="rId10"/>
          <a:stretch/>
        </p:blipFill>
        <p:spPr>
          <a:xfrm>
            <a:off x="2494080" y="4522680"/>
            <a:ext cx="1082520" cy="1297080"/>
          </a:xfrm>
          <a:prstGeom prst="rect">
            <a:avLst/>
          </a:prstGeom>
          <a:ln w="0">
            <a:noFill/>
          </a:ln>
        </p:spPr>
      </p:pic>
      <p:pic>
        <p:nvPicPr>
          <p:cNvPr id="663" name="" descr=""/>
          <p:cNvPicPr/>
          <p:nvPr/>
        </p:nvPicPr>
        <p:blipFill>
          <a:blip r:embed="rId11"/>
          <a:stretch/>
        </p:blipFill>
        <p:spPr>
          <a:xfrm>
            <a:off x="5099040" y="4522680"/>
            <a:ext cx="1082520" cy="1297080"/>
          </a:xfrm>
          <a:prstGeom prst="rect">
            <a:avLst/>
          </a:prstGeom>
          <a:ln w="0">
            <a:noFill/>
          </a:ln>
        </p:spPr>
      </p:pic>
      <p:pic>
        <p:nvPicPr>
          <p:cNvPr id="664" name="" descr=""/>
          <p:cNvPicPr/>
          <p:nvPr/>
        </p:nvPicPr>
        <p:blipFill>
          <a:blip r:embed="rId12"/>
          <a:stretch/>
        </p:blipFill>
        <p:spPr>
          <a:xfrm>
            <a:off x="6305400" y="4522680"/>
            <a:ext cx="1082880" cy="129708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/>
          <p:nvPr/>
        </p:nvSpPr>
        <p:spPr>
          <a:xfrm>
            <a:off x="844560" y="5735520"/>
            <a:ext cx="26416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800000"/>
                </a:solidFill>
                <a:latin typeface="Times New Roman"/>
              </a:rPr>
              <a:t>enantiomer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813200" y="5735520"/>
            <a:ext cx="26416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800000"/>
                </a:solidFill>
                <a:latin typeface="Times New Roman"/>
              </a:rPr>
              <a:t>enantiomeren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667" name=""/>
          <p:cNvGrpSpPr/>
          <p:nvPr/>
        </p:nvGrpSpPr>
        <p:grpSpPr>
          <a:xfrm>
            <a:off x="2478240" y="3766680"/>
            <a:ext cx="3457440" cy="2880360"/>
            <a:chOff x="2478240" y="3766680"/>
            <a:chExt cx="3457440" cy="2880360"/>
          </a:xfrm>
        </p:grpSpPr>
        <p:sp>
          <p:nvSpPr>
            <p:cNvPr id="668" name=""/>
            <p:cNvSpPr/>
            <p:nvPr/>
          </p:nvSpPr>
          <p:spPr>
            <a:xfrm>
              <a:off x="2478240" y="6251400"/>
              <a:ext cx="3197160" cy="3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lvl="1" marL="609120" indent="-23436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nl-NL" sz="2400" spc="-1" strike="noStrike">
                  <a:solidFill>
                    <a:srgbClr val="800000"/>
                  </a:solidFill>
                  <a:latin typeface="Times New Roman"/>
                </a:rPr>
                <a:t>diastereo-isomeren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 flipV="1">
              <a:off x="2714760" y="3774600"/>
              <a:ext cx="1604880" cy="25290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4330800" y="3766680"/>
              <a:ext cx="1604880" cy="25290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6" dur="5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1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6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1" dur="5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6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1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6" dur="500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1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258920" y="2457360"/>
            <a:ext cx="5481720" cy="379584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/>
          <p:nvPr/>
        </p:nvSpPr>
        <p:spPr>
          <a:xfrm>
            <a:off x="0" y="207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0" y="292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2"/>
          <a:stretch/>
        </p:blipFill>
        <p:spPr>
          <a:xfrm>
            <a:off x="6384960" y="60480"/>
            <a:ext cx="2379600" cy="164916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/>
          <p:nvPr/>
        </p:nvSpPr>
        <p:spPr>
          <a:xfrm>
            <a:off x="923760" y="2001960"/>
            <a:ext cx="7972560" cy="34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Times New Roman"/>
              </a:rPr>
              <a:t>Doen 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3366"/>
                </a:solidFill>
                <a:latin typeface="Times New Roman"/>
              </a:rPr>
              <a:t>Maak</a:t>
            </a: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 opgaven 15 &amp; 16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3366"/>
                </a:solidFill>
                <a:latin typeface="Times New Roman"/>
              </a:rPr>
              <a:t>Voer</a:t>
            </a: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 experiment 9.1 (deel 6 t/m 8) uit § 9.3 </a:t>
            </a:r>
            <a:r>
              <a:rPr b="1" i="1" lang="nl-NL" sz="2400" spc="-1" strike="noStrike">
                <a:solidFill>
                  <a:srgbClr val="003366"/>
                </a:solidFill>
                <a:latin typeface="Times New Roman"/>
              </a:rPr>
              <a:t>uit</a:t>
            </a: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 en </a:t>
            </a:r>
            <a:r>
              <a:rPr b="1" i="1" lang="nl-NL" sz="2400" spc="-1" strike="noStrike">
                <a:solidFill>
                  <a:srgbClr val="003366"/>
                </a:solidFill>
                <a:latin typeface="Times New Roman"/>
              </a:rPr>
              <a:t>maak</a:t>
            </a: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 het bijbehorende meetrapport in je Werkboek.</a:t>
            </a: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3366"/>
                </a:solidFill>
                <a:latin typeface="Times New Roman"/>
              </a:rPr>
              <a:t>Internetopdracht</a:t>
            </a: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 ‘Molecuulbouwer’:</a:t>
            </a:r>
            <a:br>
              <a:rPr sz="2400"/>
            </a:br>
            <a:r>
              <a:rPr b="0" i="1" lang="nl-NL" sz="2400" spc="-1" strike="noStrike">
                <a:solidFill>
                  <a:srgbClr val="800000"/>
                </a:solidFill>
                <a:latin typeface="Times New Roman"/>
              </a:rPr>
              <a:t>Constitutie-isomeren, Enantiomeren &amp; Diastereo-isomer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800000"/>
                </a:solidFill>
                <a:latin typeface="Times New Roman"/>
              </a:rPr>
              <a:t>Enantiomeren &amp; Diastereo-isomeren </a:t>
            </a:r>
            <a:br>
              <a:rPr sz="4800"/>
            </a:br>
            <a:r>
              <a:rPr b="0" lang="nl-NL" sz="2800" spc="-1" strike="noStrike">
                <a:solidFill>
                  <a:srgbClr val="003366"/>
                </a:solidFill>
                <a:latin typeface="Times New Roman"/>
              </a:rPr>
              <a:t>Opgaven &amp; modellenpracticum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8" dur="5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3" dur="500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8" dur="500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3" dur="500"/>
                                        <p:tgtEl>
                                          <p:spTgt spid="6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Times New Roman"/>
              </a:rPr>
              <a:t>Optische activiteit</a:t>
            </a:r>
            <a:endParaRPr b="0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1115640" y="2276280"/>
            <a:ext cx="7559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en stofeigenschap waarin 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spiegelbeeld-isomeren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van elkaar verschillen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684" name=""/>
          <p:cNvGraphicFramePr/>
          <p:nvPr/>
        </p:nvGraphicFramePr>
        <p:xfrm>
          <a:off x="5410080" y="3821040"/>
          <a:ext cx="2895840" cy="28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821040"/>
                    <a:ext cx="2895840" cy="28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6" name=""/>
          <p:cNvGraphicFramePr/>
          <p:nvPr/>
        </p:nvGraphicFramePr>
        <p:xfrm>
          <a:off x="1752480" y="3814920"/>
          <a:ext cx="2895840" cy="288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3814920"/>
                    <a:ext cx="2895840" cy="28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8" name="" descr=""/>
          <p:cNvPicPr/>
          <p:nvPr/>
        </p:nvPicPr>
        <p:blipFill>
          <a:blip r:embed="rId5"/>
          <a:stretch/>
        </p:blipFill>
        <p:spPr>
          <a:xfrm>
            <a:off x="5540400" y="0"/>
            <a:ext cx="3603600" cy="2298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34" dur="indefinite" restart="never" nodeType="tmRoot">
          <p:childTnLst>
            <p:seq>
              <p:cTn id="1135" dur="indefinite" nodeType="mainSeq">
                <p:childTnLst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0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5" dur="5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0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5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Optische activiteit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900000" y="1989000"/>
            <a:ext cx="7315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piegelbeeldisomeren zijn 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optisch actief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zij  kunnen het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polarisatievlak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 van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gepolariseerd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 licht draaien onder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een hoek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2232000" y="3357720"/>
          <a:ext cx="1630440" cy="16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2000" y="3357720"/>
                    <a:ext cx="1630440" cy="16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50920" y="3357720"/>
          <a:ext cx="1633320" cy="162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3357720"/>
                    <a:ext cx="1633320" cy="16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5" name=""/>
          <p:cNvSpPr/>
          <p:nvPr/>
        </p:nvSpPr>
        <p:spPr>
          <a:xfrm>
            <a:off x="900000" y="4869000"/>
            <a:ext cx="73152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Vrage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Wat is ‘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gepolariseerd licht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’?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Wat is ‘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het polarisatievlak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’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Wat is ‘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draaien onder een hoek </a:t>
            </a:r>
            <a:r>
              <a:rPr b="1" i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’?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657600" y="3500280"/>
            <a:ext cx="5486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Waarin verschillen deze ?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5562720" y="155520"/>
            <a:ext cx="3580920" cy="1474920"/>
            <a:chOff x="5562720" y="155520"/>
            <a:chExt cx="3580920" cy="1474920"/>
          </a:xfrm>
        </p:grpSpPr>
        <p:graphicFrame>
          <p:nvGraphicFramePr>
            <p:cNvPr id="698" name=""/>
            <p:cNvGraphicFramePr/>
            <p:nvPr/>
          </p:nvGraphicFramePr>
          <p:xfrm>
            <a:off x="7526880" y="155520"/>
            <a:ext cx="1616760" cy="1463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9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26880" y="155520"/>
                      <a:ext cx="1616760" cy="146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0" name=""/>
            <p:cNvGraphicFramePr/>
            <p:nvPr/>
          </p:nvGraphicFramePr>
          <p:xfrm>
            <a:off x="5562720" y="155520"/>
            <a:ext cx="1620000" cy="1474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0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562720" y="155520"/>
                      <a:ext cx="1620000" cy="147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7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2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7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2" dur="5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7" dur="500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2" dur="500"/>
                                        <p:tgtEl>
                                          <p:spTgt spid="6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7" dur="500"/>
                                        <p:tgtEl>
                                          <p:spTgt spid="6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500"/>
                                        <p:tgtEl>
                                          <p:spTgt spid="6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7" dur="500"/>
                                        <p:tgtEl>
                                          <p:spTgt spid="6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Optische activiteit</a:t>
            </a:r>
            <a:br>
              <a:rPr sz="4400"/>
            </a:b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e polarimeter (1)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838080" y="3573360"/>
            <a:ext cx="8305920" cy="2509920"/>
          </a:xfrm>
          <a:prstGeom prst="rect">
            <a:avLst/>
          </a:prstGeom>
          <a:ln w="0">
            <a:noFill/>
          </a:ln>
        </p:spPr>
      </p:pic>
      <p:grpSp>
        <p:nvGrpSpPr>
          <p:cNvPr id="704" name=""/>
          <p:cNvGrpSpPr/>
          <p:nvPr/>
        </p:nvGrpSpPr>
        <p:grpSpPr>
          <a:xfrm>
            <a:off x="932760" y="5805360"/>
            <a:ext cx="2343600" cy="699480"/>
            <a:chOff x="932760" y="5805360"/>
            <a:chExt cx="2343600" cy="699480"/>
          </a:xfrm>
        </p:grpSpPr>
        <p:sp>
          <p:nvSpPr>
            <p:cNvPr id="705" name=""/>
            <p:cNvSpPr/>
            <p:nvPr/>
          </p:nvSpPr>
          <p:spPr>
            <a:xfrm flipV="1">
              <a:off x="2376360" y="5805360"/>
              <a:ext cx="900000" cy="316080"/>
            </a:xfrm>
            <a:prstGeom prst="line">
              <a:avLst/>
            </a:prstGeom>
            <a:ln w="507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932760" y="6045120"/>
              <a:ext cx="174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3366"/>
                  </a:solidFill>
                  <a:latin typeface="BankGothic Md BT"/>
                </a:rPr>
                <a:t>polarisator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2490840" y="5562360"/>
            <a:ext cx="4795560" cy="1298160"/>
            <a:chOff x="2490840" y="5562360"/>
            <a:chExt cx="4795560" cy="1298160"/>
          </a:xfrm>
        </p:grpSpPr>
        <p:sp>
          <p:nvSpPr>
            <p:cNvPr id="708" name=""/>
            <p:cNvSpPr/>
            <p:nvPr/>
          </p:nvSpPr>
          <p:spPr>
            <a:xfrm flipV="1">
              <a:off x="4896000" y="5562360"/>
              <a:ext cx="138240" cy="757080"/>
            </a:xfrm>
            <a:prstGeom prst="line">
              <a:avLst/>
            </a:prstGeom>
            <a:ln w="507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490840" y="6400800"/>
              <a:ext cx="479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BankGothic Md BT"/>
                </a:rPr>
                <a:t>meetcel met optisch actieve stof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7233120" y="5740560"/>
            <a:ext cx="1683360" cy="764280"/>
            <a:chOff x="7233120" y="5740560"/>
            <a:chExt cx="1683360" cy="764280"/>
          </a:xfrm>
        </p:grpSpPr>
        <p:sp>
          <p:nvSpPr>
            <p:cNvPr id="711" name=""/>
            <p:cNvSpPr/>
            <p:nvPr/>
          </p:nvSpPr>
          <p:spPr>
            <a:xfrm flipH="1" flipV="1">
              <a:off x="7591320" y="5740560"/>
              <a:ext cx="685800" cy="304560"/>
            </a:xfrm>
            <a:prstGeom prst="line">
              <a:avLst/>
            </a:prstGeom>
            <a:ln w="507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233120" y="6045120"/>
              <a:ext cx="168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BankGothic Md BT"/>
                </a:rPr>
                <a:t>analysator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2351160" y="3429000"/>
            <a:ext cx="2855520" cy="1038240"/>
            <a:chOff x="2351160" y="3429000"/>
            <a:chExt cx="2855520" cy="1038240"/>
          </a:xfrm>
        </p:grpSpPr>
        <p:sp>
          <p:nvSpPr>
            <p:cNvPr id="714" name=""/>
            <p:cNvSpPr/>
            <p:nvPr/>
          </p:nvSpPr>
          <p:spPr>
            <a:xfrm>
              <a:off x="2351160" y="3429000"/>
              <a:ext cx="285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BankGothic Md BT"/>
                </a:rPr>
                <a:t>gepolariseerd licht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4190760" y="3886200"/>
              <a:ext cx="380880" cy="581040"/>
            </a:xfrm>
            <a:prstGeom prst="line">
              <a:avLst/>
            </a:prstGeom>
            <a:ln w="507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6199200" y="3429000"/>
            <a:ext cx="2690640" cy="838080"/>
            <a:chOff x="6199200" y="3429000"/>
            <a:chExt cx="2690640" cy="838080"/>
          </a:xfrm>
        </p:grpSpPr>
        <p:sp>
          <p:nvSpPr>
            <p:cNvPr id="717" name=""/>
            <p:cNvSpPr/>
            <p:nvPr/>
          </p:nvSpPr>
          <p:spPr>
            <a:xfrm>
              <a:off x="6199200" y="3429000"/>
              <a:ext cx="269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3366"/>
                  </a:solidFill>
                  <a:latin typeface="BankGothic Md BT"/>
                </a:rPr>
                <a:t>Draaiingshoek </a:t>
              </a:r>
              <a:r>
                <a:rPr b="0" lang="nl-NL" sz="2400" spc="-1" strike="noStrike">
                  <a:solidFill>
                    <a:srgbClr val="003366"/>
                  </a:solidFill>
                  <a:latin typeface="Symbol"/>
                  <a:ea typeface="Symbol"/>
                </a:rPr>
                <a:t></a:t>
              </a:r>
              <a:r>
                <a:rPr b="0" lang="nl-NL" sz="2400" spc="-1" strike="noStrike">
                  <a:solidFill>
                    <a:srgbClr val="003366"/>
                  </a:solidFill>
                  <a:latin typeface="BankGothic Md BT"/>
                </a:rPr>
                <a:t> 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924680" y="3809880"/>
              <a:ext cx="304920" cy="457200"/>
            </a:xfrm>
            <a:prstGeom prst="line">
              <a:avLst/>
            </a:prstGeom>
            <a:ln w="507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35640" y="3581280"/>
            <a:ext cx="1183680" cy="990720"/>
            <a:chOff x="35640" y="3581280"/>
            <a:chExt cx="1183680" cy="990720"/>
          </a:xfrm>
        </p:grpSpPr>
        <p:sp>
          <p:nvSpPr>
            <p:cNvPr id="720" name=""/>
            <p:cNvSpPr/>
            <p:nvPr/>
          </p:nvSpPr>
          <p:spPr>
            <a:xfrm>
              <a:off x="609480" y="4038480"/>
              <a:ext cx="609840" cy="533520"/>
            </a:xfrm>
            <a:prstGeom prst="line">
              <a:avLst/>
            </a:prstGeom>
            <a:ln w="5076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5640" y="3581280"/>
              <a:ext cx="90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BankGothic Md BT"/>
                </a:rPr>
                <a:t>lamp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5562720" y="155520"/>
            <a:ext cx="3580920" cy="1474920"/>
            <a:chOff x="5562720" y="155520"/>
            <a:chExt cx="3580920" cy="1474920"/>
          </a:xfrm>
        </p:grpSpPr>
        <p:graphicFrame>
          <p:nvGraphicFramePr>
            <p:cNvPr id="723" name=""/>
            <p:cNvGraphicFramePr/>
            <p:nvPr/>
          </p:nvGraphicFramePr>
          <p:xfrm>
            <a:off x="7526880" y="155520"/>
            <a:ext cx="1616760" cy="1463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72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526880" y="155520"/>
                      <a:ext cx="1616760" cy="146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5" name=""/>
            <p:cNvGraphicFramePr/>
            <p:nvPr/>
          </p:nvGraphicFramePr>
          <p:xfrm>
            <a:off x="5562720" y="155520"/>
            <a:ext cx="1620000" cy="14749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2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562720" y="155520"/>
                      <a:ext cx="1620000" cy="147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00000" y="1989000"/>
            <a:ext cx="7315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piegelbeeldisomeren zijn 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optisch actief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zij  kunnen het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polarisatievlak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 van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gepolariseerd licht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 draaien onder een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hoek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900000" y="981000"/>
            <a:ext cx="468360" cy="393840"/>
          </a:xfrm>
          <a:custGeom>
            <a:avLst/>
            <a:gdLst>
              <a:gd name="textAreaLeft" fmla="*/ 25200 w 468360"/>
              <a:gd name="textAreaRight" fmla="*/ 443160 w 4683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683" h="21600">
                <a:moveTo>
                  <a:pt x="0" y="0"/>
                </a:moveTo>
                <a:lnTo>
                  <a:pt x="25683" y="0"/>
                </a:lnTo>
                <a:lnTo>
                  <a:pt x="25683" y="21600"/>
                </a:lnTo>
                <a:lnTo>
                  <a:pt x="0" y="21600"/>
                </a:lnTo>
                <a:close/>
              </a:path>
              <a:path fill="lightenLess" w="25683" h="21600">
                <a:moveTo>
                  <a:pt x="0" y="0"/>
                </a:moveTo>
                <a:lnTo>
                  <a:pt x="25683" y="0"/>
                </a:lnTo>
                <a:lnTo>
                  <a:pt x="24283" y="1400"/>
                </a:lnTo>
                <a:lnTo>
                  <a:pt x="1400" y="1400"/>
                </a:lnTo>
                <a:close/>
              </a:path>
              <a:path fill="darken" w="25683" h="21600">
                <a:moveTo>
                  <a:pt x="25683" y="0"/>
                </a:moveTo>
                <a:lnTo>
                  <a:pt x="25683" y="21600"/>
                </a:lnTo>
                <a:lnTo>
                  <a:pt x="24283" y="20200"/>
                </a:lnTo>
                <a:lnTo>
                  <a:pt x="24283" y="1400"/>
                </a:lnTo>
                <a:close/>
              </a:path>
              <a:path fill="darkenLess" w="25683" h="21600">
                <a:moveTo>
                  <a:pt x="25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83" y="20200"/>
                </a:lnTo>
                <a:close/>
              </a:path>
              <a:path fill="lighten" w="25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83" h="21600">
                <a:moveTo>
                  <a:pt x="5835" y="7301"/>
                </a:moveTo>
                <a:lnTo>
                  <a:pt x="6749" y="7301"/>
                </a:lnTo>
                <a:lnTo>
                  <a:pt x="7132" y="7667"/>
                </a:lnTo>
                <a:lnTo>
                  <a:pt x="16341" y="7667"/>
                </a:lnTo>
                <a:lnTo>
                  <a:pt x="16898" y="8224"/>
                </a:lnTo>
                <a:lnTo>
                  <a:pt x="16898" y="8772"/>
                </a:lnTo>
                <a:lnTo>
                  <a:pt x="18743" y="8772"/>
                </a:lnTo>
                <a:lnTo>
                  <a:pt x="19108" y="8224"/>
                </a:lnTo>
                <a:lnTo>
                  <a:pt x="19848" y="8224"/>
                </a:lnTo>
                <a:lnTo>
                  <a:pt x="19848" y="13376"/>
                </a:lnTo>
                <a:lnTo>
                  <a:pt x="19108" y="13376"/>
                </a:lnTo>
                <a:lnTo>
                  <a:pt x="18743" y="12828"/>
                </a:lnTo>
                <a:lnTo>
                  <a:pt x="16898" y="12828"/>
                </a:lnTo>
                <a:lnTo>
                  <a:pt x="16898" y="14107"/>
                </a:lnTo>
                <a:lnTo>
                  <a:pt x="7315" y="14107"/>
                </a:lnTo>
                <a:lnTo>
                  <a:pt x="7315" y="9877"/>
                </a:lnTo>
                <a:lnTo>
                  <a:pt x="7132" y="9877"/>
                </a:lnTo>
                <a:lnTo>
                  <a:pt x="6749" y="10243"/>
                </a:lnTo>
                <a:lnTo>
                  <a:pt x="5835" y="10243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208" dur="indefinite" restart="never" nodeType="tmRoot">
          <p:childTnLst>
            <p:seq>
              <p:cTn id="1209" dur="indefinite" nodeType="mainSeq">
                <p:childTnLst>
                  <p:par>
                    <p:cTn id="1210" fill="hold">
                      <p:stCondLst>
                        <p:cond delay="indefinite"/>
                      </p:stCondLst>
                      <p:childTnLst>
                        <p:par>
                          <p:cTn id="1211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4" dur="5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9" dur="500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9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9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4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9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4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Optische activiteit</a:t>
            </a:r>
            <a:br>
              <a:rPr sz="4400"/>
            </a:b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De polarimeter (2)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00000" y="5441760"/>
            <a:ext cx="7920000" cy="14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polarisator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maakt gepolariseerd licht.</a:t>
            </a:r>
            <a:endParaRPr b="0" lang="en-US" sz="20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 oplossing met optisch actieve stof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draait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het polarisatievlak </a:t>
            </a:r>
            <a:r>
              <a:rPr b="0" lang="nl-NL" sz="2000" spc="-1" strike="noStrike">
                <a:solidFill>
                  <a:srgbClr val="800000"/>
                </a:solidFill>
                <a:latin typeface="Symbol"/>
                <a:ea typeface="Symbol"/>
              </a:rPr>
              <a:t>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º</a:t>
            </a:r>
            <a:endParaRPr b="0" lang="en-US" sz="20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Met de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analysator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wordt de waarde </a:t>
            </a:r>
            <a:r>
              <a:rPr b="0" lang="nl-NL" sz="2000" spc="-1" strike="noStrike">
                <a:solidFill>
                  <a:srgbClr val="800000"/>
                </a:solidFill>
                <a:latin typeface="Symbol"/>
                <a:ea typeface="Symbol"/>
              </a:rPr>
              <a:t>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gemeten</a:t>
            </a:r>
            <a:endParaRPr b="0" lang="en-US" sz="2000" spc="-1" strike="noStrike">
              <a:solidFill>
                <a:srgbClr val="800000"/>
              </a:solidFill>
              <a:latin typeface="Times New Roman"/>
            </a:endParaRPr>
          </a:p>
        </p:txBody>
      </p:sp>
      <p:graphicFrame>
        <p:nvGraphicFramePr>
          <p:cNvPr id="731" name=""/>
          <p:cNvGraphicFramePr/>
          <p:nvPr/>
        </p:nvGraphicFramePr>
        <p:xfrm>
          <a:off x="611280" y="2637000"/>
          <a:ext cx="6781680" cy="295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637000"/>
                    <a:ext cx="678168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3" name=""/>
          <p:cNvSpPr/>
          <p:nvPr/>
        </p:nvSpPr>
        <p:spPr>
          <a:xfrm>
            <a:off x="826920" y="2133720"/>
            <a:ext cx="6481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De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polarimeter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in vereenvoudigde vorm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900000" y="981000"/>
            <a:ext cx="468360" cy="393840"/>
          </a:xfrm>
          <a:custGeom>
            <a:avLst/>
            <a:gdLst>
              <a:gd name="textAreaLeft" fmla="*/ 25200 w 468360"/>
              <a:gd name="textAreaRight" fmla="*/ 443160 w 4683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683" h="21600">
                <a:moveTo>
                  <a:pt x="0" y="0"/>
                </a:moveTo>
                <a:lnTo>
                  <a:pt x="25683" y="0"/>
                </a:lnTo>
                <a:lnTo>
                  <a:pt x="25683" y="21600"/>
                </a:lnTo>
                <a:lnTo>
                  <a:pt x="0" y="21600"/>
                </a:lnTo>
                <a:close/>
              </a:path>
              <a:path fill="lightenLess" w="25683" h="21600">
                <a:moveTo>
                  <a:pt x="0" y="0"/>
                </a:moveTo>
                <a:lnTo>
                  <a:pt x="25683" y="0"/>
                </a:lnTo>
                <a:lnTo>
                  <a:pt x="24283" y="1400"/>
                </a:lnTo>
                <a:lnTo>
                  <a:pt x="1400" y="1400"/>
                </a:lnTo>
                <a:close/>
              </a:path>
              <a:path fill="darken" w="25683" h="21600">
                <a:moveTo>
                  <a:pt x="25683" y="0"/>
                </a:moveTo>
                <a:lnTo>
                  <a:pt x="25683" y="21600"/>
                </a:lnTo>
                <a:lnTo>
                  <a:pt x="24283" y="20200"/>
                </a:lnTo>
                <a:lnTo>
                  <a:pt x="24283" y="1400"/>
                </a:lnTo>
                <a:close/>
              </a:path>
              <a:path fill="darkenLess" w="25683" h="21600">
                <a:moveTo>
                  <a:pt x="25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83" y="20200"/>
                </a:lnTo>
                <a:close/>
              </a:path>
              <a:path fill="lighten" w="25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83" h="21600">
                <a:moveTo>
                  <a:pt x="5835" y="7301"/>
                </a:moveTo>
                <a:lnTo>
                  <a:pt x="6749" y="7301"/>
                </a:lnTo>
                <a:lnTo>
                  <a:pt x="7132" y="7667"/>
                </a:lnTo>
                <a:lnTo>
                  <a:pt x="16341" y="7667"/>
                </a:lnTo>
                <a:lnTo>
                  <a:pt x="16898" y="8224"/>
                </a:lnTo>
                <a:lnTo>
                  <a:pt x="16898" y="8772"/>
                </a:lnTo>
                <a:lnTo>
                  <a:pt x="18743" y="8772"/>
                </a:lnTo>
                <a:lnTo>
                  <a:pt x="19108" y="8224"/>
                </a:lnTo>
                <a:lnTo>
                  <a:pt x="19848" y="8224"/>
                </a:lnTo>
                <a:lnTo>
                  <a:pt x="19848" y="13376"/>
                </a:lnTo>
                <a:lnTo>
                  <a:pt x="19108" y="13376"/>
                </a:lnTo>
                <a:lnTo>
                  <a:pt x="18743" y="12828"/>
                </a:lnTo>
                <a:lnTo>
                  <a:pt x="16898" y="12828"/>
                </a:lnTo>
                <a:lnTo>
                  <a:pt x="16898" y="14107"/>
                </a:lnTo>
                <a:lnTo>
                  <a:pt x="7315" y="14107"/>
                </a:lnTo>
                <a:lnTo>
                  <a:pt x="7315" y="9877"/>
                </a:lnTo>
                <a:lnTo>
                  <a:pt x="7132" y="9877"/>
                </a:lnTo>
                <a:lnTo>
                  <a:pt x="6749" y="10243"/>
                </a:lnTo>
                <a:lnTo>
                  <a:pt x="5835" y="10243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900000" y="981000"/>
            <a:ext cx="468360" cy="393840"/>
          </a:xfrm>
          <a:custGeom>
            <a:avLst/>
            <a:gdLst>
              <a:gd name="textAreaLeft" fmla="*/ 25200 w 468360"/>
              <a:gd name="textAreaRight" fmla="*/ 443160 w 4683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683" h="21600">
                <a:moveTo>
                  <a:pt x="0" y="0"/>
                </a:moveTo>
                <a:lnTo>
                  <a:pt x="25683" y="0"/>
                </a:lnTo>
                <a:lnTo>
                  <a:pt x="25683" y="21600"/>
                </a:lnTo>
                <a:lnTo>
                  <a:pt x="0" y="21600"/>
                </a:lnTo>
                <a:close/>
              </a:path>
              <a:path fill="lightenLess" w="25683" h="21600">
                <a:moveTo>
                  <a:pt x="0" y="0"/>
                </a:moveTo>
                <a:lnTo>
                  <a:pt x="25683" y="0"/>
                </a:lnTo>
                <a:lnTo>
                  <a:pt x="24283" y="1400"/>
                </a:lnTo>
                <a:lnTo>
                  <a:pt x="1400" y="1400"/>
                </a:lnTo>
                <a:close/>
              </a:path>
              <a:path fill="darken" w="25683" h="21600">
                <a:moveTo>
                  <a:pt x="25683" y="0"/>
                </a:moveTo>
                <a:lnTo>
                  <a:pt x="25683" y="21600"/>
                </a:lnTo>
                <a:lnTo>
                  <a:pt x="24283" y="20200"/>
                </a:lnTo>
                <a:lnTo>
                  <a:pt x="24283" y="1400"/>
                </a:lnTo>
                <a:close/>
              </a:path>
              <a:path fill="darkenLess" w="25683" h="21600">
                <a:moveTo>
                  <a:pt x="25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83" y="20200"/>
                </a:lnTo>
                <a:close/>
              </a:path>
              <a:path fill="lighten" w="25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83" h="21600">
                <a:moveTo>
                  <a:pt x="5835" y="7301"/>
                </a:moveTo>
                <a:lnTo>
                  <a:pt x="6749" y="7301"/>
                </a:lnTo>
                <a:lnTo>
                  <a:pt x="7132" y="7667"/>
                </a:lnTo>
                <a:lnTo>
                  <a:pt x="16341" y="7667"/>
                </a:lnTo>
                <a:lnTo>
                  <a:pt x="16898" y="8224"/>
                </a:lnTo>
                <a:lnTo>
                  <a:pt x="16898" y="8772"/>
                </a:lnTo>
                <a:lnTo>
                  <a:pt x="18743" y="8772"/>
                </a:lnTo>
                <a:lnTo>
                  <a:pt x="19108" y="8224"/>
                </a:lnTo>
                <a:lnTo>
                  <a:pt x="19848" y="8224"/>
                </a:lnTo>
                <a:lnTo>
                  <a:pt x="19848" y="13376"/>
                </a:lnTo>
                <a:lnTo>
                  <a:pt x="19108" y="13376"/>
                </a:lnTo>
                <a:lnTo>
                  <a:pt x="18743" y="12828"/>
                </a:lnTo>
                <a:lnTo>
                  <a:pt x="16898" y="12828"/>
                </a:lnTo>
                <a:lnTo>
                  <a:pt x="16898" y="14107"/>
                </a:lnTo>
                <a:lnTo>
                  <a:pt x="7315" y="14107"/>
                </a:lnTo>
                <a:lnTo>
                  <a:pt x="7315" y="9877"/>
                </a:lnTo>
                <a:lnTo>
                  <a:pt x="7132" y="9877"/>
                </a:lnTo>
                <a:lnTo>
                  <a:pt x="6749" y="10243"/>
                </a:lnTo>
                <a:lnTo>
                  <a:pt x="5835" y="10243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5562720" y="155520"/>
            <a:ext cx="3580920" cy="1474920"/>
            <a:chOff x="5562720" y="155520"/>
            <a:chExt cx="3580920" cy="1474920"/>
          </a:xfrm>
        </p:grpSpPr>
        <p:graphicFrame>
          <p:nvGraphicFramePr>
            <p:cNvPr id="737" name=""/>
            <p:cNvGraphicFramePr/>
            <p:nvPr/>
          </p:nvGraphicFramePr>
          <p:xfrm>
            <a:off x="7526880" y="155520"/>
            <a:ext cx="1616760" cy="1463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3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526880" y="155520"/>
                      <a:ext cx="1616760" cy="146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39" name=""/>
            <p:cNvGraphicFramePr/>
            <p:nvPr/>
          </p:nvGraphicFramePr>
          <p:xfrm>
            <a:off x="5562720" y="155520"/>
            <a:ext cx="1620000" cy="1474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4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562720" y="155520"/>
                      <a:ext cx="1620000" cy="147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1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6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1" dur="5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6" dur="500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1" dur="500"/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Optische activiteit</a:t>
            </a:r>
            <a:br>
              <a:rPr sz="4400"/>
            </a:b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Factoren die de waarde </a:t>
            </a:r>
            <a:r>
              <a:rPr b="0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bepalen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graphicFrame>
        <p:nvGraphicFramePr>
          <p:cNvPr id="742" name=""/>
          <p:cNvGraphicFramePr/>
          <p:nvPr/>
        </p:nvGraphicFramePr>
        <p:xfrm>
          <a:off x="0" y="1676520"/>
          <a:ext cx="6781680" cy="295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678168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4" name=""/>
          <p:cNvSpPr/>
          <p:nvPr/>
        </p:nvSpPr>
        <p:spPr>
          <a:xfrm>
            <a:off x="755640" y="2060640"/>
            <a:ext cx="81723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Times New Roman"/>
              </a:rPr>
              <a:t>De mate waarin het polarisatievlak gedraaid wordt, wordt de </a:t>
            </a:r>
            <a:r>
              <a:rPr b="1" i="1" lang="nl-NL" sz="2800" spc="-1" strike="noStrike">
                <a:solidFill>
                  <a:srgbClr val="800000"/>
                </a:solidFill>
                <a:latin typeface="Times New Roman"/>
              </a:rPr>
              <a:t>draaiingshoek</a:t>
            </a:r>
            <a:r>
              <a:rPr b="0" lang="nl-NL" sz="2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nl-NL" sz="28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0" lang="nl-NL" sz="2800" spc="-1" strike="noStrike">
                <a:solidFill>
                  <a:srgbClr val="003366"/>
                </a:solidFill>
                <a:latin typeface="Times New Roman"/>
              </a:rPr>
              <a:t> genoemd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Times New Roman"/>
              </a:rPr>
              <a:t>De draaiingshoek </a:t>
            </a:r>
            <a:r>
              <a:rPr b="1" i="1" lang="nl-NL" sz="2800" spc="-1" strike="noStrike">
                <a:solidFill>
                  <a:srgbClr val="800000"/>
                </a:solidFill>
                <a:latin typeface="Symbol"/>
                <a:ea typeface="Symbol"/>
              </a:rPr>
              <a:t></a:t>
            </a:r>
            <a:r>
              <a:rPr b="0" lang="nl-NL" sz="2800" spc="-1" strike="noStrike">
                <a:solidFill>
                  <a:srgbClr val="003366"/>
                </a:solidFill>
                <a:latin typeface="Times New Roman"/>
              </a:rPr>
              <a:t> wordt bepaald door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soort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optisch actieve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stof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(</a:t>
            </a:r>
            <a:r>
              <a:rPr b="0" lang="nl-NL" sz="2000" spc="-1" strike="noStrike">
                <a:solidFill>
                  <a:srgbClr val="800000"/>
                </a:solidFill>
                <a:latin typeface="Symbol"/>
                <a:ea typeface="Symbol"/>
              </a:rPr>
              <a:t></a:t>
            </a:r>
            <a:r>
              <a:rPr b="0" lang="nl-NL" sz="2000" spc="-1" strike="noStrike" baseline="-25000">
                <a:solidFill>
                  <a:srgbClr val="800000"/>
                </a:solidFill>
                <a:latin typeface="Times New Roman"/>
              </a:rPr>
              <a:t>0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); voor suiker bedraagt deze 66,5 º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concentratie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(c) in g/mL waarin de optisch actieve stof aanwezig is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afstand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(l) in dm die het licht aflegt in de oplossing van de optisch actieve stof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Times New Roman"/>
              </a:rPr>
              <a:t>In formule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0" y="5589720"/>
            <a:ext cx="91440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0000"/>
                </a:solidFill>
                <a:latin typeface="Symbol"/>
                <a:ea typeface="Symbol"/>
              </a:rPr>
              <a:t></a:t>
            </a:r>
            <a:r>
              <a:rPr b="0" lang="en-US" sz="9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n-US" sz="9600" spc="-1" strike="noStrike">
                <a:solidFill>
                  <a:srgbClr val="800000"/>
                </a:solidFill>
                <a:latin typeface="Times New Roman"/>
              </a:rPr>
              <a:t>= </a:t>
            </a:r>
            <a:r>
              <a:rPr b="0" lang="en-US" sz="9600" spc="-1" strike="noStrike">
                <a:solidFill>
                  <a:srgbClr val="800000"/>
                </a:solidFill>
                <a:latin typeface="Symbol"/>
                <a:ea typeface="Symbol"/>
              </a:rPr>
              <a:t></a:t>
            </a:r>
            <a:r>
              <a:rPr b="0" lang="en-US" sz="9600" spc="-1" strike="noStrike" baseline="-25000">
                <a:solidFill>
                  <a:srgbClr val="800000"/>
                </a:solidFill>
                <a:latin typeface="Times New Roman"/>
              </a:rPr>
              <a:t>0 </a:t>
            </a:r>
            <a:r>
              <a:rPr b="0" lang="en-US" sz="9600" spc="-1" strike="noStrike">
                <a:solidFill>
                  <a:srgbClr val="800000"/>
                </a:solidFill>
                <a:latin typeface="Times New Roman"/>
              </a:rPr>
              <a:t>. c . l</a:t>
            </a:r>
            <a:br>
              <a:rPr sz="4400"/>
            </a:br>
            <a:endParaRPr b="0" lang="en-US" sz="96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746" name=""/>
          <p:cNvGrpSpPr/>
          <p:nvPr/>
        </p:nvGrpSpPr>
        <p:grpSpPr>
          <a:xfrm>
            <a:off x="5562720" y="5383080"/>
            <a:ext cx="3580920" cy="1474920"/>
            <a:chOff x="5562720" y="5383080"/>
            <a:chExt cx="3580920" cy="1474920"/>
          </a:xfrm>
        </p:grpSpPr>
        <p:graphicFrame>
          <p:nvGraphicFramePr>
            <p:cNvPr id="747" name=""/>
            <p:cNvGraphicFramePr/>
            <p:nvPr/>
          </p:nvGraphicFramePr>
          <p:xfrm>
            <a:off x="7526880" y="5383080"/>
            <a:ext cx="1616760" cy="1463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4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526880" y="5383080"/>
                      <a:ext cx="1616760" cy="146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9" name=""/>
            <p:cNvGraphicFramePr/>
            <p:nvPr/>
          </p:nvGraphicFramePr>
          <p:xfrm>
            <a:off x="5562720" y="5383080"/>
            <a:ext cx="1620000" cy="1474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5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562720" y="5383080"/>
                      <a:ext cx="1620000" cy="147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51" name=""/>
          <p:cNvGrpSpPr/>
          <p:nvPr/>
        </p:nvGrpSpPr>
        <p:grpSpPr>
          <a:xfrm>
            <a:off x="5562720" y="155520"/>
            <a:ext cx="3580920" cy="1474920"/>
            <a:chOff x="5562720" y="155520"/>
            <a:chExt cx="3580920" cy="1474920"/>
          </a:xfrm>
        </p:grpSpPr>
        <p:graphicFrame>
          <p:nvGraphicFramePr>
            <p:cNvPr id="752" name=""/>
            <p:cNvGraphicFramePr/>
            <p:nvPr/>
          </p:nvGraphicFramePr>
          <p:xfrm>
            <a:off x="7526880" y="155520"/>
            <a:ext cx="1616760" cy="1463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5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26880" y="155520"/>
                      <a:ext cx="1616760" cy="146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54" name=""/>
            <p:cNvGraphicFramePr/>
            <p:nvPr/>
          </p:nvGraphicFramePr>
          <p:xfrm>
            <a:off x="5562720" y="155520"/>
            <a:ext cx="1620000" cy="1474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755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562720" y="155520"/>
                      <a:ext cx="1620000" cy="147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282" dur="indefinite" restart="never" nodeType="tmRoot">
          <p:childTnLst>
            <p:seq>
              <p:cTn id="1283" dur="indefinite" nodeType="mainSeq">
                <p:childTnLst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500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3" dur="500"/>
                                        <p:tgtEl>
                                          <p:spTgt spid="7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8" dur="500"/>
                                        <p:tgtEl>
                                          <p:spTgt spid="7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3" dur="500"/>
                                        <p:tgtEl>
                                          <p:spTgt spid="7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8" dur="500"/>
                                        <p:tgtEl>
                                          <p:spTgt spid="7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3" dur="500"/>
                                        <p:tgtEl>
                                          <p:spTgt spid="7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8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Nieuw in 5V</a:t>
            </a:r>
            <a:br>
              <a:rPr sz="4400"/>
            </a:b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Overzicht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874800" y="2187720"/>
            <a:ext cx="5832360" cy="403848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7445520" y="0"/>
            <a:ext cx="1197000" cy="17082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Naamgeving</a:t>
            </a:r>
            <a:br>
              <a:rPr sz="4400"/>
            </a:b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Linksdraaiend &amp; rechtsdraaiend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graphicFrame>
        <p:nvGraphicFramePr>
          <p:cNvPr id="757" name=""/>
          <p:cNvGraphicFramePr/>
          <p:nvPr/>
        </p:nvGraphicFramePr>
        <p:xfrm>
          <a:off x="0" y="1676520"/>
          <a:ext cx="6781680" cy="295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6520"/>
                    <a:ext cx="6781680" cy="29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59" name=""/>
          <p:cNvGrpSpPr/>
          <p:nvPr/>
        </p:nvGrpSpPr>
        <p:grpSpPr>
          <a:xfrm>
            <a:off x="5562720" y="155520"/>
            <a:ext cx="3580920" cy="1474920"/>
            <a:chOff x="5562720" y="155520"/>
            <a:chExt cx="3580920" cy="1474920"/>
          </a:xfrm>
        </p:grpSpPr>
        <p:graphicFrame>
          <p:nvGraphicFramePr>
            <p:cNvPr id="760" name=""/>
            <p:cNvGraphicFramePr/>
            <p:nvPr/>
          </p:nvGraphicFramePr>
          <p:xfrm>
            <a:off x="7526880" y="155520"/>
            <a:ext cx="1616760" cy="1463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6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526880" y="155520"/>
                      <a:ext cx="1616760" cy="146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2" name=""/>
            <p:cNvGraphicFramePr/>
            <p:nvPr/>
          </p:nvGraphicFramePr>
          <p:xfrm>
            <a:off x="5562720" y="155520"/>
            <a:ext cx="1620000" cy="1474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6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562720" y="155520"/>
                      <a:ext cx="1620000" cy="147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64" name=""/>
          <p:cNvSpPr/>
          <p:nvPr/>
        </p:nvSpPr>
        <p:spPr>
          <a:xfrm>
            <a:off x="746280" y="2332080"/>
            <a:ext cx="6564240" cy="43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Times New Roman"/>
              </a:rPr>
              <a:t>Naamgeving op basis van </a:t>
            </a:r>
            <a:r>
              <a:rPr b="1" i="1" lang="nl-NL" sz="2800" spc="-1" strike="noStrike">
                <a:solidFill>
                  <a:srgbClr val="800000"/>
                </a:solidFill>
                <a:latin typeface="Times New Roman"/>
              </a:rPr>
              <a:t>gedrag</a:t>
            </a:r>
            <a:r>
              <a:rPr b="0" lang="nl-NL" sz="2800" spc="-1" strike="noStrike">
                <a:solidFill>
                  <a:srgbClr val="003366"/>
                </a:solidFill>
                <a:latin typeface="Times New Roman"/>
              </a:rPr>
              <a:t> in de </a:t>
            </a:r>
            <a:r>
              <a:rPr b="1" i="1" lang="nl-NL" sz="2800" spc="-1" strike="noStrike">
                <a:solidFill>
                  <a:srgbClr val="800000"/>
                </a:solidFill>
                <a:latin typeface="Times New Roman"/>
              </a:rPr>
              <a:t>polarimeter</a:t>
            </a:r>
            <a:r>
              <a:rPr b="0" lang="nl-NL" sz="28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Indien het gepolariseerde licht naar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rechts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(met de klok mee) wordt gedraaid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4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3366"/>
                </a:solidFill>
                <a:latin typeface="Times New Roman"/>
              </a:rPr>
              <a:t>rechtsdraaien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4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3366"/>
                </a:solidFill>
                <a:latin typeface="Times New Roman"/>
              </a:rPr>
              <a:t>teken:  (-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4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3366"/>
                </a:solidFill>
                <a:latin typeface="Times New Roman"/>
              </a:rPr>
              <a:t>voorbeeld: </a:t>
            </a:r>
            <a:r>
              <a:rPr b="1" i="1" lang="nl-NL" sz="1600" spc="-1" strike="noStrike">
                <a:solidFill>
                  <a:srgbClr val="800000"/>
                </a:solidFill>
                <a:latin typeface="Times New Roman"/>
              </a:rPr>
              <a:t>(-)-1-chloor-1-ethano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Indien het gepolariseerde licht naar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links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(tegen de klok in) wordt gedraaid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4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3366"/>
                </a:solidFill>
                <a:latin typeface="Times New Roman"/>
              </a:rPr>
              <a:t>linksdraaiend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4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3366"/>
                </a:solidFill>
                <a:latin typeface="Times New Roman"/>
              </a:rPr>
              <a:t>teken:  (+)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4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3366"/>
                </a:solidFill>
                <a:latin typeface="Times New Roman"/>
              </a:rPr>
              <a:t>voorbeeld: </a:t>
            </a:r>
            <a:r>
              <a:rPr b="1" i="1" lang="nl-NL" sz="1600" spc="-1" strike="noStrike">
                <a:solidFill>
                  <a:srgbClr val="800000"/>
                </a:solidFill>
                <a:latin typeface="Times New Roman"/>
              </a:rPr>
              <a:t>(+)-1-chloor-1-ethanol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900000" y="981000"/>
            <a:ext cx="468360" cy="393840"/>
          </a:xfrm>
          <a:custGeom>
            <a:avLst/>
            <a:gdLst>
              <a:gd name="textAreaLeft" fmla="*/ 25200 w 468360"/>
              <a:gd name="textAreaRight" fmla="*/ 443160 w 4683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683" h="21600">
                <a:moveTo>
                  <a:pt x="0" y="0"/>
                </a:moveTo>
                <a:lnTo>
                  <a:pt x="25683" y="0"/>
                </a:lnTo>
                <a:lnTo>
                  <a:pt x="25683" y="21600"/>
                </a:lnTo>
                <a:lnTo>
                  <a:pt x="0" y="21600"/>
                </a:lnTo>
                <a:close/>
              </a:path>
              <a:path fill="lightenLess" w="25683" h="21600">
                <a:moveTo>
                  <a:pt x="0" y="0"/>
                </a:moveTo>
                <a:lnTo>
                  <a:pt x="25683" y="0"/>
                </a:lnTo>
                <a:lnTo>
                  <a:pt x="24283" y="1400"/>
                </a:lnTo>
                <a:lnTo>
                  <a:pt x="1400" y="1400"/>
                </a:lnTo>
                <a:close/>
              </a:path>
              <a:path fill="darken" w="25683" h="21600">
                <a:moveTo>
                  <a:pt x="25683" y="0"/>
                </a:moveTo>
                <a:lnTo>
                  <a:pt x="25683" y="21600"/>
                </a:lnTo>
                <a:lnTo>
                  <a:pt x="24283" y="20200"/>
                </a:lnTo>
                <a:lnTo>
                  <a:pt x="24283" y="1400"/>
                </a:lnTo>
                <a:close/>
              </a:path>
              <a:path fill="darkenLess" w="25683" h="21600">
                <a:moveTo>
                  <a:pt x="25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83" y="20200"/>
                </a:lnTo>
                <a:close/>
              </a:path>
              <a:path fill="lighten" w="25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83" h="21600">
                <a:moveTo>
                  <a:pt x="5835" y="7301"/>
                </a:moveTo>
                <a:lnTo>
                  <a:pt x="6749" y="7301"/>
                </a:lnTo>
                <a:lnTo>
                  <a:pt x="7132" y="7667"/>
                </a:lnTo>
                <a:lnTo>
                  <a:pt x="16341" y="7667"/>
                </a:lnTo>
                <a:lnTo>
                  <a:pt x="16898" y="8224"/>
                </a:lnTo>
                <a:lnTo>
                  <a:pt x="16898" y="8772"/>
                </a:lnTo>
                <a:lnTo>
                  <a:pt x="18743" y="8772"/>
                </a:lnTo>
                <a:lnTo>
                  <a:pt x="19108" y="8224"/>
                </a:lnTo>
                <a:lnTo>
                  <a:pt x="19848" y="8224"/>
                </a:lnTo>
                <a:lnTo>
                  <a:pt x="19848" y="13376"/>
                </a:lnTo>
                <a:lnTo>
                  <a:pt x="19108" y="13376"/>
                </a:lnTo>
                <a:lnTo>
                  <a:pt x="18743" y="12828"/>
                </a:lnTo>
                <a:lnTo>
                  <a:pt x="16898" y="12828"/>
                </a:lnTo>
                <a:lnTo>
                  <a:pt x="16898" y="14107"/>
                </a:lnTo>
                <a:lnTo>
                  <a:pt x="7315" y="14107"/>
                </a:lnTo>
                <a:lnTo>
                  <a:pt x="7315" y="9877"/>
                </a:lnTo>
                <a:lnTo>
                  <a:pt x="7132" y="9877"/>
                </a:lnTo>
                <a:lnTo>
                  <a:pt x="6749" y="10243"/>
                </a:lnTo>
                <a:lnTo>
                  <a:pt x="5835" y="10243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319" dur="indefinite" restart="never" nodeType="tmRoot">
          <p:childTnLst>
            <p:seq>
              <p:cTn id="1320" dur="indefinite" nodeType="mainSeq">
                <p:childTnLst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5" dur="50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0" dur="500"/>
                                        <p:tgtEl>
                                          <p:spTgt spid="7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5" dur="500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0" dur="500"/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5" dur="500"/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0" dur="500"/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0" dur="500"/>
                                        <p:tgtEl>
                                          <p:spTgt spid="7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5" dur="500"/>
                                        <p:tgtEl>
                                          <p:spTgt spid="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800000"/>
                </a:solidFill>
                <a:latin typeface="Times New Roman"/>
              </a:rPr>
              <a:t>Naamgeving</a:t>
            </a:r>
            <a:br>
              <a:rPr sz="4400"/>
            </a:br>
            <a:r>
              <a:rPr b="0" lang="nl-NL" sz="2400" spc="-1" strike="noStrike">
                <a:solidFill>
                  <a:srgbClr val="003366"/>
                </a:solidFill>
                <a:latin typeface="Times New Roman"/>
              </a:rPr>
              <a:t>D &amp; L-methode (1)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5562720" y="155520"/>
            <a:ext cx="3580920" cy="1474920"/>
            <a:chOff x="5562720" y="155520"/>
            <a:chExt cx="3580920" cy="1474920"/>
          </a:xfrm>
        </p:grpSpPr>
        <p:graphicFrame>
          <p:nvGraphicFramePr>
            <p:cNvPr id="768" name=""/>
            <p:cNvGraphicFramePr/>
            <p:nvPr/>
          </p:nvGraphicFramePr>
          <p:xfrm>
            <a:off x="7526880" y="155520"/>
            <a:ext cx="1616760" cy="1463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6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26880" y="155520"/>
                      <a:ext cx="1616760" cy="146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70" name=""/>
            <p:cNvGraphicFramePr/>
            <p:nvPr/>
          </p:nvGraphicFramePr>
          <p:xfrm>
            <a:off x="5562720" y="155520"/>
            <a:ext cx="1620000" cy="1474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7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62720" y="155520"/>
                      <a:ext cx="1620000" cy="147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772" name=""/>
          <p:cNvSpPr/>
          <p:nvPr/>
        </p:nvSpPr>
        <p:spPr>
          <a:xfrm>
            <a:off x="735120" y="1992240"/>
            <a:ext cx="6564240" cy="43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Naamgeving op basis van de </a:t>
            </a:r>
            <a:r>
              <a:rPr b="1" i="1" lang="en-US" sz="2800" spc="-1" strike="noStrike">
                <a:solidFill>
                  <a:srgbClr val="800000"/>
                </a:solidFill>
                <a:latin typeface="Times New Roman"/>
              </a:rPr>
              <a:t>structuur</a:t>
            </a: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 van de moleculen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gebaseerd op </a:t>
            </a: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afspraken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de </a:t>
            </a: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oriëntatie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 van de atoomgroepen rond het </a:t>
            </a: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asymmetrisch centrum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 is bepalend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Voorbeeld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2-hydroxypropaanzuur (melkzuur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5"/>
          <a:stretch/>
        </p:blipFill>
        <p:spPr>
          <a:xfrm>
            <a:off x="1297080" y="4829040"/>
            <a:ext cx="3002040" cy="20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6" dur="indefinite" restart="never" nodeType="tmRoot">
          <p:childTnLst>
            <p:seq>
              <p:cTn id="1367" dur="indefinite" nodeType="mainSeq">
                <p:childTnLst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2" dur="500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7" dur="500"/>
                                        <p:tgtEl>
                                          <p:spTgt spid="7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2" dur="500"/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7" dur="500"/>
                                        <p:tgtEl>
                                          <p:spTgt spid="7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2" dur="500"/>
                                        <p:tgtEl>
                                          <p:spTgt spid="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7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800000"/>
                </a:solidFill>
                <a:latin typeface="Times New Roman"/>
              </a:rPr>
              <a:t>Naamgeving</a:t>
            </a:r>
            <a:br>
              <a:rPr sz="4400"/>
            </a:br>
            <a:r>
              <a:rPr b="0" lang="nl-NL" sz="2400" spc="-1" strike="noStrike">
                <a:solidFill>
                  <a:srgbClr val="003366"/>
                </a:solidFill>
                <a:latin typeface="Times New Roman"/>
              </a:rPr>
              <a:t>D &amp; L-methode (2)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77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55720" y="2316240"/>
            <a:ext cx="5762520" cy="3894120"/>
          </a:xfrm>
          <a:prstGeom prst="rect">
            <a:avLst/>
          </a:prstGeom>
          <a:ln w="0">
            <a:noFill/>
          </a:ln>
        </p:spPr>
      </p:pic>
      <p:sp>
        <p:nvSpPr>
          <p:cNvPr id="776" name=""/>
          <p:cNvSpPr/>
          <p:nvPr/>
        </p:nvSpPr>
        <p:spPr>
          <a:xfrm>
            <a:off x="677880" y="1925640"/>
            <a:ext cx="81597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603360"/>
                <a:tab algn="l" pos="905040"/>
                <a:tab algn="l" pos="1206360"/>
                <a:tab algn="l" pos="1508040"/>
                <a:tab algn="l" pos="1809720"/>
                <a:tab algn="l" pos="2111400"/>
                <a:tab algn="l" pos="2413080"/>
                <a:tab algn="l" pos="2714760"/>
                <a:tab algn="l" pos="3016080"/>
                <a:tab algn="l" pos="3317760"/>
                <a:tab algn="l" pos="3619440"/>
                <a:tab algn="l" pos="3921120"/>
                <a:tab algn="l" pos="4222800"/>
                <a:tab algn="l" pos="4524480"/>
                <a:tab algn="l" pos="4826160"/>
                <a:tab algn="l" pos="5127480"/>
                <a:tab algn="l" pos="5429160"/>
                <a:tab algn="l" pos="5730840"/>
                <a:tab algn="l" pos="6032520"/>
                <a:tab algn="l" pos="63342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Times New Roman"/>
              </a:rPr>
              <a:t>2-hydroxypropaanzuur (melkzuur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05040"/>
                <a:tab algn="l" pos="1206360"/>
                <a:tab algn="l" pos="1508040"/>
                <a:tab algn="l" pos="1809720"/>
                <a:tab algn="l" pos="2111400"/>
                <a:tab algn="l" pos="2413080"/>
                <a:tab algn="l" pos="2714760"/>
                <a:tab algn="l" pos="3016080"/>
                <a:tab algn="l" pos="3317760"/>
                <a:tab algn="l" pos="3619440"/>
                <a:tab algn="l" pos="3921120"/>
                <a:tab algn="l" pos="4222800"/>
                <a:tab algn="l" pos="4524480"/>
                <a:tab algn="l" pos="4826160"/>
                <a:tab algn="l" pos="5127480"/>
                <a:tab algn="l" pos="5429160"/>
                <a:tab algn="l" pos="5730840"/>
                <a:tab algn="l" pos="6032520"/>
                <a:tab algn="l" pos="6334200"/>
                <a:tab algn="l" pos="663588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Melkzuur bevat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aan het asymmetrische centrum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de volgende substituenten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63800" indent="-223920">
              <a:spcBef>
                <a:spcPts val="4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206360"/>
                <a:tab algn="l" pos="1508040"/>
                <a:tab algn="l" pos="1809720"/>
                <a:tab algn="l" pos="2111400"/>
                <a:tab algn="l" pos="2413080"/>
                <a:tab algn="l" pos="2714760"/>
                <a:tab algn="l" pos="3016080"/>
                <a:tab algn="l" pos="3317760"/>
                <a:tab algn="l" pos="3619440"/>
                <a:tab algn="l" pos="3921120"/>
                <a:tab algn="l" pos="4222800"/>
                <a:tab algn="l" pos="4524480"/>
                <a:tab algn="l" pos="4826160"/>
                <a:tab algn="l" pos="5127480"/>
                <a:tab algn="l" pos="5429160"/>
                <a:tab algn="l" pos="5730840"/>
                <a:tab algn="l" pos="6032520"/>
                <a:tab algn="l" pos="6334200"/>
                <a:tab algn="l" pos="6635880"/>
                <a:tab algn="l" pos="6937200"/>
              </a:tabLst>
            </a:pPr>
            <a:r>
              <a:rPr b="0" lang="nl-NL" sz="1600" spc="-1" strike="noStrike">
                <a:solidFill>
                  <a:srgbClr val="003366"/>
                </a:solidFill>
                <a:latin typeface="Times New Roman"/>
              </a:rPr>
              <a:t>H-atoom</a:t>
            </a:r>
            <a:r>
              <a:rPr b="0" lang="nl-NL" sz="1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nl-NL" sz="1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nl-NL" sz="1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nl-NL" sz="1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i="1" lang="nl-NL" sz="1600" spc="-1" strike="noStrike">
                <a:solidFill>
                  <a:srgbClr val="800000"/>
                </a:solidFill>
                <a:latin typeface="Times New Roman"/>
              </a:rPr>
              <a:t>massa: 1,0 u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2" marL="1063800" indent="-223920">
              <a:spcBef>
                <a:spcPts val="4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206360"/>
                <a:tab algn="l" pos="1508040"/>
                <a:tab algn="l" pos="1809720"/>
                <a:tab algn="l" pos="2111400"/>
                <a:tab algn="l" pos="2413080"/>
                <a:tab algn="l" pos="2714760"/>
                <a:tab algn="l" pos="3016080"/>
                <a:tab algn="l" pos="3317760"/>
                <a:tab algn="l" pos="3619440"/>
                <a:tab algn="l" pos="3921120"/>
                <a:tab algn="l" pos="4222800"/>
                <a:tab algn="l" pos="4524480"/>
                <a:tab algn="l" pos="4826160"/>
                <a:tab algn="l" pos="5127480"/>
                <a:tab algn="l" pos="5429160"/>
                <a:tab algn="l" pos="5730840"/>
                <a:tab algn="l" pos="6032520"/>
                <a:tab algn="l" pos="6334200"/>
                <a:tab algn="l" pos="6635880"/>
                <a:tab algn="l" pos="6937200"/>
              </a:tabLst>
            </a:pPr>
            <a:r>
              <a:rPr b="0" lang="nl-NL" sz="1600" spc="-1" strike="noStrike">
                <a:solidFill>
                  <a:srgbClr val="003366"/>
                </a:solidFill>
                <a:latin typeface="Times New Roman"/>
              </a:rPr>
              <a:t>CH</a:t>
            </a:r>
            <a:r>
              <a:rPr b="0" lang="nl-NL" sz="1600" spc="-1" strike="noStrike" baseline="-25000">
                <a:solidFill>
                  <a:srgbClr val="003366"/>
                </a:solidFill>
                <a:latin typeface="Times New Roman"/>
              </a:rPr>
              <a:t>3</a:t>
            </a:r>
            <a:r>
              <a:rPr b="0" lang="nl-NL" sz="1600" spc="-1" strike="noStrike">
                <a:solidFill>
                  <a:srgbClr val="003366"/>
                </a:solidFill>
                <a:latin typeface="Times New Roman"/>
              </a:rPr>
              <a:t>-atoomgroep</a:t>
            </a:r>
            <a:r>
              <a:rPr b="0" lang="nl-NL" sz="1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nl-NL" sz="1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i="1" lang="nl-NL" sz="1600" spc="-1" strike="noStrike">
                <a:solidFill>
                  <a:srgbClr val="800000"/>
                </a:solidFill>
                <a:latin typeface="Times New Roman"/>
              </a:rPr>
              <a:t>massa: 15,0 u</a:t>
            </a:r>
            <a:r>
              <a:rPr b="0" lang="nl-NL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2" marL="1063800" indent="-223920">
              <a:spcBef>
                <a:spcPts val="4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206360"/>
                <a:tab algn="l" pos="1508040"/>
                <a:tab algn="l" pos="1809720"/>
                <a:tab algn="l" pos="2111400"/>
                <a:tab algn="l" pos="2413080"/>
                <a:tab algn="l" pos="2714760"/>
                <a:tab algn="l" pos="3016080"/>
                <a:tab algn="l" pos="3317760"/>
                <a:tab algn="l" pos="3619440"/>
                <a:tab algn="l" pos="3921120"/>
                <a:tab algn="l" pos="4222800"/>
                <a:tab algn="l" pos="4524480"/>
                <a:tab algn="l" pos="4826160"/>
                <a:tab algn="l" pos="5127480"/>
                <a:tab algn="l" pos="5429160"/>
                <a:tab algn="l" pos="5730840"/>
                <a:tab algn="l" pos="6032520"/>
                <a:tab algn="l" pos="6334200"/>
                <a:tab algn="l" pos="6635880"/>
                <a:tab algn="l" pos="6937200"/>
              </a:tabLst>
            </a:pPr>
            <a:r>
              <a:rPr b="0" lang="nl-NL" sz="1600" spc="-1" strike="noStrike">
                <a:solidFill>
                  <a:srgbClr val="003366"/>
                </a:solidFill>
                <a:latin typeface="Times New Roman"/>
              </a:rPr>
              <a:t>OH- atoomgroep</a:t>
            </a:r>
            <a:r>
              <a:rPr b="0" lang="nl-NL" sz="1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nl-NL" sz="1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i="1" lang="nl-NL" sz="1600" spc="-1" strike="noStrike">
                <a:solidFill>
                  <a:srgbClr val="800000"/>
                </a:solidFill>
                <a:latin typeface="Times New Roman"/>
              </a:rPr>
              <a:t>massa: 17,0 u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2" marL="1063800" indent="-223920">
              <a:spcBef>
                <a:spcPts val="4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206360"/>
                <a:tab algn="l" pos="1508040"/>
                <a:tab algn="l" pos="1809720"/>
                <a:tab algn="l" pos="2111400"/>
                <a:tab algn="l" pos="2413080"/>
                <a:tab algn="l" pos="2714760"/>
                <a:tab algn="l" pos="3016080"/>
                <a:tab algn="l" pos="3317760"/>
                <a:tab algn="l" pos="3619440"/>
                <a:tab algn="l" pos="3921120"/>
                <a:tab algn="l" pos="4222800"/>
                <a:tab algn="l" pos="4524480"/>
                <a:tab algn="l" pos="4826160"/>
                <a:tab algn="l" pos="5127480"/>
                <a:tab algn="l" pos="5429160"/>
                <a:tab algn="l" pos="5730840"/>
                <a:tab algn="l" pos="6032520"/>
                <a:tab algn="l" pos="6334200"/>
                <a:tab algn="l" pos="6635880"/>
                <a:tab algn="l" pos="6937200"/>
              </a:tabLst>
            </a:pPr>
            <a:r>
              <a:rPr b="0" lang="nl-NL" sz="1600" spc="-1" strike="noStrike">
                <a:solidFill>
                  <a:srgbClr val="003366"/>
                </a:solidFill>
                <a:latin typeface="Times New Roman"/>
              </a:rPr>
              <a:t>COOH-atoomgroep</a:t>
            </a:r>
            <a:r>
              <a:rPr b="0" lang="nl-NL" sz="1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nl-NL" sz="1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i="1" lang="nl-NL" sz="1600" spc="-1" strike="noStrike">
                <a:solidFill>
                  <a:srgbClr val="800000"/>
                </a:solidFill>
                <a:latin typeface="Times New Roman"/>
              </a:rPr>
              <a:t>massa: 45,0 u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05040"/>
                <a:tab algn="l" pos="1206360"/>
                <a:tab algn="l" pos="1508040"/>
                <a:tab algn="l" pos="1809720"/>
                <a:tab algn="l" pos="2111400"/>
                <a:tab algn="l" pos="2413080"/>
                <a:tab algn="l" pos="2714760"/>
                <a:tab algn="l" pos="3016080"/>
                <a:tab algn="l" pos="3317760"/>
                <a:tab algn="l" pos="3619440"/>
                <a:tab algn="l" pos="3921120"/>
                <a:tab algn="l" pos="4222800"/>
                <a:tab algn="l" pos="4524480"/>
                <a:tab algn="l" pos="4826160"/>
                <a:tab algn="l" pos="5127480"/>
                <a:tab algn="l" pos="5429160"/>
                <a:tab algn="l" pos="5730840"/>
                <a:tab algn="l" pos="6032520"/>
                <a:tab algn="l" pos="6334200"/>
                <a:tab algn="l" pos="663588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Houd de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lichtste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substituent ‘in de hand’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05040"/>
                <a:tab algn="l" pos="1206360"/>
                <a:tab algn="l" pos="1508040"/>
                <a:tab algn="l" pos="1809720"/>
                <a:tab algn="l" pos="2111400"/>
                <a:tab algn="l" pos="2413080"/>
                <a:tab algn="l" pos="2714760"/>
                <a:tab algn="l" pos="3016080"/>
                <a:tab algn="l" pos="3317760"/>
                <a:tab algn="l" pos="3619440"/>
                <a:tab algn="l" pos="3921120"/>
                <a:tab algn="l" pos="4222800"/>
                <a:tab algn="l" pos="4524480"/>
                <a:tab algn="l" pos="4826160"/>
                <a:tab algn="l" pos="5127480"/>
                <a:tab algn="l" pos="5429160"/>
                <a:tab algn="l" pos="5730840"/>
                <a:tab algn="l" pos="6032520"/>
                <a:tab algn="l" pos="6334200"/>
                <a:tab algn="l" pos="6635880"/>
              </a:tabLst>
            </a:pP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Kijk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langs de as van het asymmetrisch centrum en deze lichtste substituent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778" name=""/>
          <p:cNvGraphicFramePr/>
          <p:nvPr/>
        </p:nvGraphicFramePr>
        <p:xfrm>
          <a:off x="6680160" y="2960640"/>
          <a:ext cx="1863720" cy="138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80160" y="2960640"/>
                    <a:ext cx="186372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0" name=""/>
          <p:cNvSpPr/>
          <p:nvPr/>
        </p:nvSpPr>
        <p:spPr>
          <a:xfrm>
            <a:off x="687240" y="5280120"/>
            <a:ext cx="81597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Rangschik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de andere substituenten naar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toenemende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massa: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2" marL="1085760" indent="-228600">
              <a:spcBef>
                <a:spcPts val="4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783" name=""/>
          <p:cNvGraphicFramePr/>
          <p:nvPr/>
        </p:nvGraphicFramePr>
        <p:xfrm>
          <a:off x="6734160" y="2728800"/>
          <a:ext cx="2208240" cy="20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34160" y="2728800"/>
                    <a:ext cx="220824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5" name=""/>
          <p:cNvSpPr/>
          <p:nvPr/>
        </p:nvSpPr>
        <p:spPr>
          <a:xfrm>
            <a:off x="687240" y="5668920"/>
            <a:ext cx="815976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lvl="2" marL="825120" indent="-173520">
              <a:spcBef>
                <a:spcPts val="4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800000"/>
                </a:solidFill>
                <a:latin typeface="Times New Roman"/>
              </a:rPr>
              <a:t>Linksom</a:t>
            </a:r>
            <a:r>
              <a:rPr b="0" lang="nl-NL" sz="1600" spc="-1" strike="noStrike">
                <a:solidFill>
                  <a:srgbClr val="003366"/>
                </a:solidFill>
                <a:latin typeface="Times New Roman"/>
              </a:rPr>
              <a:t> geöriënteerd: L-configuratie</a:t>
            </a:r>
            <a:r>
              <a:rPr b="0" lang="nl-NL" sz="1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i="1" lang="nl-NL" sz="1600" spc="-1" strike="noStrike">
                <a:solidFill>
                  <a:srgbClr val="800000"/>
                </a:solidFill>
                <a:latin typeface="Times New Roman"/>
              </a:rPr>
              <a:t>L-2-hydroxypropaanzuu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lvl="2" marL="825120" indent="-173520">
              <a:spcBef>
                <a:spcPts val="4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800000"/>
                </a:solidFill>
                <a:latin typeface="Times New Roman"/>
              </a:rPr>
              <a:t>Rechtsom</a:t>
            </a:r>
            <a:r>
              <a:rPr b="0" lang="nl-NL" sz="1600" spc="-1" strike="noStrike">
                <a:solidFill>
                  <a:srgbClr val="003366"/>
                </a:solidFill>
                <a:latin typeface="Times New Roman"/>
              </a:rPr>
              <a:t> geöriënteerd: D-configuratie</a:t>
            </a:r>
            <a:r>
              <a:rPr b="0" lang="nl-NL" sz="16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i="1" lang="nl-NL" sz="1600" spc="-1" strike="noStrike">
                <a:solidFill>
                  <a:srgbClr val="800000"/>
                </a:solidFill>
                <a:latin typeface="Times New Roman"/>
              </a:rPr>
              <a:t>D-2-hydroxypropaanzuur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260640" indent="-26064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Times New Roman"/>
              </a:rPr>
              <a:t>Maak opgave 17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825120" indent="-17352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6"/>
          <a:stretch/>
        </p:blipFill>
        <p:spPr>
          <a:xfrm>
            <a:off x="6281640" y="0"/>
            <a:ext cx="2467080" cy="166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98" dur="indefinite" restart="never" nodeType="tmRoot">
          <p:childTnLst>
            <p:seq>
              <p:cTn id="1399" dur="indefinite" nodeType="mainSeq">
                <p:childTnLst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4" dur="500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9" dur="500"/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4" dur="500"/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9" dur="500"/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4" dur="500"/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9" dur="500"/>
                                        <p:tgtEl>
                                          <p:spTgt spid="7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4" dur="500"/>
                                        <p:tgtEl>
                                          <p:spTgt spid="7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9" dur="500"/>
                                        <p:tgtEl>
                                          <p:spTgt spid="7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4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9" dur="500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fill="hold">
                      <p:stCondLst>
                        <p:cond delay="indefinite"/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4" dur="500"/>
                                        <p:tgtEl>
                                          <p:spTgt spid="7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9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4" dur="500"/>
                                        <p:tgtEl>
                                          <p:spTgt spid="7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9" dur="500"/>
                                        <p:tgtEl>
                                          <p:spTgt spid="7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800000"/>
                </a:solidFill>
                <a:latin typeface="Times New Roman"/>
              </a:rPr>
              <a:t>Optische activiteit</a:t>
            </a:r>
            <a:br>
              <a:rPr sz="4400"/>
            </a:br>
            <a:r>
              <a:rPr b="0" lang="nl-NL" sz="2400" spc="-1" strike="noStrike">
                <a:solidFill>
                  <a:srgbClr val="003366"/>
                </a:solidFill>
                <a:latin typeface="Times New Roman"/>
              </a:rPr>
              <a:t>Racemisch mengsel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16120" y="2139840"/>
            <a:ext cx="5864040" cy="3962520"/>
          </a:xfrm>
          <a:prstGeom prst="rect">
            <a:avLst/>
          </a:prstGeom>
          <a:ln w="0">
            <a:noFill/>
          </a:ln>
        </p:spPr>
      </p:pic>
      <p:pic>
        <p:nvPicPr>
          <p:cNvPr id="789" name="" descr=""/>
          <p:cNvPicPr/>
          <p:nvPr/>
        </p:nvPicPr>
        <p:blipFill>
          <a:blip r:embed="rId2"/>
          <a:stretch/>
        </p:blipFill>
        <p:spPr>
          <a:xfrm>
            <a:off x="6300720" y="0"/>
            <a:ext cx="2467080" cy="1666800"/>
          </a:xfrm>
          <a:prstGeom prst="rect">
            <a:avLst/>
          </a:prstGeom>
          <a:ln w="0">
            <a:noFill/>
          </a:ln>
        </p:spPr>
      </p:pic>
      <p:sp>
        <p:nvSpPr>
          <p:cNvPr id="790" name=""/>
          <p:cNvSpPr/>
          <p:nvPr/>
        </p:nvSpPr>
        <p:spPr>
          <a:xfrm>
            <a:off x="755640" y="1925640"/>
            <a:ext cx="81597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603360"/>
                <a:tab algn="l" pos="905040"/>
                <a:tab algn="l" pos="1206360"/>
                <a:tab algn="l" pos="1508040"/>
                <a:tab algn="l" pos="1809720"/>
                <a:tab algn="l" pos="2111400"/>
                <a:tab algn="l" pos="2413080"/>
                <a:tab algn="l" pos="2714760"/>
                <a:tab algn="l" pos="3016080"/>
                <a:tab algn="l" pos="3317760"/>
                <a:tab algn="l" pos="3619440"/>
                <a:tab algn="l" pos="3921120"/>
                <a:tab algn="l" pos="4222800"/>
                <a:tab algn="l" pos="4524480"/>
                <a:tab algn="l" pos="4826160"/>
                <a:tab algn="l" pos="5127480"/>
                <a:tab algn="l" pos="5429160"/>
                <a:tab algn="l" pos="5730840"/>
                <a:tab algn="l" pos="6032520"/>
                <a:tab algn="l" pos="63342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Voorbeeld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05040"/>
                <a:tab algn="l" pos="1206360"/>
                <a:tab algn="l" pos="1508040"/>
                <a:tab algn="l" pos="1809720"/>
                <a:tab algn="l" pos="2111400"/>
                <a:tab algn="l" pos="2413080"/>
                <a:tab algn="l" pos="2714760"/>
                <a:tab algn="l" pos="3016080"/>
                <a:tab algn="l" pos="3317760"/>
                <a:tab algn="l" pos="3619440"/>
                <a:tab algn="l" pos="3921120"/>
                <a:tab algn="l" pos="4222800"/>
                <a:tab algn="l" pos="4524480"/>
                <a:tab algn="l" pos="4826160"/>
                <a:tab algn="l" pos="5127480"/>
                <a:tab algn="l" pos="5429160"/>
                <a:tab algn="l" pos="5730840"/>
                <a:tab algn="l" pos="6032520"/>
                <a:tab algn="l" pos="6334200"/>
                <a:tab algn="l" pos="663588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Bij bereiding van </a:t>
            </a: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2-broompropaanzuur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 uit </a:t>
            </a: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propaanzuur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 ontstaat een molecuul met </a:t>
            </a: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één asymmetrisch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 koolstofatoom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794" name=""/>
          <p:cNvGraphicFramePr/>
          <p:nvPr/>
        </p:nvGraphicFramePr>
        <p:xfrm>
          <a:off x="825480" y="3308400"/>
          <a:ext cx="8026560" cy="1162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5480" y="3308400"/>
                    <a:ext cx="8026560" cy="11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6" name=""/>
          <p:cNvSpPr/>
          <p:nvPr/>
        </p:nvSpPr>
        <p:spPr>
          <a:xfrm>
            <a:off x="696960" y="4562640"/>
            <a:ext cx="815976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05040"/>
                <a:tab algn="l" pos="1206360"/>
                <a:tab algn="l" pos="1508040"/>
                <a:tab algn="l" pos="1809720"/>
                <a:tab algn="l" pos="2111400"/>
                <a:tab algn="l" pos="2413080"/>
                <a:tab algn="l" pos="2714760"/>
                <a:tab algn="l" pos="3016080"/>
                <a:tab algn="l" pos="3317760"/>
                <a:tab algn="l" pos="3619440"/>
                <a:tab algn="l" pos="3921120"/>
                <a:tab algn="l" pos="4222800"/>
                <a:tab algn="l" pos="4524480"/>
                <a:tab algn="l" pos="4826160"/>
                <a:tab algn="l" pos="5127480"/>
                <a:tab algn="l" pos="5429160"/>
                <a:tab algn="l" pos="5730840"/>
                <a:tab algn="l" pos="6032520"/>
                <a:tab algn="l" pos="6334200"/>
                <a:tab algn="l" pos="663588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Het onstane 2-broompropaanzuur vertoont in de polarimeter echter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geen draaiingshoek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05040"/>
                <a:tab algn="l" pos="1206360"/>
                <a:tab algn="l" pos="1508040"/>
                <a:tab algn="l" pos="1809720"/>
                <a:tab algn="l" pos="2111400"/>
                <a:tab algn="l" pos="2413080"/>
                <a:tab algn="l" pos="2714760"/>
                <a:tab algn="l" pos="3016080"/>
                <a:tab algn="l" pos="3317760"/>
                <a:tab algn="l" pos="3619440"/>
                <a:tab algn="l" pos="3921120"/>
                <a:tab algn="l" pos="4222800"/>
                <a:tab algn="l" pos="4524480"/>
                <a:tab algn="l" pos="4826160"/>
                <a:tab algn="l" pos="5127480"/>
                <a:tab algn="l" pos="5429160"/>
                <a:tab algn="l" pos="5730840"/>
                <a:tab algn="l" pos="6032520"/>
                <a:tab algn="l" pos="6334200"/>
                <a:tab algn="l" pos="663588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2-Broompropaanzuur blijkt na onderzoek een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fifty-fifty mengsel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te zijn van (-) en (+) draaiend enantiomeer. 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05040"/>
                <a:tab algn="l" pos="1206360"/>
                <a:tab algn="l" pos="1508040"/>
                <a:tab algn="l" pos="1809720"/>
                <a:tab algn="l" pos="2111400"/>
                <a:tab algn="l" pos="2413080"/>
                <a:tab algn="l" pos="2714760"/>
                <a:tab algn="l" pos="3016080"/>
                <a:tab algn="l" pos="3317760"/>
                <a:tab algn="l" pos="3619440"/>
                <a:tab algn="l" pos="3921120"/>
                <a:tab algn="l" pos="4222800"/>
                <a:tab algn="l" pos="4524480"/>
                <a:tab algn="l" pos="4826160"/>
                <a:tab algn="l" pos="5127480"/>
                <a:tab algn="l" pos="5429160"/>
                <a:tab algn="l" pos="5730840"/>
                <a:tab algn="l" pos="6032520"/>
                <a:tab algn="l" pos="6334200"/>
                <a:tab algn="l" pos="663588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Zo'n mengsel van precies 50% van beide enantiomeren noemen we een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racemisch mengsel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(racemaat)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813280" y="1168560"/>
            <a:ext cx="16225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1" marL="713160" indent="-27432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05040"/>
                <a:tab algn="l" pos="1206360"/>
                <a:tab algn="l" pos="1508040"/>
                <a:tab algn="l" pos="1809720"/>
                <a:tab algn="l" pos="2111400"/>
                <a:tab algn="l" pos="2413080"/>
                <a:tab algn="l" pos="2714760"/>
                <a:tab algn="l" pos="3016080"/>
                <a:tab algn="l" pos="3317760"/>
                <a:tab algn="l" pos="3619440"/>
                <a:tab algn="l" pos="3921120"/>
                <a:tab algn="l" pos="4222800"/>
                <a:tab algn="l" pos="4524480"/>
                <a:tab algn="l" pos="4826160"/>
                <a:tab algn="l" pos="5127480"/>
                <a:tab algn="l" pos="5429160"/>
                <a:tab algn="l" pos="5730840"/>
                <a:tab algn="l" pos="6032520"/>
                <a:tab algn="l" pos="6334200"/>
                <a:tab algn="l" pos="6635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50 %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116840" y="1168560"/>
            <a:ext cx="162252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lvl="1" marL="713160" indent="-274320"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05040"/>
                <a:tab algn="l" pos="1206360"/>
                <a:tab algn="l" pos="1508040"/>
                <a:tab algn="l" pos="1809720"/>
                <a:tab algn="l" pos="2111400"/>
                <a:tab algn="l" pos="2413080"/>
                <a:tab algn="l" pos="2714760"/>
                <a:tab algn="l" pos="3016080"/>
                <a:tab algn="l" pos="3317760"/>
                <a:tab algn="l" pos="3619440"/>
                <a:tab algn="l" pos="3921120"/>
                <a:tab algn="l" pos="4222800"/>
                <a:tab algn="l" pos="4524480"/>
                <a:tab algn="l" pos="4826160"/>
                <a:tab algn="l" pos="5127480"/>
                <a:tab algn="l" pos="5429160"/>
                <a:tab algn="l" pos="5730840"/>
                <a:tab algn="l" pos="6032520"/>
                <a:tab algn="l" pos="6334200"/>
                <a:tab algn="l" pos="6635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50 %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1470" dur="indefinite" restart="never" nodeType="tmRoot">
          <p:childTnLst>
            <p:seq>
              <p:cTn id="1471" dur="indefinite" nodeType="mainSeq">
                <p:childTnLst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6" dur="500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1" dur="500"/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6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1" dur="500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6" dur="500"/>
                                        <p:tgtEl>
                                          <p:spTgt spid="7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1" dur="500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6" dur="500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1" dur="500"/>
                                        <p:tgtEl>
                                          <p:spTgt spid="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258920" y="2457360"/>
            <a:ext cx="5481720" cy="3795840"/>
          </a:xfrm>
          <a:prstGeom prst="rect">
            <a:avLst/>
          </a:prstGeom>
          <a:ln w="0">
            <a:noFill/>
          </a:ln>
        </p:spPr>
      </p:pic>
      <p:sp>
        <p:nvSpPr>
          <p:cNvPr id="800" name=""/>
          <p:cNvSpPr/>
          <p:nvPr/>
        </p:nvSpPr>
        <p:spPr>
          <a:xfrm>
            <a:off x="0" y="207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0" y="292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923760" y="2001960"/>
            <a:ext cx="7972560" cy="34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Times New Roman"/>
              </a:rPr>
              <a:t>Doen 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3366"/>
                </a:solidFill>
                <a:latin typeface="Times New Roman"/>
              </a:rPr>
              <a:t>Maak</a:t>
            </a: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 opgaven 18 &amp; 19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3366"/>
                </a:solidFill>
                <a:latin typeface="Times New Roman"/>
              </a:rPr>
              <a:t>Voer</a:t>
            </a: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 experiment ‘leermoment 8’ </a:t>
            </a:r>
            <a:r>
              <a:rPr b="1" i="1" lang="nl-NL" sz="2400" spc="-1" strike="noStrike">
                <a:solidFill>
                  <a:srgbClr val="003366"/>
                </a:solidFill>
                <a:latin typeface="Times New Roman"/>
              </a:rPr>
              <a:t>ui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3366"/>
                </a:solidFill>
                <a:latin typeface="Times New Roman"/>
              </a:rPr>
              <a:t>Internetopdracht</a:t>
            </a: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 ‘Zoetstoffen’ 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Times New Roman"/>
              </a:rPr>
              <a:t>Bekijk de site over </a:t>
            </a:r>
            <a:r>
              <a:rPr b="1" i="1" lang="nl-NL" sz="1800" spc="-1" strike="noStrike">
                <a:solidFill>
                  <a:srgbClr val="800000"/>
                </a:solidFill>
                <a:latin typeface="Times New Roman"/>
              </a:rPr>
              <a:t>aspartaam</a:t>
            </a:r>
            <a:r>
              <a:rPr b="0" lang="nl-NL" sz="1800" spc="-1" strike="noStrike">
                <a:solidFill>
                  <a:srgbClr val="003366"/>
                </a:solidFill>
                <a:latin typeface="Times New Roman"/>
              </a:rPr>
              <a:t> als herhalingsopdracht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Optische activiteit</a:t>
            </a:r>
            <a:r>
              <a:rPr b="0" lang="en-US" sz="4000" spc="-1" strike="noStrike">
                <a:solidFill>
                  <a:srgbClr val="800000"/>
                </a:solidFill>
                <a:latin typeface="Times New Roman"/>
              </a:rPr>
              <a:t> </a:t>
            </a:r>
            <a:br>
              <a:rPr sz="5400"/>
            </a:b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Opgaven &amp; modellenpracticum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5562720" y="155520"/>
            <a:ext cx="3580920" cy="1474920"/>
            <a:chOff x="5562720" y="155520"/>
            <a:chExt cx="3580920" cy="1474920"/>
          </a:xfrm>
        </p:grpSpPr>
        <p:graphicFrame>
          <p:nvGraphicFramePr>
            <p:cNvPr id="810" name=""/>
            <p:cNvGraphicFramePr/>
            <p:nvPr/>
          </p:nvGraphicFramePr>
          <p:xfrm>
            <a:off x="7526880" y="155520"/>
            <a:ext cx="1616760" cy="1463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1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526880" y="155520"/>
                      <a:ext cx="1616760" cy="146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12" name=""/>
            <p:cNvGraphicFramePr/>
            <p:nvPr/>
          </p:nvGraphicFramePr>
          <p:xfrm>
            <a:off x="5562720" y="155520"/>
            <a:ext cx="1620000" cy="14749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1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562720" y="155520"/>
                      <a:ext cx="1620000" cy="147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dissolve/>
  </p:transition>
  <p:timing>
    <p:tnLst>
      <p:par>
        <p:cTn id="1512" dur="indefinite" restart="never" nodeType="tmRoot">
          <p:childTnLst>
            <p:seq>
              <p:cTn id="1513" dur="indefinite" nodeType="mainSeq">
                <p:childTnLst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8" dur="500"/>
                                        <p:tgtEl>
                                          <p:spTgt spid="8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3" dur="500"/>
                                        <p:tgtEl>
                                          <p:spTgt spid="8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8" dur="500"/>
                                        <p:tgtEl>
                                          <p:spTgt spid="8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3" dur="500"/>
                                        <p:tgtEl>
                                          <p:spTgt spid="8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8" dur="500"/>
                                        <p:tgtEl>
                                          <p:spTgt spid="8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800000"/>
                </a:solidFill>
                <a:latin typeface="Times New Roman"/>
              </a:rPr>
              <a:t>Polarimetrie</a:t>
            </a:r>
            <a:endParaRPr b="0" lang="en-US" sz="40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subTitle"/>
          </p:nvPr>
        </p:nvSpPr>
        <p:spPr>
          <a:xfrm>
            <a:off x="1033560" y="2452320"/>
            <a:ext cx="7632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en </a:t>
            </a:r>
            <a:r>
              <a:rPr b="1" i="1" lang="en-US" sz="3200" spc="-1" strike="noStrike">
                <a:solidFill>
                  <a:srgbClr val="800000"/>
                </a:solidFill>
                <a:latin typeface="Times New Roman"/>
              </a:rPr>
              <a:t>meetmethode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die gebruik maakt van de optische activiteit van stoffen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816" name="" descr=""/>
          <p:cNvPicPr/>
          <p:nvPr/>
        </p:nvPicPr>
        <p:blipFill>
          <a:blip r:embed="rId1"/>
          <a:stretch/>
        </p:blipFill>
        <p:spPr>
          <a:xfrm>
            <a:off x="2351160" y="3657600"/>
            <a:ext cx="4798800" cy="30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5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0" dur="500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Gehaltebepalingen</a:t>
            </a:r>
            <a:br>
              <a:rPr sz="4400"/>
            </a:b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van optisch actieve stoffen.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900000" y="206064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Times New Roman"/>
              </a:rPr>
              <a:t>De meetmethode die gebruik maakt van de optische activiteit van stoffen wordt ‘</a:t>
            </a:r>
            <a:r>
              <a:rPr b="1" i="1" lang="nl-NL" sz="3200" spc="-1" strike="noStrike">
                <a:solidFill>
                  <a:srgbClr val="800000"/>
                </a:solidFill>
                <a:latin typeface="Times New Roman"/>
              </a:rPr>
              <a:t>polarimetrie</a:t>
            </a:r>
            <a:r>
              <a:rPr b="0" lang="nl-NL" sz="3200" spc="-1" strike="noStrike">
                <a:solidFill>
                  <a:srgbClr val="003366"/>
                </a:solidFill>
                <a:latin typeface="Times New Roman"/>
              </a:rPr>
              <a:t>’ genoemd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3366"/>
                </a:solidFill>
                <a:latin typeface="Times New Roman"/>
              </a:rPr>
              <a:t>Meet</a:t>
            </a: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 de draaiiingshoek van een oplossing met een optisch actieve stof.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3366"/>
                </a:solidFill>
                <a:latin typeface="Times New Roman"/>
              </a:rPr>
              <a:t>Vergelijk</a:t>
            </a: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 deze met de draaiingshoeken van een ijkserie.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Times New Roman"/>
              </a:rPr>
              <a:t>Voorbeeld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Het suikergehalte van 7-Up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5562720" y="5105520"/>
            <a:ext cx="3580920" cy="1474560"/>
            <a:chOff x="5562720" y="5105520"/>
            <a:chExt cx="3580920" cy="1474560"/>
          </a:xfrm>
        </p:grpSpPr>
        <p:graphicFrame>
          <p:nvGraphicFramePr>
            <p:cNvPr id="820" name=""/>
            <p:cNvGraphicFramePr/>
            <p:nvPr/>
          </p:nvGraphicFramePr>
          <p:xfrm>
            <a:off x="7526880" y="5105520"/>
            <a:ext cx="1616760" cy="14630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26880" y="5105520"/>
                      <a:ext cx="1616760" cy="146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2" name=""/>
            <p:cNvGraphicFramePr/>
            <p:nvPr/>
          </p:nvGraphicFramePr>
          <p:xfrm>
            <a:off x="5562720" y="5105520"/>
            <a:ext cx="1620000" cy="14745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2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562720" y="5105520"/>
                      <a:ext cx="1620000" cy="147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24" name=""/>
          <p:cNvGrpSpPr/>
          <p:nvPr/>
        </p:nvGrpSpPr>
        <p:grpSpPr>
          <a:xfrm>
            <a:off x="5562720" y="155520"/>
            <a:ext cx="3580920" cy="1474920"/>
            <a:chOff x="5562720" y="155520"/>
            <a:chExt cx="3580920" cy="1474920"/>
          </a:xfrm>
        </p:grpSpPr>
        <p:graphicFrame>
          <p:nvGraphicFramePr>
            <p:cNvPr id="825" name=""/>
            <p:cNvGraphicFramePr/>
            <p:nvPr/>
          </p:nvGraphicFramePr>
          <p:xfrm>
            <a:off x="7526880" y="155520"/>
            <a:ext cx="1616760" cy="1463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2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26880" y="155520"/>
                      <a:ext cx="1616760" cy="146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7" name=""/>
            <p:cNvGraphicFramePr/>
            <p:nvPr/>
          </p:nvGraphicFramePr>
          <p:xfrm>
            <a:off x="5562720" y="155520"/>
            <a:ext cx="1620000" cy="1474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2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562720" y="155520"/>
                      <a:ext cx="1620000" cy="147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556" dur="indefinite" restart="never" nodeType="tmRoot">
          <p:childTnLst>
            <p:seq>
              <p:cTn id="1557" dur="indefinite" nodeType="mainSeq">
                <p:childTnLst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2" dur="500"/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7" dur="500"/>
                                        <p:tgtEl>
                                          <p:spTgt spid="8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2" dur="500"/>
                                        <p:tgtEl>
                                          <p:spTgt spid="8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7" dur="500"/>
                                        <p:tgtEl>
                                          <p:spTgt spid="8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2" dur="500"/>
                                        <p:tgtEl>
                                          <p:spTgt spid="8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9" name="" descr=""/>
          <p:cNvPicPr/>
          <p:nvPr/>
        </p:nvPicPr>
        <p:blipFill>
          <a:blip r:embed="rId1"/>
          <a:stretch/>
        </p:blipFill>
        <p:spPr>
          <a:xfrm>
            <a:off x="1752480" y="3246480"/>
            <a:ext cx="6096240" cy="3611520"/>
          </a:xfrm>
          <a:prstGeom prst="rect">
            <a:avLst/>
          </a:prstGeom>
          <a:ln w="0">
            <a:noFill/>
          </a:ln>
        </p:spPr>
      </p:pic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800000"/>
                </a:solidFill>
                <a:latin typeface="Times New Roman"/>
              </a:rPr>
              <a:t>Het suikergehalte</a:t>
            </a:r>
            <a:br>
              <a:rPr sz="4400"/>
            </a:br>
            <a:r>
              <a:rPr b="0" lang="nl-NL" sz="2400" spc="-1" strike="noStrike">
                <a:solidFill>
                  <a:srgbClr val="003366"/>
                </a:solidFill>
                <a:latin typeface="Times New Roman"/>
              </a:rPr>
              <a:t>De ijkserie (1)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graphicFrame>
        <p:nvGraphicFramePr>
          <p:cNvPr id="831" name=""/>
          <p:cNvGraphicFramePr/>
          <p:nvPr/>
        </p:nvGraphicFramePr>
        <p:xfrm>
          <a:off x="0" y="1197000"/>
          <a:ext cx="5067360" cy="312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97000"/>
                    <a:ext cx="506736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33" name=""/>
          <p:cNvGrpSpPr/>
          <p:nvPr/>
        </p:nvGrpSpPr>
        <p:grpSpPr>
          <a:xfrm>
            <a:off x="1193040" y="2060280"/>
            <a:ext cx="2837160" cy="1542240"/>
            <a:chOff x="1193040" y="2060280"/>
            <a:chExt cx="2837160" cy="1542240"/>
          </a:xfrm>
        </p:grpSpPr>
        <p:grpSp>
          <p:nvGrpSpPr>
            <p:cNvPr id="834" name=""/>
            <p:cNvGrpSpPr/>
            <p:nvPr/>
          </p:nvGrpSpPr>
          <p:grpSpPr>
            <a:xfrm>
              <a:off x="1945800" y="2060280"/>
              <a:ext cx="1187280" cy="838080"/>
              <a:chOff x="1945800" y="2060280"/>
              <a:chExt cx="1187280" cy="838080"/>
            </a:xfrm>
          </p:grpSpPr>
          <p:sp>
            <p:nvSpPr>
              <p:cNvPr id="835" name=""/>
              <p:cNvSpPr/>
              <p:nvPr/>
            </p:nvSpPr>
            <p:spPr>
              <a:xfrm flipV="1">
                <a:off x="1946160" y="2161800"/>
                <a:ext cx="360" cy="73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1955520" y="2161800"/>
                <a:ext cx="104724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003120" y="2161800"/>
                <a:ext cx="360" cy="73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1945800" y="2896560"/>
                <a:ext cx="10479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2066400" y="2060640"/>
                <a:ext cx="10479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114720" y="2060640"/>
                <a:ext cx="360" cy="71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1946160" y="2060280"/>
                <a:ext cx="129960" cy="10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V="1">
                <a:off x="2994120" y="2060640"/>
                <a:ext cx="13896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>
                <a:off x="2984760" y="2779200"/>
                <a:ext cx="129960" cy="11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307692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300276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>
                <a:off x="292860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2855160" y="275400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H="1">
                <a:off x="2781000" y="275400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2706840" y="275400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H="1">
                <a:off x="2632320" y="275400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2558160" y="275400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flipH="1">
                <a:off x="2483640" y="2754000"/>
                <a:ext cx="36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H="1">
                <a:off x="240948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233532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226116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>
                <a:off x="218664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H="1">
                <a:off x="211248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H="1">
                <a:off x="2066400" y="2754000"/>
                <a:ext cx="9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2103840" y="2060640"/>
                <a:ext cx="36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103840" y="2161800"/>
                <a:ext cx="36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2103840" y="2265840"/>
                <a:ext cx="36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2103840" y="2369520"/>
                <a:ext cx="360" cy="4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2103840" y="2471040"/>
                <a:ext cx="36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2103840" y="2574720"/>
                <a:ext cx="360" cy="5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2103840" y="2678040"/>
                <a:ext cx="360" cy="4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H="1">
                <a:off x="2075760" y="2754000"/>
                <a:ext cx="27720" cy="2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2010960" y="2805480"/>
                <a:ext cx="27000" cy="2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H="1">
                <a:off x="1955160" y="2870640"/>
                <a:ext cx="27720" cy="2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869" name=""/>
            <p:cNvSpPr/>
            <p:nvPr/>
          </p:nvSpPr>
          <p:spPr>
            <a:xfrm>
              <a:off x="1193040" y="2898720"/>
              <a:ext cx="2837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DomCasual BT"/>
                </a:rPr>
                <a:t>Meetcel met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DomCasual BT"/>
                </a:rPr>
                <a:t>0 gram suiker per liter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aphicFrame>
        <p:nvGraphicFramePr>
          <p:cNvPr id="870" name=""/>
          <p:cNvGraphicFramePr/>
          <p:nvPr/>
        </p:nvGraphicFramePr>
        <p:xfrm>
          <a:off x="-228600" y="3581280"/>
          <a:ext cx="4724280" cy="19875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8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228600" y="3581280"/>
                    <a:ext cx="472428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2" name=""/>
          <p:cNvSpPr/>
          <p:nvPr/>
        </p:nvSpPr>
        <p:spPr>
          <a:xfrm>
            <a:off x="4952880" y="2349360"/>
            <a:ext cx="4191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25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 meetcel met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gedestilleerd water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wordt in de lichtweg geplaatst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draaiingshoek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wordt op 0 º ingesteld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meetwaarde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wordt genoteerd in de tabel en in het diagram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5562720" y="155520"/>
            <a:ext cx="3580920" cy="1474920"/>
            <a:chOff x="5562720" y="155520"/>
            <a:chExt cx="3580920" cy="1474920"/>
          </a:xfrm>
        </p:grpSpPr>
        <p:graphicFrame>
          <p:nvGraphicFramePr>
            <p:cNvPr id="874" name=""/>
            <p:cNvGraphicFramePr/>
            <p:nvPr/>
          </p:nvGraphicFramePr>
          <p:xfrm>
            <a:off x="7526880" y="155520"/>
            <a:ext cx="1616760" cy="14634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7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526880" y="155520"/>
                      <a:ext cx="1616760" cy="146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76" name=""/>
            <p:cNvGraphicFramePr/>
            <p:nvPr/>
          </p:nvGraphicFramePr>
          <p:xfrm>
            <a:off x="5562720" y="155520"/>
            <a:ext cx="1620000" cy="14749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77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562720" y="155520"/>
                      <a:ext cx="1620000" cy="147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583" dur="indefinite" restart="never" nodeType="tmRoot">
          <p:childTnLst>
            <p:seq>
              <p:cTn id="1584" dur="indefinite" nodeType="mainSeq">
                <p:childTnLst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9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5" dur="500"/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0" dur="500"/>
                                        <p:tgtEl>
                                          <p:spTgt spid="8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5" dur="500"/>
                                        <p:tgtEl>
                                          <p:spTgt spid="8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0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1" fill="hold">
                            <p:stCondLst>
                              <p:cond delay="500"/>
                            </p:stCondLst>
                            <p:childTnLst>
                              <p:par>
                                <p:cTn id="161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4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8" name="" descr=""/>
          <p:cNvPicPr/>
          <p:nvPr/>
        </p:nvPicPr>
        <p:blipFill>
          <a:blip r:embed="rId1"/>
          <a:stretch/>
        </p:blipFill>
        <p:spPr>
          <a:xfrm>
            <a:off x="1752480" y="3246480"/>
            <a:ext cx="6096240" cy="3611520"/>
          </a:xfrm>
          <a:prstGeom prst="rect">
            <a:avLst/>
          </a:prstGeom>
          <a:ln w="0">
            <a:noFill/>
          </a:ln>
        </p:spPr>
      </p:pic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800000"/>
                </a:solidFill>
                <a:latin typeface="Times New Roman"/>
              </a:rPr>
              <a:t>Het suikergehalte</a:t>
            </a:r>
            <a:br>
              <a:rPr sz="4400"/>
            </a:br>
            <a:r>
              <a:rPr b="0" lang="nl-NL" sz="2400" spc="-1" strike="noStrike">
                <a:solidFill>
                  <a:srgbClr val="003366"/>
                </a:solidFill>
                <a:latin typeface="Times New Roman"/>
              </a:rPr>
              <a:t>De ijkserie (2)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graphicFrame>
        <p:nvGraphicFramePr>
          <p:cNvPr id="880" name=""/>
          <p:cNvGraphicFramePr/>
          <p:nvPr/>
        </p:nvGraphicFramePr>
        <p:xfrm>
          <a:off x="0" y="1268280"/>
          <a:ext cx="5067360" cy="312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68280"/>
                    <a:ext cx="506736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82" name=""/>
          <p:cNvGrpSpPr/>
          <p:nvPr/>
        </p:nvGrpSpPr>
        <p:grpSpPr>
          <a:xfrm>
            <a:off x="1171440" y="2060280"/>
            <a:ext cx="2983320" cy="1542240"/>
            <a:chOff x="1171440" y="2060280"/>
            <a:chExt cx="2983320" cy="1542240"/>
          </a:xfrm>
        </p:grpSpPr>
        <p:grpSp>
          <p:nvGrpSpPr>
            <p:cNvPr id="883" name=""/>
            <p:cNvGrpSpPr/>
            <p:nvPr/>
          </p:nvGrpSpPr>
          <p:grpSpPr>
            <a:xfrm>
              <a:off x="1998720" y="2060280"/>
              <a:ext cx="1187280" cy="838080"/>
              <a:chOff x="1998720" y="2060280"/>
              <a:chExt cx="1187280" cy="838080"/>
            </a:xfrm>
          </p:grpSpPr>
          <p:sp>
            <p:nvSpPr>
              <p:cNvPr id="884" name=""/>
              <p:cNvSpPr/>
              <p:nvPr/>
            </p:nvSpPr>
            <p:spPr>
              <a:xfrm flipV="1">
                <a:off x="1998720" y="2161800"/>
                <a:ext cx="360" cy="73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2008080" y="2161800"/>
                <a:ext cx="104760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056040" y="2161800"/>
                <a:ext cx="360" cy="73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H="1">
                <a:off x="1998720" y="2896560"/>
                <a:ext cx="10483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119320" y="2060640"/>
                <a:ext cx="10483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167640" y="2060640"/>
                <a:ext cx="360" cy="71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flipV="1">
                <a:off x="1998720" y="2060280"/>
                <a:ext cx="129960" cy="10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V="1">
                <a:off x="3047040" y="2060640"/>
                <a:ext cx="13896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flipV="1">
                <a:off x="3037680" y="2779200"/>
                <a:ext cx="129960" cy="11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312984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H="1">
                <a:off x="305568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>
                <a:off x="298116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>
                <a:off x="2908080" y="275400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>
                <a:off x="2833560" y="275400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H="1">
                <a:off x="2759400" y="275400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flipH="1">
                <a:off x="2685240" y="275400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>
                <a:off x="2611080" y="275400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H="1">
                <a:off x="2536560" y="2754000"/>
                <a:ext cx="36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>
                <a:off x="246204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>
                <a:off x="238788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H="1">
                <a:off x="231372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H="1">
                <a:off x="223956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flipH="1">
                <a:off x="216504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flipH="1">
                <a:off x="2119320" y="2754000"/>
                <a:ext cx="9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2156400" y="2060640"/>
                <a:ext cx="36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2156400" y="2161800"/>
                <a:ext cx="36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2156400" y="2265840"/>
                <a:ext cx="36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2156400" y="2369520"/>
                <a:ext cx="360" cy="4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156400" y="2471040"/>
                <a:ext cx="36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2156400" y="2574720"/>
                <a:ext cx="360" cy="5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2156400" y="2678040"/>
                <a:ext cx="360" cy="4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flipH="1">
                <a:off x="2128320" y="2754000"/>
                <a:ext cx="27720" cy="2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flipH="1">
                <a:off x="2063520" y="2805480"/>
                <a:ext cx="27000" cy="2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flipH="1">
                <a:off x="2007720" y="2870640"/>
                <a:ext cx="27720" cy="2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918" name=""/>
            <p:cNvSpPr/>
            <p:nvPr/>
          </p:nvSpPr>
          <p:spPr>
            <a:xfrm>
              <a:off x="1171440" y="2898720"/>
              <a:ext cx="2983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DomCasual BT"/>
                </a:rPr>
                <a:t>Meetcel met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DomCasual BT"/>
                </a:rPr>
                <a:t>50 gram suiker per liter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aphicFrame>
        <p:nvGraphicFramePr>
          <p:cNvPr id="919" name=""/>
          <p:cNvGraphicFramePr/>
          <p:nvPr/>
        </p:nvGraphicFramePr>
        <p:xfrm>
          <a:off x="-228600" y="3581280"/>
          <a:ext cx="4724280" cy="19875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9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228600" y="3581280"/>
                    <a:ext cx="472428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1" name=""/>
          <p:cNvSpPr/>
          <p:nvPr/>
        </p:nvSpPr>
        <p:spPr>
          <a:xfrm>
            <a:off x="4952880" y="2276640"/>
            <a:ext cx="4191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25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 meetcel met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50 gram suiker per liter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wordt in de lichtweg geplaatst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draaiingshoek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wordt gemeten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ze bedraagt: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5,2 º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meetwaarde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wordt genoteerd in de tabel en in het diagram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5562720" y="155520"/>
            <a:ext cx="3580920" cy="1474920"/>
            <a:chOff x="5562720" y="155520"/>
            <a:chExt cx="3580920" cy="1474920"/>
          </a:xfrm>
        </p:grpSpPr>
        <p:graphicFrame>
          <p:nvGraphicFramePr>
            <p:cNvPr id="923" name=""/>
            <p:cNvGraphicFramePr/>
            <p:nvPr/>
          </p:nvGraphicFramePr>
          <p:xfrm>
            <a:off x="7526880" y="155520"/>
            <a:ext cx="1616760" cy="14634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92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526880" y="155520"/>
                      <a:ext cx="1616760" cy="146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25" name=""/>
            <p:cNvGraphicFramePr/>
            <p:nvPr/>
          </p:nvGraphicFramePr>
          <p:xfrm>
            <a:off x="5562720" y="155520"/>
            <a:ext cx="1620000" cy="14749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92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562720" y="155520"/>
                      <a:ext cx="1620000" cy="147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615" dur="indefinite" restart="never" nodeType="tmRoot">
          <p:childTnLst>
            <p:seq>
              <p:cTn id="1616" dur="indefinite" nodeType="mainSeq">
                <p:childTnLst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1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7" dur="500"/>
                                        <p:tgtEl>
                                          <p:spTgt spid="9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2" dur="500"/>
                                        <p:tgtEl>
                                          <p:spTgt spid="9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7" dur="500"/>
                                        <p:tgtEl>
                                          <p:spTgt spid="9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2" dur="500"/>
                                        <p:tgtEl>
                                          <p:spTgt spid="9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8" dur="5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3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" descr=""/>
          <p:cNvPicPr/>
          <p:nvPr/>
        </p:nvPicPr>
        <p:blipFill>
          <a:blip r:embed="rId1"/>
          <a:stretch/>
        </p:blipFill>
        <p:spPr>
          <a:xfrm>
            <a:off x="1752480" y="3246480"/>
            <a:ext cx="6096240" cy="3611520"/>
          </a:xfrm>
          <a:prstGeom prst="rect">
            <a:avLst/>
          </a:prstGeom>
          <a:ln w="0">
            <a:noFill/>
          </a:ln>
        </p:spPr>
      </p:pic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800000"/>
                </a:solidFill>
                <a:latin typeface="Times New Roman"/>
              </a:rPr>
              <a:t>Het suikergehalte</a:t>
            </a:r>
            <a:br>
              <a:rPr sz="4400"/>
            </a:br>
            <a:r>
              <a:rPr b="0" lang="nl-NL" sz="2400" spc="-1" strike="noStrike">
                <a:solidFill>
                  <a:srgbClr val="003366"/>
                </a:solidFill>
                <a:latin typeface="Times New Roman"/>
              </a:rPr>
              <a:t>De ijkserie (3)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graphicFrame>
        <p:nvGraphicFramePr>
          <p:cNvPr id="929" name=""/>
          <p:cNvGraphicFramePr/>
          <p:nvPr/>
        </p:nvGraphicFramePr>
        <p:xfrm>
          <a:off x="0" y="1197000"/>
          <a:ext cx="5067360" cy="312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97000"/>
                    <a:ext cx="506736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31" name=""/>
          <p:cNvGrpSpPr/>
          <p:nvPr/>
        </p:nvGrpSpPr>
        <p:grpSpPr>
          <a:xfrm>
            <a:off x="1071000" y="2060280"/>
            <a:ext cx="3129840" cy="1542240"/>
            <a:chOff x="1071000" y="2060280"/>
            <a:chExt cx="3129840" cy="1542240"/>
          </a:xfrm>
        </p:grpSpPr>
        <p:grpSp>
          <p:nvGrpSpPr>
            <p:cNvPr id="932" name=""/>
            <p:cNvGrpSpPr/>
            <p:nvPr/>
          </p:nvGrpSpPr>
          <p:grpSpPr>
            <a:xfrm>
              <a:off x="1971720" y="2060280"/>
              <a:ext cx="1187280" cy="838080"/>
              <a:chOff x="1971720" y="2060280"/>
              <a:chExt cx="1187280" cy="838080"/>
            </a:xfrm>
          </p:grpSpPr>
          <p:sp>
            <p:nvSpPr>
              <p:cNvPr id="933" name=""/>
              <p:cNvSpPr/>
              <p:nvPr/>
            </p:nvSpPr>
            <p:spPr>
              <a:xfrm flipV="1">
                <a:off x="1971720" y="2161800"/>
                <a:ext cx="360" cy="73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1981080" y="2161800"/>
                <a:ext cx="104760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029040" y="2161800"/>
                <a:ext cx="360" cy="73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H="1">
                <a:off x="1971720" y="2896560"/>
                <a:ext cx="10483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092320" y="2060640"/>
                <a:ext cx="10483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140640" y="2060640"/>
                <a:ext cx="360" cy="71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V="1">
                <a:off x="1971720" y="2060280"/>
                <a:ext cx="129960" cy="10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V="1">
                <a:off x="3020040" y="2060640"/>
                <a:ext cx="13896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flipV="1">
                <a:off x="3010680" y="2779200"/>
                <a:ext cx="129960" cy="11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flipH="1">
                <a:off x="310284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flipH="1">
                <a:off x="302868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flipH="1">
                <a:off x="295416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flipH="1">
                <a:off x="2881080" y="275400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flipH="1">
                <a:off x="2806560" y="275400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flipH="1">
                <a:off x="2732400" y="275400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flipH="1">
                <a:off x="2658240" y="275400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flipH="1">
                <a:off x="2584080" y="275400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flipH="1">
                <a:off x="2509560" y="2754000"/>
                <a:ext cx="36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H="1">
                <a:off x="243504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H="1">
                <a:off x="236088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flipH="1">
                <a:off x="228672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flipH="1">
                <a:off x="221256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flipH="1">
                <a:off x="213804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flipH="1">
                <a:off x="2092320" y="2754000"/>
                <a:ext cx="9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2129400" y="2060640"/>
                <a:ext cx="36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129400" y="2161800"/>
                <a:ext cx="36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2129400" y="2265840"/>
                <a:ext cx="36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2129400" y="2369520"/>
                <a:ext cx="360" cy="4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2129400" y="2471040"/>
                <a:ext cx="36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2129400" y="2574720"/>
                <a:ext cx="360" cy="5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129400" y="2678040"/>
                <a:ext cx="360" cy="4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flipH="1">
                <a:off x="2101320" y="2754000"/>
                <a:ext cx="27720" cy="2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H="1">
                <a:off x="2036520" y="2805480"/>
                <a:ext cx="27000" cy="2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flipH="1">
                <a:off x="1980720" y="2870640"/>
                <a:ext cx="27720" cy="2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967" name=""/>
            <p:cNvSpPr/>
            <p:nvPr/>
          </p:nvSpPr>
          <p:spPr>
            <a:xfrm>
              <a:off x="1071000" y="2898720"/>
              <a:ext cx="3129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DomCasual BT"/>
                </a:rPr>
                <a:t>Meetcel met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DomCasual BT"/>
                </a:rPr>
                <a:t>100 gram suiker per liter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aphicFrame>
        <p:nvGraphicFramePr>
          <p:cNvPr id="968" name=""/>
          <p:cNvGraphicFramePr/>
          <p:nvPr/>
        </p:nvGraphicFramePr>
        <p:xfrm>
          <a:off x="-228600" y="3581280"/>
          <a:ext cx="4710240" cy="19749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9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228600" y="3581280"/>
                    <a:ext cx="4710240" cy="19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0" name=""/>
          <p:cNvSpPr/>
          <p:nvPr/>
        </p:nvSpPr>
        <p:spPr>
          <a:xfrm>
            <a:off x="4952880" y="2276640"/>
            <a:ext cx="4191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25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 meetcel met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100 gram suiker per liter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wordt in de lichtweg geplaatst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draaiingshoek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wordt gemeten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ze bedraagt: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10,2 º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meetwaarde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wordt genoteerd in de tabel en in het diagram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972" name=""/>
          <p:cNvGrpSpPr/>
          <p:nvPr/>
        </p:nvGrpSpPr>
        <p:grpSpPr>
          <a:xfrm>
            <a:off x="5562720" y="155520"/>
            <a:ext cx="3580920" cy="1474920"/>
            <a:chOff x="5562720" y="155520"/>
            <a:chExt cx="3580920" cy="1474920"/>
          </a:xfrm>
        </p:grpSpPr>
        <p:graphicFrame>
          <p:nvGraphicFramePr>
            <p:cNvPr id="973" name=""/>
            <p:cNvGraphicFramePr/>
            <p:nvPr/>
          </p:nvGraphicFramePr>
          <p:xfrm>
            <a:off x="7526880" y="155520"/>
            <a:ext cx="1616760" cy="14634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974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526880" y="155520"/>
                      <a:ext cx="1616760" cy="146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75" name=""/>
            <p:cNvGraphicFramePr/>
            <p:nvPr/>
          </p:nvGraphicFramePr>
          <p:xfrm>
            <a:off x="5562720" y="155520"/>
            <a:ext cx="1620000" cy="14749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97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562720" y="155520"/>
                      <a:ext cx="1620000" cy="147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654" dur="indefinite" restart="never" nodeType="tmRoot">
          <p:childTnLst>
            <p:seq>
              <p:cTn id="1655" dur="indefinite" nodeType="mainSeq">
                <p:childTnLst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1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6" dur="500"/>
                                        <p:tgtEl>
                                          <p:spTgt spid="9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1" dur="500"/>
                                        <p:tgtEl>
                                          <p:spTgt spid="9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6" dur="500"/>
                                        <p:tgtEl>
                                          <p:spTgt spid="9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1" dur="500"/>
                                        <p:tgtEl>
                                          <p:spTgt spid="9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6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Isomeren</a:t>
            </a:r>
            <a:br>
              <a:rPr sz="4400"/>
            </a:b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lgemeen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26920" y="2421000"/>
            <a:ext cx="5905800" cy="408924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838080" y="2349360"/>
            <a:ext cx="5894640" cy="37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3366"/>
                </a:solidFill>
                <a:latin typeface="Times New Roman"/>
              </a:rPr>
              <a:t>Definitie</a:t>
            </a:r>
            <a:r>
              <a:rPr b="0" lang="nl-NL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Isomeren zijn moleculen met dezelfde molecuulformule (brutoformule) maar een </a:t>
            </a:r>
            <a:r>
              <a:rPr b="1" i="1" lang="nl-NL" sz="2400" spc="-1" strike="noStrike">
                <a:solidFill>
                  <a:srgbClr val="003366"/>
                </a:solidFill>
                <a:latin typeface="Times New Roman"/>
              </a:rPr>
              <a:t>andere bouw</a:t>
            </a:r>
            <a:r>
              <a:rPr b="0" lang="nl-NL" sz="24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6372360" y="0"/>
            <a:ext cx="2484360" cy="17208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900000" y="4365720"/>
          <a:ext cx="2192400" cy="22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4365720"/>
                    <a:ext cx="219240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"/>
          <p:cNvSpPr/>
          <p:nvPr/>
        </p:nvSpPr>
        <p:spPr>
          <a:xfrm>
            <a:off x="0" y="283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3132000" y="4365720"/>
          <a:ext cx="2289240" cy="226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132000" y="4365720"/>
                    <a:ext cx="2289240" cy="22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"/>
          <p:cNvSpPr/>
          <p:nvPr/>
        </p:nvSpPr>
        <p:spPr>
          <a:xfrm>
            <a:off x="3851280" y="6165720"/>
            <a:ext cx="4094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C</a:t>
            </a:r>
            <a:r>
              <a:rPr b="0" lang="en-US" sz="2400" spc="-1" strike="noStrike" baseline="-25000">
                <a:solidFill>
                  <a:srgbClr val="8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8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752480" y="3246480"/>
            <a:ext cx="6096240" cy="3611520"/>
          </a:xfrm>
          <a:prstGeom prst="rect">
            <a:avLst/>
          </a:prstGeom>
          <a:ln w="0">
            <a:noFill/>
          </a:ln>
        </p:spPr>
      </p:pic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800000"/>
                </a:solidFill>
                <a:latin typeface="Times New Roman"/>
              </a:rPr>
              <a:t>Het suikergehalte</a:t>
            </a:r>
            <a:br>
              <a:rPr sz="4400"/>
            </a:br>
            <a:r>
              <a:rPr b="0" lang="nl-NL" sz="2400" spc="-1" strike="noStrike">
                <a:solidFill>
                  <a:srgbClr val="003366"/>
                </a:solidFill>
                <a:latin typeface="Times New Roman"/>
              </a:rPr>
              <a:t>De ijkserie (4)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graphicFrame>
        <p:nvGraphicFramePr>
          <p:cNvPr id="979" name=""/>
          <p:cNvGraphicFramePr/>
          <p:nvPr/>
        </p:nvGraphicFramePr>
        <p:xfrm>
          <a:off x="0" y="1125360"/>
          <a:ext cx="5067360" cy="312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25360"/>
                    <a:ext cx="506736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81" name=""/>
          <p:cNvGrpSpPr/>
          <p:nvPr/>
        </p:nvGrpSpPr>
        <p:grpSpPr>
          <a:xfrm>
            <a:off x="1062360" y="2060280"/>
            <a:ext cx="3129840" cy="1542240"/>
            <a:chOff x="1062360" y="2060280"/>
            <a:chExt cx="3129840" cy="1542240"/>
          </a:xfrm>
        </p:grpSpPr>
        <p:grpSp>
          <p:nvGrpSpPr>
            <p:cNvPr id="982" name=""/>
            <p:cNvGrpSpPr/>
            <p:nvPr/>
          </p:nvGrpSpPr>
          <p:grpSpPr>
            <a:xfrm>
              <a:off x="1963800" y="2060280"/>
              <a:ext cx="1187280" cy="838080"/>
              <a:chOff x="1963800" y="2060280"/>
              <a:chExt cx="1187280" cy="838080"/>
            </a:xfrm>
          </p:grpSpPr>
          <p:sp>
            <p:nvSpPr>
              <p:cNvPr id="983" name=""/>
              <p:cNvSpPr/>
              <p:nvPr/>
            </p:nvSpPr>
            <p:spPr>
              <a:xfrm flipV="1">
                <a:off x="1963800" y="2161800"/>
                <a:ext cx="360" cy="73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973160" y="2161800"/>
                <a:ext cx="104760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3021120" y="2161800"/>
                <a:ext cx="360" cy="73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H="1">
                <a:off x="1963800" y="2896560"/>
                <a:ext cx="10483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2084400" y="2060640"/>
                <a:ext cx="10483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3132720" y="2060640"/>
                <a:ext cx="360" cy="71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flipV="1">
                <a:off x="1963800" y="2060280"/>
                <a:ext cx="129960" cy="10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V="1">
                <a:off x="3012120" y="2060640"/>
                <a:ext cx="13896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flipV="1">
                <a:off x="3002760" y="2779200"/>
                <a:ext cx="129960" cy="11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flipH="1">
                <a:off x="309492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flipH="1">
                <a:off x="302076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flipH="1">
                <a:off x="294624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flipH="1">
                <a:off x="2873160" y="275400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flipH="1">
                <a:off x="2798640" y="275400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flipH="1">
                <a:off x="2724480" y="275400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flipH="1">
                <a:off x="2650320" y="275400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H="1">
                <a:off x="2576160" y="275400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flipH="1">
                <a:off x="2501640" y="2754000"/>
                <a:ext cx="36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flipH="1">
                <a:off x="242712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H="1">
                <a:off x="235296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H="1">
                <a:off x="227880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flipH="1">
                <a:off x="220464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flipH="1">
                <a:off x="213012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H="1">
                <a:off x="2084400" y="2754000"/>
                <a:ext cx="9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121480" y="2060640"/>
                <a:ext cx="36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121480" y="2161800"/>
                <a:ext cx="36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2121480" y="2265840"/>
                <a:ext cx="36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2121480" y="2369520"/>
                <a:ext cx="360" cy="4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121480" y="2471040"/>
                <a:ext cx="36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121480" y="2574720"/>
                <a:ext cx="360" cy="5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121480" y="2678040"/>
                <a:ext cx="360" cy="4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flipH="1">
                <a:off x="2093400" y="2754000"/>
                <a:ext cx="27720" cy="2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flipH="1">
                <a:off x="2028600" y="2805480"/>
                <a:ext cx="27000" cy="2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 flipH="1">
                <a:off x="1972800" y="2870640"/>
                <a:ext cx="27720" cy="2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017" name=""/>
            <p:cNvSpPr/>
            <p:nvPr/>
          </p:nvSpPr>
          <p:spPr>
            <a:xfrm>
              <a:off x="1062360" y="2898720"/>
              <a:ext cx="3129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DomCasual BT"/>
                </a:rPr>
                <a:t>Meetcel met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DomCasual BT"/>
                </a:rPr>
                <a:t>150 gram suiker per liter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aphicFrame>
        <p:nvGraphicFramePr>
          <p:cNvPr id="1018" name=""/>
          <p:cNvGraphicFramePr/>
          <p:nvPr/>
        </p:nvGraphicFramePr>
        <p:xfrm>
          <a:off x="-228600" y="3581280"/>
          <a:ext cx="4710240" cy="19749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0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228600" y="3581280"/>
                    <a:ext cx="4710240" cy="19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0" name=""/>
          <p:cNvSpPr/>
          <p:nvPr/>
        </p:nvSpPr>
        <p:spPr>
          <a:xfrm>
            <a:off x="4952880" y="2205000"/>
            <a:ext cx="4191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25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 meetcel met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150 gram suiker per liter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wordt in de lichtweg geplaatst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draaiingshoek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wordt gemeten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ze bedraagt: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14,7 º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meetwaarde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wordt genoteerd in de tabel en in het diagram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5562720" y="155520"/>
            <a:ext cx="3580920" cy="1474920"/>
            <a:chOff x="5562720" y="155520"/>
            <a:chExt cx="3580920" cy="1474920"/>
          </a:xfrm>
        </p:grpSpPr>
        <p:graphicFrame>
          <p:nvGraphicFramePr>
            <p:cNvPr id="1022" name=""/>
            <p:cNvGraphicFramePr/>
            <p:nvPr/>
          </p:nvGraphicFramePr>
          <p:xfrm>
            <a:off x="7526880" y="155520"/>
            <a:ext cx="1616760" cy="14634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2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526880" y="155520"/>
                      <a:ext cx="1616760" cy="146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24" name=""/>
            <p:cNvGraphicFramePr/>
            <p:nvPr/>
          </p:nvGraphicFramePr>
          <p:xfrm>
            <a:off x="5562720" y="155520"/>
            <a:ext cx="1620000" cy="14749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025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562720" y="155520"/>
                      <a:ext cx="1620000" cy="147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692" dur="indefinite" restart="never" nodeType="tmRoot">
          <p:childTnLst>
            <p:seq>
              <p:cTn id="1693" dur="indefinite" nodeType="mainSeq">
                <p:childTnLst>
                  <p:par>
                    <p:cTn id="1694" fill="hold">
                      <p:stCondLst>
                        <p:cond delay="indefinite"/>
                      </p:stCondLst>
                      <p:childTnLst>
                        <p:par>
                          <p:cTn id="1695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9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0" fill="hold">
                      <p:stCondLst>
                        <p:cond delay="indefinite"/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4" dur="500"/>
                                        <p:tgtEl>
                                          <p:spTgt spid="10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9" dur="500"/>
                                        <p:tgtEl>
                                          <p:spTgt spid="10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4" dur="500"/>
                                        <p:tgtEl>
                                          <p:spTgt spid="10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9" dur="500"/>
                                        <p:tgtEl>
                                          <p:spTgt spid="10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4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9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" descr=""/>
          <p:cNvPicPr/>
          <p:nvPr/>
        </p:nvPicPr>
        <p:blipFill>
          <a:blip r:embed="rId1"/>
          <a:stretch/>
        </p:blipFill>
        <p:spPr>
          <a:xfrm>
            <a:off x="1752480" y="3246480"/>
            <a:ext cx="6096240" cy="3611520"/>
          </a:xfrm>
          <a:prstGeom prst="rect">
            <a:avLst/>
          </a:prstGeom>
          <a:ln w="0">
            <a:noFill/>
          </a:ln>
        </p:spPr>
      </p:pic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800000"/>
                </a:solidFill>
                <a:latin typeface="Times New Roman"/>
              </a:rPr>
              <a:t>Het suikergehalte</a:t>
            </a:r>
            <a:br>
              <a:rPr sz="4400"/>
            </a:br>
            <a:r>
              <a:rPr b="0" lang="nl-NL" sz="2400" spc="-1" strike="noStrike">
                <a:solidFill>
                  <a:srgbClr val="003366"/>
                </a:solidFill>
                <a:latin typeface="Times New Roman"/>
              </a:rPr>
              <a:t>De ijkserie (5)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graphicFrame>
        <p:nvGraphicFramePr>
          <p:cNvPr id="1028" name=""/>
          <p:cNvGraphicFramePr/>
          <p:nvPr/>
        </p:nvGraphicFramePr>
        <p:xfrm>
          <a:off x="-108000" y="1197000"/>
          <a:ext cx="5067360" cy="312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108000" y="1197000"/>
                    <a:ext cx="506736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0" name=""/>
          <p:cNvGrpSpPr/>
          <p:nvPr/>
        </p:nvGrpSpPr>
        <p:grpSpPr>
          <a:xfrm>
            <a:off x="1090080" y="2060280"/>
            <a:ext cx="3129840" cy="1542240"/>
            <a:chOff x="1090080" y="2060280"/>
            <a:chExt cx="3129840" cy="1542240"/>
          </a:xfrm>
        </p:grpSpPr>
        <p:grpSp>
          <p:nvGrpSpPr>
            <p:cNvPr id="1031" name=""/>
            <p:cNvGrpSpPr/>
            <p:nvPr/>
          </p:nvGrpSpPr>
          <p:grpSpPr>
            <a:xfrm>
              <a:off x="1992240" y="2060280"/>
              <a:ext cx="1187280" cy="838080"/>
              <a:chOff x="1992240" y="2060280"/>
              <a:chExt cx="1187280" cy="838080"/>
            </a:xfrm>
          </p:grpSpPr>
          <p:sp>
            <p:nvSpPr>
              <p:cNvPr id="1032" name=""/>
              <p:cNvSpPr/>
              <p:nvPr/>
            </p:nvSpPr>
            <p:spPr>
              <a:xfrm flipV="1">
                <a:off x="1992240" y="2161800"/>
                <a:ext cx="360" cy="73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2001600" y="2161800"/>
                <a:ext cx="104760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049560" y="2161800"/>
                <a:ext cx="360" cy="73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flipH="1">
                <a:off x="1992240" y="2896560"/>
                <a:ext cx="10483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112840" y="2060640"/>
                <a:ext cx="10483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3161160" y="2060640"/>
                <a:ext cx="360" cy="71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flipV="1">
                <a:off x="1992240" y="2060280"/>
                <a:ext cx="129960" cy="10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V="1">
                <a:off x="3040560" y="2060640"/>
                <a:ext cx="13896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V="1">
                <a:off x="3031200" y="2779200"/>
                <a:ext cx="129960" cy="11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flipH="1">
                <a:off x="312336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flipH="1">
                <a:off x="304920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H="1">
                <a:off x="297468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 flipH="1">
                <a:off x="2901600" y="275400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flipH="1">
                <a:off x="2827080" y="275400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flipH="1">
                <a:off x="2752920" y="275400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flipH="1">
                <a:off x="2678760" y="275400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H="1">
                <a:off x="2604600" y="275400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flipH="1">
                <a:off x="2530080" y="2754000"/>
                <a:ext cx="36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flipH="1">
                <a:off x="245556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flipH="1">
                <a:off x="238140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H="1">
                <a:off x="230724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 flipH="1">
                <a:off x="223308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flipH="1">
                <a:off x="215856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 flipH="1">
                <a:off x="2112840" y="2754000"/>
                <a:ext cx="9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2149920" y="2060640"/>
                <a:ext cx="36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2149920" y="2161800"/>
                <a:ext cx="36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149920" y="2265840"/>
                <a:ext cx="36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2149920" y="2369520"/>
                <a:ext cx="360" cy="4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2149920" y="2471040"/>
                <a:ext cx="36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2149920" y="2574720"/>
                <a:ext cx="360" cy="5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2149920" y="2678040"/>
                <a:ext cx="360" cy="4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flipH="1">
                <a:off x="2121840" y="2754000"/>
                <a:ext cx="27720" cy="2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H="1">
                <a:off x="2057040" y="2805480"/>
                <a:ext cx="27000" cy="2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flipH="1">
                <a:off x="2001240" y="2870640"/>
                <a:ext cx="27720" cy="2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066" name=""/>
            <p:cNvSpPr/>
            <p:nvPr/>
          </p:nvSpPr>
          <p:spPr>
            <a:xfrm>
              <a:off x="1090080" y="2898720"/>
              <a:ext cx="3129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DomCasual BT"/>
                </a:rPr>
                <a:t>Meetcel met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DomCasual BT"/>
                </a:rPr>
                <a:t>200 gram suiker per liter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aphicFrame>
        <p:nvGraphicFramePr>
          <p:cNvPr id="1067" name=""/>
          <p:cNvGraphicFramePr/>
          <p:nvPr/>
        </p:nvGraphicFramePr>
        <p:xfrm>
          <a:off x="-228600" y="3581280"/>
          <a:ext cx="4710240" cy="19749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0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228600" y="3581280"/>
                    <a:ext cx="4710240" cy="19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9" name=""/>
          <p:cNvSpPr/>
          <p:nvPr/>
        </p:nvSpPr>
        <p:spPr>
          <a:xfrm>
            <a:off x="4952880" y="2276640"/>
            <a:ext cx="4191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25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 meetcel met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200 gram suiker per liter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wordt in de lichtweg geplaatst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draaiingshoek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wordt gemeten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ze bedraagt: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21,1 º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meetwaarde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wordt genoteerd in de tabel en in het diagram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5562720" y="155520"/>
            <a:ext cx="3580920" cy="1474920"/>
            <a:chOff x="5562720" y="155520"/>
            <a:chExt cx="3580920" cy="1474920"/>
          </a:xfrm>
        </p:grpSpPr>
        <p:graphicFrame>
          <p:nvGraphicFramePr>
            <p:cNvPr id="1071" name=""/>
            <p:cNvGraphicFramePr/>
            <p:nvPr/>
          </p:nvGraphicFramePr>
          <p:xfrm>
            <a:off x="7526880" y="155520"/>
            <a:ext cx="1616760" cy="14634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07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526880" y="155520"/>
                      <a:ext cx="1616760" cy="146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73" name=""/>
            <p:cNvGraphicFramePr/>
            <p:nvPr/>
          </p:nvGraphicFramePr>
          <p:xfrm>
            <a:off x="5562720" y="155520"/>
            <a:ext cx="1620000" cy="14749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074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562720" y="155520"/>
                      <a:ext cx="1620000" cy="147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730" dur="indefinite" restart="never" nodeType="tmRoot">
          <p:childTnLst>
            <p:seq>
              <p:cTn id="1731" dur="indefinite" nodeType="mainSeq">
                <p:childTnLst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6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fill="hold">
                      <p:stCondLst>
                        <p:cond delay="indefinite"/>
                      </p:stCondLst>
                      <p:childTnLst>
                        <p:par>
                          <p:cTn id="1739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2" dur="500"/>
                                        <p:tgtEl>
                                          <p:spTgt spid="10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7" dur="500"/>
                                        <p:tgtEl>
                                          <p:spTgt spid="10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2" dur="500"/>
                                        <p:tgtEl>
                                          <p:spTgt spid="10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7" dur="500"/>
                                        <p:tgtEl>
                                          <p:spTgt spid="10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2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7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" descr=""/>
          <p:cNvPicPr/>
          <p:nvPr/>
        </p:nvPicPr>
        <p:blipFill>
          <a:blip r:embed="rId1"/>
          <a:stretch/>
        </p:blipFill>
        <p:spPr>
          <a:xfrm>
            <a:off x="1752480" y="3246480"/>
            <a:ext cx="6096240" cy="3611520"/>
          </a:xfrm>
          <a:prstGeom prst="rect">
            <a:avLst/>
          </a:prstGeom>
          <a:ln w="0">
            <a:noFill/>
          </a:ln>
        </p:spPr>
      </p:pic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800000"/>
                </a:solidFill>
                <a:latin typeface="Times New Roman"/>
              </a:rPr>
              <a:t>Het suikergehalte</a:t>
            </a:r>
            <a:br>
              <a:rPr sz="4400"/>
            </a:br>
            <a:r>
              <a:rPr b="0" lang="nl-NL" sz="2400" spc="-1" strike="noStrike">
                <a:solidFill>
                  <a:srgbClr val="003366"/>
                </a:solidFill>
                <a:latin typeface="Times New Roman"/>
              </a:rPr>
              <a:t>De ijkserie (6)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graphicFrame>
        <p:nvGraphicFramePr>
          <p:cNvPr id="1077" name=""/>
          <p:cNvGraphicFramePr/>
          <p:nvPr/>
        </p:nvGraphicFramePr>
        <p:xfrm>
          <a:off x="0" y="1125360"/>
          <a:ext cx="5067360" cy="312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25360"/>
                    <a:ext cx="506736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79" name=""/>
          <p:cNvGrpSpPr/>
          <p:nvPr/>
        </p:nvGrpSpPr>
        <p:grpSpPr>
          <a:xfrm>
            <a:off x="1081440" y="2060280"/>
            <a:ext cx="3129840" cy="1542240"/>
            <a:chOff x="1081440" y="2060280"/>
            <a:chExt cx="3129840" cy="1542240"/>
          </a:xfrm>
        </p:grpSpPr>
        <p:grpSp>
          <p:nvGrpSpPr>
            <p:cNvPr id="1080" name=""/>
            <p:cNvGrpSpPr/>
            <p:nvPr/>
          </p:nvGrpSpPr>
          <p:grpSpPr>
            <a:xfrm>
              <a:off x="1984320" y="2060280"/>
              <a:ext cx="1187280" cy="838080"/>
              <a:chOff x="1984320" y="2060280"/>
              <a:chExt cx="1187280" cy="838080"/>
            </a:xfrm>
          </p:grpSpPr>
          <p:sp>
            <p:nvSpPr>
              <p:cNvPr id="1081" name=""/>
              <p:cNvSpPr/>
              <p:nvPr/>
            </p:nvSpPr>
            <p:spPr>
              <a:xfrm flipV="1">
                <a:off x="1984320" y="2161800"/>
                <a:ext cx="360" cy="73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1993680" y="2161800"/>
                <a:ext cx="104760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3041640" y="2161800"/>
                <a:ext cx="360" cy="73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flipH="1">
                <a:off x="1984320" y="2896560"/>
                <a:ext cx="10483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104920" y="2060640"/>
                <a:ext cx="10483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3153240" y="2060640"/>
                <a:ext cx="360" cy="71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flipV="1">
                <a:off x="1984320" y="2060280"/>
                <a:ext cx="129960" cy="10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flipV="1">
                <a:off x="3032640" y="2060640"/>
                <a:ext cx="13896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 flipV="1">
                <a:off x="3023280" y="2779200"/>
                <a:ext cx="129960" cy="11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 flipH="1">
                <a:off x="311544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flipH="1">
                <a:off x="304128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flipH="1">
                <a:off x="296676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flipH="1">
                <a:off x="2893680" y="275400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H="1">
                <a:off x="2819160" y="275400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H="1">
                <a:off x="2745000" y="275400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H="1">
                <a:off x="2670840" y="275400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flipH="1">
                <a:off x="2596680" y="275400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flipH="1">
                <a:off x="2522160" y="2754000"/>
                <a:ext cx="36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flipH="1">
                <a:off x="244764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 flipH="1">
                <a:off x="237348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flipH="1">
                <a:off x="229932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flipH="1">
                <a:off x="222516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flipH="1">
                <a:off x="2150640" y="275400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H="1">
                <a:off x="2104920" y="2754000"/>
                <a:ext cx="9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2142000" y="2060640"/>
                <a:ext cx="36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2142000" y="2161800"/>
                <a:ext cx="36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2142000" y="2265840"/>
                <a:ext cx="36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2142000" y="2369520"/>
                <a:ext cx="360" cy="4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2142000" y="2471040"/>
                <a:ext cx="36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2142000" y="2574720"/>
                <a:ext cx="360" cy="5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2142000" y="2678040"/>
                <a:ext cx="360" cy="4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flipH="1">
                <a:off x="2113920" y="2754000"/>
                <a:ext cx="27720" cy="2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flipH="1">
                <a:off x="2049120" y="2805480"/>
                <a:ext cx="27000" cy="2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flipH="1">
                <a:off x="1993320" y="2870640"/>
                <a:ext cx="27720" cy="2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115" name=""/>
            <p:cNvSpPr/>
            <p:nvPr/>
          </p:nvSpPr>
          <p:spPr>
            <a:xfrm>
              <a:off x="1081440" y="2898720"/>
              <a:ext cx="3129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DomCasual BT"/>
                </a:rPr>
                <a:t>Meetcel met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DomCasual BT"/>
                </a:rPr>
                <a:t>250 gram suiker per liter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aphicFrame>
        <p:nvGraphicFramePr>
          <p:cNvPr id="1116" name=""/>
          <p:cNvGraphicFramePr/>
          <p:nvPr/>
        </p:nvGraphicFramePr>
        <p:xfrm>
          <a:off x="-228600" y="3581280"/>
          <a:ext cx="4710240" cy="19749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11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228600" y="3581280"/>
                    <a:ext cx="4710240" cy="19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8" name=""/>
          <p:cNvSpPr/>
          <p:nvPr/>
        </p:nvSpPr>
        <p:spPr>
          <a:xfrm>
            <a:off x="4952880" y="2133720"/>
            <a:ext cx="41911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25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 meetcel met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250 gram suiker per liter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wordt in de lichtweg geplaatst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draaiingshoek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wordt gemeten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ze bedraagt: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25,4 º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meetwaarde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wordt genoteerd in de tabel en in het diagram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119" name=""/>
          <p:cNvGrpSpPr/>
          <p:nvPr/>
        </p:nvGrpSpPr>
        <p:grpSpPr>
          <a:xfrm>
            <a:off x="5562720" y="155520"/>
            <a:ext cx="3580920" cy="1474920"/>
            <a:chOff x="5562720" y="155520"/>
            <a:chExt cx="3580920" cy="1474920"/>
          </a:xfrm>
        </p:grpSpPr>
        <p:graphicFrame>
          <p:nvGraphicFramePr>
            <p:cNvPr id="1120" name=""/>
            <p:cNvGraphicFramePr/>
            <p:nvPr/>
          </p:nvGraphicFramePr>
          <p:xfrm>
            <a:off x="7526880" y="155520"/>
            <a:ext cx="1616760" cy="146340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121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526880" y="155520"/>
                      <a:ext cx="1616760" cy="146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2" name=""/>
            <p:cNvGraphicFramePr/>
            <p:nvPr/>
          </p:nvGraphicFramePr>
          <p:xfrm>
            <a:off x="5562720" y="155520"/>
            <a:ext cx="1620000" cy="14749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123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562720" y="155520"/>
                      <a:ext cx="1620000" cy="147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768" dur="indefinite" restart="never" nodeType="tmRoot">
          <p:childTnLst>
            <p:seq>
              <p:cTn id="1769" dur="indefinite" nodeType="mainSeq">
                <p:childTnLst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6" fill="hold">
                      <p:stCondLst>
                        <p:cond delay="indefinite"/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0" dur="500"/>
                                        <p:tgtEl>
                                          <p:spTgt spid="1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5" dur="500"/>
                                        <p:tgtEl>
                                          <p:spTgt spid="1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0" dur="500"/>
                                        <p:tgtEl>
                                          <p:spTgt spid="1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5" dur="500"/>
                                        <p:tgtEl>
                                          <p:spTgt spid="1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0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5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4" name="" descr=""/>
          <p:cNvPicPr/>
          <p:nvPr/>
        </p:nvPicPr>
        <p:blipFill>
          <a:blip r:embed="rId1"/>
          <a:stretch/>
        </p:blipFill>
        <p:spPr>
          <a:xfrm>
            <a:off x="1752480" y="2479680"/>
            <a:ext cx="7391520" cy="4378320"/>
          </a:xfrm>
          <a:prstGeom prst="rect">
            <a:avLst/>
          </a:prstGeom>
          <a:ln w="0">
            <a:noFill/>
          </a:ln>
        </p:spPr>
      </p:pic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800000"/>
                </a:solidFill>
                <a:latin typeface="Times New Roman"/>
              </a:rPr>
              <a:t>Het suikergehalte</a:t>
            </a:r>
            <a:br>
              <a:rPr sz="4400"/>
            </a:br>
            <a:r>
              <a:rPr b="0" lang="nl-NL" sz="2400" spc="-1" strike="noStrike">
                <a:solidFill>
                  <a:srgbClr val="003366"/>
                </a:solidFill>
                <a:latin typeface="Times New Roman"/>
              </a:rPr>
              <a:t>De ijkserie (7)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pic>
        <p:nvPicPr>
          <p:cNvPr id="1126" name="" descr=""/>
          <p:cNvPicPr/>
          <p:nvPr/>
        </p:nvPicPr>
        <p:blipFill>
          <a:blip r:embed="rId2"/>
          <a:stretch/>
        </p:blipFill>
        <p:spPr>
          <a:xfrm>
            <a:off x="1752480" y="2478240"/>
            <a:ext cx="7391520" cy="4379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7" name=""/>
          <p:cNvGraphicFramePr/>
          <p:nvPr/>
        </p:nvGraphicFramePr>
        <p:xfrm>
          <a:off x="-228600" y="2895480"/>
          <a:ext cx="4710240" cy="1974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228600" y="2895480"/>
                    <a:ext cx="4710240" cy="19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9" name=""/>
          <p:cNvSpPr/>
          <p:nvPr/>
        </p:nvSpPr>
        <p:spPr>
          <a:xfrm>
            <a:off x="900000" y="1989000"/>
            <a:ext cx="73850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25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Er wordt </a:t>
            </a: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een rechte lijn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 ‘langs’ de meetpunten getrokken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De meetpunten moeten </a:t>
            </a: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zo dicht mogelijk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 bij de lijn liggen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130" name=""/>
          <p:cNvGrpSpPr/>
          <p:nvPr/>
        </p:nvGrpSpPr>
        <p:grpSpPr>
          <a:xfrm>
            <a:off x="5562720" y="155520"/>
            <a:ext cx="3580920" cy="1474920"/>
            <a:chOff x="5562720" y="155520"/>
            <a:chExt cx="3580920" cy="1474920"/>
          </a:xfrm>
        </p:grpSpPr>
        <p:graphicFrame>
          <p:nvGraphicFramePr>
            <p:cNvPr id="1131" name=""/>
            <p:cNvGraphicFramePr/>
            <p:nvPr/>
          </p:nvGraphicFramePr>
          <p:xfrm>
            <a:off x="7526880" y="155520"/>
            <a:ext cx="1616760" cy="1463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13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26880" y="155520"/>
                      <a:ext cx="1616760" cy="146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33" name=""/>
            <p:cNvGraphicFramePr/>
            <p:nvPr/>
          </p:nvGraphicFramePr>
          <p:xfrm>
            <a:off x="5562720" y="155520"/>
            <a:ext cx="1620000" cy="1474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3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5562720" y="155520"/>
                      <a:ext cx="1620000" cy="147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dissolve/>
  </p:transition>
  <p:timing>
    <p:tnLst>
      <p:par>
        <p:cTn id="1806" dur="indefinite" restart="never" nodeType="tmRoot">
          <p:childTnLst>
            <p:seq>
              <p:cTn id="1807" dur="indefinite" nodeType="mainSeq">
                <p:childTnLst>
                  <p:par>
                    <p:cTn id="1808" fill="hold">
                      <p:stCondLst>
                        <p:cond delay="indefinite"/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2" dur="500"/>
                                        <p:tgtEl>
                                          <p:spTgt spid="1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fill="hold">
                      <p:stCondLst>
                        <p:cond delay="indefinite"/>
                      </p:stCondLst>
                      <p:childTnLst>
                        <p:par>
                          <p:cTn id="1814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7" dur="500"/>
                                        <p:tgtEl>
                                          <p:spTgt spid="1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fill="hold">
                      <p:stCondLst>
                        <p:cond delay="indefinite"/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2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5" name="" descr=""/>
          <p:cNvPicPr/>
          <p:nvPr/>
        </p:nvPicPr>
        <p:blipFill>
          <a:blip r:embed="rId1"/>
          <a:stretch/>
        </p:blipFill>
        <p:spPr>
          <a:xfrm>
            <a:off x="1752480" y="3243240"/>
            <a:ext cx="6100920" cy="3614760"/>
          </a:xfrm>
          <a:prstGeom prst="rect">
            <a:avLst/>
          </a:prstGeom>
          <a:ln w="0">
            <a:noFill/>
          </a:ln>
        </p:spPr>
      </p:pic>
      <p:pic>
        <p:nvPicPr>
          <p:cNvPr id="1136" name="" descr=""/>
          <p:cNvPicPr/>
          <p:nvPr/>
        </p:nvPicPr>
        <p:blipFill>
          <a:blip r:embed="rId2"/>
          <a:stretch/>
        </p:blipFill>
        <p:spPr>
          <a:xfrm>
            <a:off x="1752480" y="3246480"/>
            <a:ext cx="6096240" cy="3611520"/>
          </a:xfrm>
          <a:prstGeom prst="rect">
            <a:avLst/>
          </a:prstGeom>
          <a:ln w="0">
            <a:noFill/>
          </a:ln>
        </p:spPr>
      </p:pic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Het suikergehalte</a:t>
            </a:r>
            <a:br>
              <a:rPr sz="4400"/>
            </a:b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7-Up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graphicFrame>
        <p:nvGraphicFramePr>
          <p:cNvPr id="1138" name=""/>
          <p:cNvGraphicFramePr/>
          <p:nvPr/>
        </p:nvGraphicFramePr>
        <p:xfrm>
          <a:off x="0" y="1125360"/>
          <a:ext cx="5067360" cy="312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125360"/>
                    <a:ext cx="506736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40" name=""/>
          <p:cNvGrpSpPr/>
          <p:nvPr/>
        </p:nvGrpSpPr>
        <p:grpSpPr>
          <a:xfrm>
            <a:off x="1741320" y="1988640"/>
            <a:ext cx="1657440" cy="1542600"/>
            <a:chOff x="1741320" y="1988640"/>
            <a:chExt cx="1657440" cy="1542600"/>
          </a:xfrm>
        </p:grpSpPr>
        <p:grpSp>
          <p:nvGrpSpPr>
            <p:cNvPr id="1141" name=""/>
            <p:cNvGrpSpPr/>
            <p:nvPr/>
          </p:nvGrpSpPr>
          <p:grpSpPr>
            <a:xfrm>
              <a:off x="1908000" y="1988640"/>
              <a:ext cx="1187280" cy="838440"/>
              <a:chOff x="1908000" y="1988640"/>
              <a:chExt cx="1187280" cy="838440"/>
            </a:xfrm>
          </p:grpSpPr>
          <p:sp>
            <p:nvSpPr>
              <p:cNvPr id="1142" name=""/>
              <p:cNvSpPr/>
              <p:nvPr/>
            </p:nvSpPr>
            <p:spPr>
              <a:xfrm flipV="1">
                <a:off x="1908000" y="2089800"/>
                <a:ext cx="360" cy="73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1917360" y="2090160"/>
                <a:ext cx="104760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2965320" y="2090160"/>
                <a:ext cx="360" cy="73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 flipH="1">
                <a:off x="1908000" y="2825280"/>
                <a:ext cx="10483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2028600" y="1989000"/>
                <a:ext cx="10483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3076920" y="1989000"/>
                <a:ext cx="360" cy="71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V="1">
                <a:off x="1908000" y="1988640"/>
                <a:ext cx="129960" cy="10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flipV="1">
                <a:off x="2956320" y="1989000"/>
                <a:ext cx="138960" cy="11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 flipV="1">
                <a:off x="2946960" y="2707560"/>
                <a:ext cx="129960" cy="11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 flipH="1">
                <a:off x="3039120" y="268272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flipH="1">
                <a:off x="2964960" y="268272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>
                <a:off x="2890440" y="268272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 flipH="1">
                <a:off x="2817360" y="268272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flipH="1">
                <a:off x="2742840" y="268272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flipH="1">
                <a:off x="2668680" y="268272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flipH="1">
                <a:off x="2594520" y="268272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 flipH="1">
                <a:off x="2520360" y="268272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 flipH="1">
                <a:off x="2445840" y="2682720"/>
                <a:ext cx="36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 flipH="1">
                <a:off x="2371320" y="268272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flipH="1">
                <a:off x="2297160" y="268272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flipH="1">
                <a:off x="2223000" y="268272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 flipH="1">
                <a:off x="2148840" y="268272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H="1">
                <a:off x="2074320" y="2682720"/>
                <a:ext cx="370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flipH="1">
                <a:off x="2028600" y="2682720"/>
                <a:ext cx="9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2065680" y="1989000"/>
                <a:ext cx="36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2065680" y="2090160"/>
                <a:ext cx="36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2065680" y="2194200"/>
                <a:ext cx="36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2065680" y="2297880"/>
                <a:ext cx="360" cy="4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2065680" y="2399400"/>
                <a:ext cx="360" cy="5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2065680" y="2503440"/>
                <a:ext cx="360" cy="5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2065680" y="2606760"/>
                <a:ext cx="360" cy="4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flipH="1">
                <a:off x="2037600" y="2682720"/>
                <a:ext cx="27720" cy="2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 flipH="1">
                <a:off x="1972800" y="2734200"/>
                <a:ext cx="27000" cy="2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 flipH="1">
                <a:off x="1917000" y="2799360"/>
                <a:ext cx="27720" cy="2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1176" name=""/>
            <p:cNvSpPr/>
            <p:nvPr/>
          </p:nvSpPr>
          <p:spPr>
            <a:xfrm>
              <a:off x="1741320" y="2827440"/>
              <a:ext cx="1657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DomCasual BT"/>
                </a:rPr>
                <a:t>Meetcel met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66"/>
                  </a:solidFill>
                  <a:latin typeface="DomCasual BT"/>
                </a:rPr>
                <a:t>7-Up</a:t>
              </a:r>
              <a:endParaRPr b="0" lang="en-US" sz="20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1177" name=""/>
          <p:cNvSpPr/>
          <p:nvPr/>
        </p:nvSpPr>
        <p:spPr>
          <a:xfrm>
            <a:off x="4952880" y="2205000"/>
            <a:ext cx="419112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25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 meetcel met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7-Up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wordt in de lichtweg geplaatst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draaiingshoek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wordt gemeten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ze bedraagt: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11,8 º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125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ze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waarde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 wordt in de tabel genoteerd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952880" y="5181480"/>
            <a:ext cx="41911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25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De ijklijn wordt gebruikt om het suikergehalte </a:t>
            </a:r>
            <a:r>
              <a:rPr b="1" i="1" lang="nl-NL" sz="2000" spc="-1" strike="noStrike">
                <a:solidFill>
                  <a:srgbClr val="003366"/>
                </a:solidFill>
                <a:latin typeface="Times New Roman"/>
              </a:rPr>
              <a:t>af te lezen</a:t>
            </a:r>
            <a:r>
              <a:rPr b="0" lang="nl-NL" sz="20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4952880" y="5877000"/>
            <a:ext cx="4191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250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Deze bedraagt </a:t>
            </a: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116 g/L</a:t>
            </a: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180" name=""/>
          <p:cNvGraphicFramePr/>
          <p:nvPr/>
        </p:nvGraphicFramePr>
        <p:xfrm>
          <a:off x="-228600" y="3581280"/>
          <a:ext cx="4648320" cy="30099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-228600" y="3581280"/>
                    <a:ext cx="4648320" cy="30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82" name=""/>
          <p:cNvGrpSpPr/>
          <p:nvPr/>
        </p:nvGrpSpPr>
        <p:grpSpPr>
          <a:xfrm>
            <a:off x="5562720" y="155520"/>
            <a:ext cx="3580920" cy="1474920"/>
            <a:chOff x="5562720" y="155520"/>
            <a:chExt cx="3580920" cy="1474920"/>
          </a:xfrm>
        </p:grpSpPr>
        <p:graphicFrame>
          <p:nvGraphicFramePr>
            <p:cNvPr id="1183" name=""/>
            <p:cNvGraphicFramePr/>
            <p:nvPr/>
          </p:nvGraphicFramePr>
          <p:xfrm>
            <a:off x="7526880" y="155520"/>
            <a:ext cx="1616760" cy="1463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18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26880" y="155520"/>
                      <a:ext cx="1616760" cy="146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85" name=""/>
            <p:cNvGraphicFramePr/>
            <p:nvPr/>
          </p:nvGraphicFramePr>
          <p:xfrm>
            <a:off x="5562720" y="155520"/>
            <a:ext cx="1620000" cy="14749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18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562720" y="155520"/>
                      <a:ext cx="1620000" cy="147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823" dur="indefinite" restart="never" nodeType="tmRoot">
          <p:childTnLst>
            <p:seq>
              <p:cTn id="1824" dur="indefinite" nodeType="mainSeq">
                <p:childTnLst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5" dur="500"/>
                                        <p:tgtEl>
                                          <p:spTgt spid="1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6" fill="hold">
                      <p:stCondLst>
                        <p:cond delay="indefinite"/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0" dur="500"/>
                                        <p:tgtEl>
                                          <p:spTgt spid="1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5" dur="500"/>
                                        <p:tgtEl>
                                          <p:spTgt spid="1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fill="hold">
                      <p:stCondLst>
                        <p:cond delay="indefinite"/>
                      </p:stCondLst>
                      <p:childTnLst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0" dur="500"/>
                                        <p:tgtEl>
                                          <p:spTgt spid="1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5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6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fill="hold">
                      <p:stCondLst>
                        <p:cond delay="indefinite"/>
                      </p:stCondLst>
                      <p:childTnLst>
                        <p:par>
                          <p:cTn id="1858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1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6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1" dur="5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00000"/>
                </a:solidFill>
                <a:latin typeface="Times New Roman"/>
              </a:rPr>
              <a:t>Einde</a:t>
            </a:r>
            <a:endParaRPr b="0" lang="en-US" sz="8000" spc="-1" strike="noStrike">
              <a:solidFill>
                <a:srgbClr val="800000"/>
              </a:solidFill>
              <a:latin typeface="Times New Roman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1752480" y="3814920"/>
            <a:ext cx="6553440" cy="2884320"/>
            <a:chOff x="1752480" y="3814920"/>
            <a:chExt cx="6553440" cy="2884320"/>
          </a:xfrm>
        </p:grpSpPr>
        <p:graphicFrame>
          <p:nvGraphicFramePr>
            <p:cNvPr id="1189" name=""/>
            <p:cNvGraphicFramePr/>
            <p:nvPr/>
          </p:nvGraphicFramePr>
          <p:xfrm>
            <a:off x="5410080" y="3821040"/>
            <a:ext cx="2895840" cy="2868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410080" y="3821040"/>
                      <a:ext cx="2895840" cy="2868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91" name=""/>
            <p:cNvGraphicFramePr/>
            <p:nvPr/>
          </p:nvGraphicFramePr>
          <p:xfrm>
            <a:off x="1752480" y="3814920"/>
            <a:ext cx="2895840" cy="2884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19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752480" y="3814920"/>
                      <a:ext cx="2895840" cy="2884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dissolve/>
  </p:transition>
  <p:timing>
    <p:tnLst>
      <p:par>
        <p:cTn id="1872" dur="indefinite" restart="never" nodeType="tmRoot">
          <p:childTnLst>
            <p:seq>
              <p:cTn id="1873" dur="indefinite" nodeType="mainSeq">
                <p:childTnLst>
                  <p:par>
                    <p:cTn id="1874" fill="hold">
                      <p:stCondLst>
                        <p:cond delay="indefinite"/>
                      </p:stCondLst>
                      <p:childTnLst>
                        <p:par>
                          <p:cTn id="1875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8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3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onstitutie-isomeren 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6300720" y="0"/>
            <a:ext cx="2513160" cy="173988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826920" y="2421000"/>
            <a:ext cx="5761080" cy="39891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838080" y="2349360"/>
            <a:ext cx="5894640" cy="37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efinitie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Constitutie-isomeren zijn isomeren met een andere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atoomvolgorde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 in de molecul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900000" y="4365720"/>
            <a:ext cx="2192400" cy="22320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4"/>
          <a:stretch/>
        </p:blipFill>
        <p:spPr>
          <a:xfrm>
            <a:off x="3132000" y="4365720"/>
            <a:ext cx="2289240" cy="22622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Stereo-isomeren 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38080" y="2349360"/>
            <a:ext cx="5894640" cy="37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efinitie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Constitutie-isomeren zijn isomeren met een andere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atoomvolgorde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 in de molecul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900000" y="4365720"/>
            <a:ext cx="2192400" cy="223200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3132000" y="4365720"/>
            <a:ext cx="2289240" cy="226224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3"/>
          <a:stretch/>
        </p:blipFill>
        <p:spPr>
          <a:xfrm>
            <a:off x="6300720" y="0"/>
            <a:ext cx="2514600" cy="174132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900000" y="2492280"/>
            <a:ext cx="5759640" cy="398952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1042920" y="2421000"/>
            <a:ext cx="5894280" cy="37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efinitie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Stereo-isomeren zijn isomeren met een dezelfde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atoomvolgorde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 in de moleculen, maar </a:t>
            </a:r>
            <a:r>
              <a:rPr b="1" i="1" lang="en-US" sz="2400" spc="-1" strike="noStrike">
                <a:solidFill>
                  <a:srgbClr val="003366"/>
                </a:solidFill>
                <a:latin typeface="Times New Roman"/>
              </a:rPr>
              <a:t>ruimtelijk</a:t>
            </a: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 anders georiënteerd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5"/>
          <a:stretch/>
        </p:blipFill>
        <p:spPr>
          <a:xfrm>
            <a:off x="971640" y="4581360"/>
            <a:ext cx="1957320" cy="1919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6"/>
          <a:stretch/>
        </p:blipFill>
        <p:spPr>
          <a:xfrm>
            <a:off x="3492360" y="4653000"/>
            <a:ext cx="2138400" cy="1828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38080" y="2798640"/>
            <a:ext cx="3902040" cy="270216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6300720" y="0"/>
            <a:ext cx="2513160" cy="17398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38080" y="2349360"/>
            <a:ext cx="5894640" cy="37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ype A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Verschillend koolstofskele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3"/>
          <a:stretch/>
        </p:blipFill>
        <p:spPr>
          <a:xfrm>
            <a:off x="1403280" y="3500280"/>
            <a:ext cx="5235480" cy="196848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onstitutie-isomeren </a:t>
            </a:r>
            <a:br>
              <a:rPr sz="4400"/>
            </a:b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orten 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900000" y="981000"/>
            <a:ext cx="468360" cy="393840"/>
          </a:xfrm>
          <a:custGeom>
            <a:avLst/>
            <a:gdLst>
              <a:gd name="textAreaLeft" fmla="*/ 25200 w 468360"/>
              <a:gd name="textAreaRight" fmla="*/ 443160 w 468360"/>
              <a:gd name="textAreaTop" fmla="*/ 25200 h 393840"/>
              <a:gd name="textAreaBottom" fmla="*/ 368640 h 393840"/>
            </a:gdLst>
            <a:ahLst/>
            <a:rect l="textAreaLeft" t="textAreaTop" r="textAreaRight" b="textAreaBottom"/>
            <a:pathLst>
              <a:path w="25683" h="21600">
                <a:moveTo>
                  <a:pt x="0" y="0"/>
                </a:moveTo>
                <a:lnTo>
                  <a:pt x="25683" y="0"/>
                </a:lnTo>
                <a:lnTo>
                  <a:pt x="25683" y="21600"/>
                </a:lnTo>
                <a:lnTo>
                  <a:pt x="0" y="21600"/>
                </a:lnTo>
                <a:close/>
              </a:path>
              <a:path fill="lightenLess" w="25683" h="21600">
                <a:moveTo>
                  <a:pt x="0" y="0"/>
                </a:moveTo>
                <a:lnTo>
                  <a:pt x="25683" y="0"/>
                </a:lnTo>
                <a:lnTo>
                  <a:pt x="24283" y="1400"/>
                </a:lnTo>
                <a:lnTo>
                  <a:pt x="1400" y="1400"/>
                </a:lnTo>
                <a:close/>
              </a:path>
              <a:path fill="darken" w="25683" h="21600">
                <a:moveTo>
                  <a:pt x="25683" y="0"/>
                </a:moveTo>
                <a:lnTo>
                  <a:pt x="25683" y="21600"/>
                </a:lnTo>
                <a:lnTo>
                  <a:pt x="24283" y="20200"/>
                </a:lnTo>
                <a:lnTo>
                  <a:pt x="24283" y="1400"/>
                </a:lnTo>
                <a:close/>
              </a:path>
              <a:path fill="darkenLess" w="25683" h="21600">
                <a:moveTo>
                  <a:pt x="25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83" y="20200"/>
                </a:lnTo>
                <a:close/>
              </a:path>
              <a:path fill="lighten" w="25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83" h="21600">
                <a:moveTo>
                  <a:pt x="5835" y="7301"/>
                </a:moveTo>
                <a:lnTo>
                  <a:pt x="6749" y="7301"/>
                </a:lnTo>
                <a:lnTo>
                  <a:pt x="7132" y="7667"/>
                </a:lnTo>
                <a:lnTo>
                  <a:pt x="16341" y="7667"/>
                </a:lnTo>
                <a:lnTo>
                  <a:pt x="16898" y="8224"/>
                </a:lnTo>
                <a:lnTo>
                  <a:pt x="16898" y="8772"/>
                </a:lnTo>
                <a:lnTo>
                  <a:pt x="18743" y="8772"/>
                </a:lnTo>
                <a:lnTo>
                  <a:pt x="19108" y="8224"/>
                </a:lnTo>
                <a:lnTo>
                  <a:pt x="19848" y="8224"/>
                </a:lnTo>
                <a:lnTo>
                  <a:pt x="19848" y="13376"/>
                </a:lnTo>
                <a:lnTo>
                  <a:pt x="19108" y="13376"/>
                </a:lnTo>
                <a:lnTo>
                  <a:pt x="18743" y="12828"/>
                </a:lnTo>
                <a:lnTo>
                  <a:pt x="16898" y="12828"/>
                </a:lnTo>
                <a:lnTo>
                  <a:pt x="16898" y="14107"/>
                </a:lnTo>
                <a:lnTo>
                  <a:pt x="7315" y="14107"/>
                </a:lnTo>
                <a:lnTo>
                  <a:pt x="7315" y="9877"/>
                </a:lnTo>
                <a:lnTo>
                  <a:pt x="7132" y="9877"/>
                </a:lnTo>
                <a:lnTo>
                  <a:pt x="6749" y="10243"/>
                </a:lnTo>
                <a:lnTo>
                  <a:pt x="5835" y="10243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38080" y="2798640"/>
            <a:ext cx="3902040" cy="27021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6300720" y="0"/>
            <a:ext cx="2513160" cy="173988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8080" y="2349360"/>
            <a:ext cx="5894640" cy="37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ype B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Verschillende karakteristieke groepe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3"/>
          <a:stretch/>
        </p:blipFill>
        <p:spPr>
          <a:xfrm>
            <a:off x="1403280" y="3500280"/>
            <a:ext cx="5232600" cy="16956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onstitutie-isomeren </a:t>
            </a:r>
            <a:br>
              <a:rPr sz="4400"/>
            </a:b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oorten 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2T19:01:07Z</dcterms:created>
  <dc:creator>Martien van Bergen</dc:creator>
  <dc:description/>
  <dc:language>en-US</dc:language>
  <cp:lastModifiedBy>M. van Bergen</cp:lastModifiedBy>
  <dcterms:modified xsi:type="dcterms:W3CDTF">2006-05-30T10:14:31Z</dcterms:modified>
  <cp:revision>48</cp:revision>
  <dc:subject/>
  <dc:title>Isomerie</dc:title>
</cp:coreProperties>
</file>