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docx" ContentType="application/vnd.openxmlformats-officedocument.wordprocessingml.documen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media/image27.wmf" ContentType="image/x-wm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13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26.png" ContentType="image/png"/>
  <Override PartName="/ppt/media/image11.wmf" ContentType="image/x-wmf"/>
  <Override PartName="/ppt/media/image4.png" ContentType="image/png"/>
  <Override PartName="/ppt/media/image12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3.wmf" ContentType="image/x-wmf"/>
  <Override PartName="/ppt/media/image29.png" ContentType="image/png"/>
  <Override PartName="/ppt/media/image2.wmf" ContentType="image/x-wmf"/>
  <Override PartName="/ppt/media/image25.wmf" ContentType="image/x-wmf"/>
  <Override PartName="/ppt/media/image1.png" ContentType="image/png"/>
  <Override PartName="/ppt/media/image24.png" ContentType="image/png"/>
  <Override PartName="/ppt/media/image14.jpeg" ContentType="image/jpeg"/>
  <Override PartName="/ppt/media/image16.wmf" ContentType="image/x-wmf"/>
  <Override PartName="/ppt/media/image15.png" ContentType="image/png"/>
  <Override PartName="/ppt/media/image19.wmf" ContentType="image/x-wmf"/>
  <Override PartName="/ppt/media/image18.png" ContentType="image/png"/>
  <Override PartName="/ppt/media/image21.wmf" ContentType="image/x-wmf"/>
  <Override PartName="/ppt/media/image22.png" ContentType="image/png"/>
  <Override PartName="/ppt/media/image2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B5D9-54C6-41BC-B4A4-3D8E67307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FFB-6D5F-4AEC-A97B-3502A420E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1D76-460C-48BA-AAAA-42D34D592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06E4-23B2-4BA6-B05C-25A9948EB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32B24-9DA6-4E8B-BD77-DB6EE34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3AE4-3CBF-43E9-852B-7E1F41517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C2D4-6AE2-4265-BFB6-DDC7A8E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FE5-6061-4806-8A1B-265B9E09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AB13-640E-4633-9548-781AD820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80A6-3A7D-4BC2-BBFE-4B7B7EDE9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3435-2010-427F-AB4E-F8167205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35A3-EB9D-4B7D-B779-9975C94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F0B1-E339-43D3-9177-24B51E907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EE1E-9CBF-4947-A43B-B10CDC48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D5939-838A-4B4A-8F62-67C41EB96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E829-B7FE-499C-A7FD-017D19579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3E2D1-1075-4D82-B5CE-34509FEA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D9EB-FDB8-4B0B-A5B0-599089A80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C87-9AC7-4429-8F4E-DCDEB74A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4045-B892-4C27-AEA6-1AA3C8E5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ABE6-C394-4BEE-8B21-EC043496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7E13-8517-4BD2-94DA-10D0CBBC4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4F17-0C52-4AEB-82BA-B534758C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B79D-F1E9-436B-8452-3FC8E81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3808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34A41-94FA-4A5C-9105-2276EDE9192C}" type="slidenum"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69080" y="2590920"/>
          <a:ext cx="23749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2590920"/>
                    <a:ext cx="2374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9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6068-1BAA-4D9A-BAD9-205D88107C8D}" type="slidenum"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800000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contextchemie.nl/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8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2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png"/><Relationship Id="rId6" Type="http://schemas.openxmlformats.org/officeDocument/2006/relationships/hyperlink" Target="http://lectureonline.cl.msu.edu/~mmp/kap24/polarizers/Polarizer.htm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hyperlink" Target="http://lectureonline.cl.msu.edu/~mmp/kap24/polarizers/Polarizer.htm" TargetMode="External"/><Relationship Id="rId4" Type="http://schemas.openxmlformats.org/officeDocument/2006/relationships/hyperlink" Target="http://lectureonline.cl.msu.edu/~mmp/kap24/polarizers/Polarizer.htm" TargetMode="External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hyperlink" Target="http://lectureonline.cl.msu.edu/~mmp/kap24/polarizers/Polarizer.htm" TargetMode="External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7559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en stofeigenschap waari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spiegelbeeld-isomere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van elkaar verschill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5410080" y="3821040"/>
          <a:ext cx="2895840" cy="28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821040"/>
                    <a:ext cx="289584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1752480" y="3814920"/>
          <a:ext cx="2895840" cy="28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14920"/>
                    <a:ext cx="28958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5540400" y="0"/>
            <a:ext cx="3603600" cy="22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2457360"/>
            <a:ext cx="5481720" cy="37958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923760" y="2001960"/>
            <a:ext cx="79725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oen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pgaven 18 &amp; 1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oer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xperiment ‘leermoment 8’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u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nl-NL" sz="2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‘Zoetstoffen’ 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Bekijk de site over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aspartaam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als herhalingsopdrach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pgaven &amp; modellenpracticum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42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2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2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800000"/>
                </a:solidFill>
                <a:latin typeface="Times New Roman"/>
              </a:rPr>
              <a:t>Polarimetrie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033560" y="245232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e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meetmethod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die gebruik maakt van de optische activiteit van stoff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2351160" y="3657600"/>
            <a:ext cx="479880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Gehaltebepaling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an optisch actieve stoffen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e meetmethode die gebruik maakt van de optische activiteit van stoffen wordt ‘</a:t>
            </a:r>
            <a:r>
              <a:rPr b="1" i="1" lang="nl-NL" sz="3200" spc="-1" strike="noStrike">
                <a:solidFill>
                  <a:srgbClr val="800000"/>
                </a:solidFill>
                <a:latin typeface="Times New Roman"/>
              </a:rPr>
              <a:t>polarimetrie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’ genoem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ee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de draaiiingshoek van een oplossing met een optisch actieve stof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ergelij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deze met de draaiingshoeken van een ijkserie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suikergehalte van 7-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5562720" y="5105520"/>
            <a:ext cx="3580920" cy="1474560"/>
            <a:chOff x="5562720" y="5105520"/>
            <a:chExt cx="3580920" cy="1474560"/>
          </a:xfrm>
        </p:grpSpPr>
        <p:graphicFrame>
          <p:nvGraphicFramePr>
            <p:cNvPr id="430" name=""/>
            <p:cNvGraphicFramePr/>
            <p:nvPr/>
          </p:nvGraphicFramePr>
          <p:xfrm>
            <a:off x="7526880" y="5105520"/>
            <a:ext cx="1616760" cy="146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880" y="5105520"/>
                      <a:ext cx="1616760" cy="146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2" name=""/>
            <p:cNvGraphicFramePr/>
            <p:nvPr/>
          </p:nvGraphicFramePr>
          <p:xfrm>
            <a:off x="5562720" y="5105520"/>
            <a:ext cx="1620000" cy="147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105520"/>
                      <a:ext cx="1620000" cy="14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34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435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43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7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4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4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3" name=""/>
          <p:cNvGrpSpPr/>
          <p:nvPr/>
        </p:nvGrpSpPr>
        <p:grpSpPr>
          <a:xfrm>
            <a:off x="1193040" y="2060280"/>
            <a:ext cx="2837160" cy="1542240"/>
            <a:chOff x="1193040" y="2060280"/>
            <a:chExt cx="2837160" cy="1542240"/>
          </a:xfrm>
        </p:grpSpPr>
        <p:grpSp>
          <p:nvGrpSpPr>
            <p:cNvPr id="444" name=""/>
            <p:cNvGrpSpPr/>
            <p:nvPr/>
          </p:nvGrpSpPr>
          <p:grpSpPr>
            <a:xfrm>
              <a:off x="1945800" y="2060280"/>
              <a:ext cx="1187280" cy="838080"/>
              <a:chOff x="1945800" y="2060280"/>
              <a:chExt cx="1187280" cy="838080"/>
            </a:xfrm>
          </p:grpSpPr>
          <p:sp>
            <p:nvSpPr>
              <p:cNvPr id="445" name=""/>
              <p:cNvSpPr/>
              <p:nvPr/>
            </p:nvSpPr>
            <p:spPr>
              <a:xfrm flipV="1">
                <a:off x="194616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955520" y="2161800"/>
                <a:ext cx="1047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031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1945800" y="2896560"/>
                <a:ext cx="1047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066400" y="2060640"/>
                <a:ext cx="1047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11472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194616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299412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298476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H="1">
                <a:off x="30769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3002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9286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2855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H="1">
                <a:off x="27810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27068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26323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558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>
                <a:off x="248364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409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3353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261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186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2112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206640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10384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10384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0384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384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10384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210384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210384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07576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01096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H="1">
                <a:off x="195516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1193040" y="2898720"/>
              <a:ext cx="28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480" name=""/>
          <p:cNvGraphicFramePr/>
          <p:nvPr/>
        </p:nvGraphicFramePr>
        <p:xfrm>
          <a:off x="-228600" y="3581280"/>
          <a:ext cx="4724280" cy="1987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24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952880" y="234936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destilleerd wa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op 0 º ingestel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484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86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4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4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0" y="126828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"/>
          <p:cNvGrpSpPr/>
          <p:nvPr/>
        </p:nvGrpSpPr>
        <p:grpSpPr>
          <a:xfrm>
            <a:off x="1171440" y="2060280"/>
            <a:ext cx="2983320" cy="1542240"/>
            <a:chOff x="1171440" y="2060280"/>
            <a:chExt cx="2983320" cy="1542240"/>
          </a:xfrm>
        </p:grpSpPr>
        <p:grpSp>
          <p:nvGrpSpPr>
            <p:cNvPr id="493" name=""/>
            <p:cNvGrpSpPr/>
            <p:nvPr/>
          </p:nvGrpSpPr>
          <p:grpSpPr>
            <a:xfrm>
              <a:off x="1998720" y="2060280"/>
              <a:ext cx="1187280" cy="838080"/>
              <a:chOff x="1998720" y="2060280"/>
              <a:chExt cx="1187280" cy="838080"/>
            </a:xfrm>
          </p:grpSpPr>
          <p:sp>
            <p:nvSpPr>
              <p:cNvPr id="494" name=""/>
              <p:cNvSpPr/>
              <p:nvPr/>
            </p:nvSpPr>
            <p:spPr>
              <a:xfrm flipV="1">
                <a:off x="19987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0080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0560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19987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1193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1676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19987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30470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30376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31298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3055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2981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2908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28335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27594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26852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2611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H="1">
                <a:off x="25365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H="1">
                <a:off x="2462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23878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23137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2239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2165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21193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21564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21564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564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1564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1564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1564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21564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21283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20635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20077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28" name=""/>
            <p:cNvSpPr/>
            <p:nvPr/>
          </p:nvSpPr>
          <p:spPr>
            <a:xfrm>
              <a:off x="1171440" y="2898720"/>
              <a:ext cx="298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529" name=""/>
          <p:cNvGraphicFramePr/>
          <p:nvPr/>
        </p:nvGraphicFramePr>
        <p:xfrm>
          <a:off x="-228600" y="3581280"/>
          <a:ext cx="4724280" cy="1987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3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24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5,2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53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3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3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3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5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3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539" name=""/>
          <p:cNvGraphicFramePr/>
          <p:nvPr/>
        </p:nvGraphicFramePr>
        <p:xfrm>
          <a:off x="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1" name=""/>
          <p:cNvGrpSpPr/>
          <p:nvPr/>
        </p:nvGrpSpPr>
        <p:grpSpPr>
          <a:xfrm>
            <a:off x="1071000" y="2060280"/>
            <a:ext cx="3129840" cy="1542240"/>
            <a:chOff x="1071000" y="2060280"/>
            <a:chExt cx="3129840" cy="1542240"/>
          </a:xfrm>
        </p:grpSpPr>
        <p:grpSp>
          <p:nvGrpSpPr>
            <p:cNvPr id="542" name=""/>
            <p:cNvGrpSpPr/>
            <p:nvPr/>
          </p:nvGrpSpPr>
          <p:grpSpPr>
            <a:xfrm>
              <a:off x="1971720" y="2060280"/>
              <a:ext cx="1187280" cy="838080"/>
              <a:chOff x="1971720" y="2060280"/>
              <a:chExt cx="1187280" cy="838080"/>
            </a:xfrm>
          </p:grpSpPr>
          <p:sp>
            <p:nvSpPr>
              <p:cNvPr id="543" name=""/>
              <p:cNvSpPr/>
              <p:nvPr/>
            </p:nvSpPr>
            <p:spPr>
              <a:xfrm flipV="1">
                <a:off x="19717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19810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30290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H="1">
                <a:off x="19717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20923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31406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19717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0200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30106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1028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H="1">
                <a:off x="3028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>
                <a:off x="2954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>
                <a:off x="2881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H="1">
                <a:off x="28065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H="1">
                <a:off x="27324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H="1">
                <a:off x="26582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>
                <a:off x="2584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>
                <a:off x="25095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2435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>
                <a:off x="23608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>
                <a:off x="22867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>
                <a:off x="2212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>
                <a:off x="2138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20923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1294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1294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294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294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1294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1294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1294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H="1">
                <a:off x="21013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20365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19807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577" name=""/>
            <p:cNvSpPr/>
            <p:nvPr/>
          </p:nvSpPr>
          <p:spPr>
            <a:xfrm>
              <a:off x="107100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10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578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0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0,2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58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58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8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4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"/>
          <p:cNvGrpSpPr/>
          <p:nvPr/>
        </p:nvGrpSpPr>
        <p:grpSpPr>
          <a:xfrm>
            <a:off x="1062360" y="2060280"/>
            <a:ext cx="3129840" cy="1542240"/>
            <a:chOff x="1062360" y="2060280"/>
            <a:chExt cx="3129840" cy="1542240"/>
          </a:xfrm>
        </p:grpSpPr>
        <p:grpSp>
          <p:nvGrpSpPr>
            <p:cNvPr id="592" name=""/>
            <p:cNvGrpSpPr/>
            <p:nvPr/>
          </p:nvGrpSpPr>
          <p:grpSpPr>
            <a:xfrm>
              <a:off x="1963800" y="2060280"/>
              <a:ext cx="1187280" cy="838080"/>
              <a:chOff x="1963800" y="2060280"/>
              <a:chExt cx="1187280" cy="838080"/>
            </a:xfrm>
          </p:grpSpPr>
          <p:sp>
            <p:nvSpPr>
              <p:cNvPr id="593" name=""/>
              <p:cNvSpPr/>
              <p:nvPr/>
            </p:nvSpPr>
            <p:spPr>
              <a:xfrm flipV="1">
                <a:off x="196380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97316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211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196380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08440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13272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196380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01212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300276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30949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3020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9462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873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27986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7244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26503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2576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250164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24271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3529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2788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204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21301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08440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212148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12148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12148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12148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12148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212148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12148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209340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202860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97280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06236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1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628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2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0" name=""/>
          <p:cNvSpPr/>
          <p:nvPr/>
        </p:nvSpPr>
        <p:spPr>
          <a:xfrm>
            <a:off x="4952880" y="22050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4,7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632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3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4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3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5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-10800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0800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40" name=""/>
          <p:cNvGrpSpPr/>
          <p:nvPr/>
        </p:nvGrpSpPr>
        <p:grpSpPr>
          <a:xfrm>
            <a:off x="1090080" y="2060280"/>
            <a:ext cx="3129840" cy="1542240"/>
            <a:chOff x="1090080" y="2060280"/>
            <a:chExt cx="3129840" cy="1542240"/>
          </a:xfrm>
        </p:grpSpPr>
        <p:grpSp>
          <p:nvGrpSpPr>
            <p:cNvPr id="641" name=""/>
            <p:cNvGrpSpPr/>
            <p:nvPr/>
          </p:nvGrpSpPr>
          <p:grpSpPr>
            <a:xfrm>
              <a:off x="1992240" y="2060280"/>
              <a:ext cx="1187280" cy="838080"/>
              <a:chOff x="1992240" y="2060280"/>
              <a:chExt cx="1187280" cy="838080"/>
            </a:xfrm>
          </p:grpSpPr>
          <p:sp>
            <p:nvSpPr>
              <p:cNvPr id="642" name=""/>
              <p:cNvSpPr/>
              <p:nvPr/>
            </p:nvSpPr>
            <p:spPr>
              <a:xfrm flipV="1">
                <a:off x="19922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200160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04956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199224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211284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16116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199224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304056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303120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31233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0492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2974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9016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827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27529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26787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26046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253008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2455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23814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H="1">
                <a:off x="23072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H="1">
                <a:off x="22330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>
                <a:off x="2158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211284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14992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4992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14992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214992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214992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214992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14992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212184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205704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200124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109008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20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677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0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1,1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681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68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3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68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6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87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9" name=""/>
          <p:cNvGrpSpPr/>
          <p:nvPr/>
        </p:nvGrpSpPr>
        <p:grpSpPr>
          <a:xfrm>
            <a:off x="1081440" y="2060280"/>
            <a:ext cx="3129840" cy="1542240"/>
            <a:chOff x="1081440" y="2060280"/>
            <a:chExt cx="3129840" cy="1542240"/>
          </a:xfrm>
        </p:grpSpPr>
        <p:grpSp>
          <p:nvGrpSpPr>
            <p:cNvPr id="690" name=""/>
            <p:cNvGrpSpPr/>
            <p:nvPr/>
          </p:nvGrpSpPr>
          <p:grpSpPr>
            <a:xfrm>
              <a:off x="1984320" y="2060280"/>
              <a:ext cx="1187280" cy="838080"/>
              <a:chOff x="1984320" y="2060280"/>
              <a:chExt cx="1187280" cy="838080"/>
            </a:xfrm>
          </p:grpSpPr>
          <p:sp>
            <p:nvSpPr>
              <p:cNvPr id="691" name=""/>
              <p:cNvSpPr/>
              <p:nvPr/>
            </p:nvSpPr>
            <p:spPr>
              <a:xfrm flipV="1">
                <a:off x="19843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9936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0416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19843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49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1532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19843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30326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30232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31154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30412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H="1">
                <a:off x="2966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H="1">
                <a:off x="28936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2819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27450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26708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25966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25221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>
                <a:off x="2447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>
                <a:off x="2373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H="1">
                <a:off x="22993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H="1">
                <a:off x="2225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2150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21049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21420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21420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1420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21420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21420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1420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21420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21139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20491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>
                <a:off x="19933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25" name=""/>
            <p:cNvSpPr/>
            <p:nvPr/>
          </p:nvSpPr>
          <p:spPr>
            <a:xfrm>
              <a:off x="108144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2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726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8" name=""/>
          <p:cNvSpPr/>
          <p:nvPr/>
        </p:nvSpPr>
        <p:spPr>
          <a:xfrm>
            <a:off x="4952880" y="21337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5,4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3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3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3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1"/>
          <a:stretch/>
        </p:blipFill>
        <p:spPr>
          <a:xfrm>
            <a:off x="1752480" y="2479680"/>
            <a:ext cx="7391520" cy="437832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7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2"/>
          <a:stretch/>
        </p:blipFill>
        <p:spPr>
          <a:xfrm>
            <a:off x="1752480" y="2478240"/>
            <a:ext cx="7391520" cy="437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7" name=""/>
          <p:cNvGraphicFramePr/>
          <p:nvPr/>
        </p:nvGraphicFramePr>
        <p:xfrm>
          <a:off x="-228600" y="2895480"/>
          <a:ext cx="4710240" cy="197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28954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"/>
          <p:cNvSpPr/>
          <p:nvPr/>
        </p:nvSpPr>
        <p:spPr>
          <a:xfrm>
            <a:off x="900000" y="1989000"/>
            <a:ext cx="738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r word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een rechte lijn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‘langs’ de meetpunten getrokk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 meetpunten moeten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zo dicht mogelijk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bij de lijn ligg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41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3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7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iegelbeeldisomeren zij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optisch actie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zij  kunnen het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va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licht draaien onder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een hoe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232000" y="3357720"/>
          <a:ext cx="163044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3357720"/>
                    <a:ext cx="163044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250920" y="3357720"/>
          <a:ext cx="1633320" cy="16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357720"/>
                    <a:ext cx="163332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900000" y="48690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rag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 lich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et 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raaien onder een hoek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657600" y="35002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aarin verschillen deze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08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0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10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1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1752480" y="3243240"/>
            <a:ext cx="6100920" cy="3614760"/>
          </a:xfrm>
          <a:prstGeom prst="rect">
            <a:avLst/>
          </a:prstGeom>
          <a:ln w="0">
            <a:noFill/>
          </a:ln>
        </p:spPr>
      </p:pic>
      <p:pic>
        <p:nvPicPr>
          <p:cNvPr id="746" name="" descr=""/>
          <p:cNvPicPr/>
          <p:nvPr/>
        </p:nvPicPr>
        <p:blipFill>
          <a:blip r:embed="rId2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7-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748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0" name=""/>
          <p:cNvGrpSpPr/>
          <p:nvPr/>
        </p:nvGrpSpPr>
        <p:grpSpPr>
          <a:xfrm>
            <a:off x="1741320" y="1988640"/>
            <a:ext cx="1657440" cy="1542600"/>
            <a:chOff x="1741320" y="1988640"/>
            <a:chExt cx="1657440" cy="1542600"/>
          </a:xfrm>
        </p:grpSpPr>
        <p:grpSp>
          <p:nvGrpSpPr>
            <p:cNvPr id="751" name=""/>
            <p:cNvGrpSpPr/>
            <p:nvPr/>
          </p:nvGrpSpPr>
          <p:grpSpPr>
            <a:xfrm>
              <a:off x="1908000" y="1988640"/>
              <a:ext cx="1187280" cy="838440"/>
              <a:chOff x="1908000" y="1988640"/>
              <a:chExt cx="1187280" cy="838440"/>
            </a:xfrm>
          </p:grpSpPr>
          <p:sp>
            <p:nvSpPr>
              <p:cNvPr id="752" name=""/>
              <p:cNvSpPr/>
              <p:nvPr/>
            </p:nvSpPr>
            <p:spPr>
              <a:xfrm flipV="1">
                <a:off x="1908000" y="2089800"/>
                <a:ext cx="3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917360" y="209016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965320" y="2090160"/>
                <a:ext cx="3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1908000" y="282528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028600" y="198900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076920" y="198900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1908000" y="198864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2956320" y="198900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V="1">
                <a:off x="2946960" y="270756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30391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296496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289044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281736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274284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266868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59452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252036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2445840" y="268272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23713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229716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222300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214884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20743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2028600" y="268272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2065680" y="19890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2065680" y="209016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065680" y="21942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065680" y="229788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065680" y="23994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065680" y="250344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065680" y="260676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2037600" y="268272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972800" y="273420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1917000" y="279936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>
              <a:off x="1741320" y="282744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7-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4952880" y="2205000"/>
            <a:ext cx="4191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7-Up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1,8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tabel genoteer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952880" y="51814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ijklijn wordt gebruikt om het suikergehalt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f te lezen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952880" y="58770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ze bedraag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116 g/L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90" name=""/>
          <p:cNvGraphicFramePr/>
          <p:nvPr/>
        </p:nvGraphicFramePr>
        <p:xfrm>
          <a:off x="-228600" y="3581280"/>
          <a:ext cx="4648320" cy="3009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228600" y="3581280"/>
                    <a:ext cx="464832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9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9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9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00"/>
                </a:solidFill>
                <a:latin typeface="Times New Roman"/>
              </a:rPr>
              <a:t>Einde</a:t>
            </a:r>
            <a:endParaRPr b="0" lang="en-US" sz="80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1752480" y="3814920"/>
            <a:ext cx="6553440" cy="2884320"/>
            <a:chOff x="1752480" y="3814920"/>
            <a:chExt cx="6553440" cy="2884320"/>
          </a:xfrm>
        </p:grpSpPr>
        <p:graphicFrame>
          <p:nvGraphicFramePr>
            <p:cNvPr id="799" name=""/>
            <p:cNvGraphicFramePr/>
            <p:nvPr/>
          </p:nvGraphicFramePr>
          <p:xfrm>
            <a:off x="5410080" y="3821040"/>
            <a:ext cx="2895840" cy="286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0080" y="3821040"/>
                      <a:ext cx="2895840" cy="28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1752480" y="3814920"/>
            <a:ext cx="2895840" cy="288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3814920"/>
                      <a:ext cx="2895840" cy="28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 polarimeter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838080" y="3573360"/>
            <a:ext cx="8305920" cy="250992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932760" y="5805360"/>
            <a:ext cx="2343600" cy="699480"/>
            <a:chOff x="932760" y="5805360"/>
            <a:chExt cx="2343600" cy="699480"/>
          </a:xfrm>
        </p:grpSpPr>
        <p:sp>
          <p:nvSpPr>
            <p:cNvPr id="315" name=""/>
            <p:cNvSpPr/>
            <p:nvPr/>
          </p:nvSpPr>
          <p:spPr>
            <a:xfrm flipV="1">
              <a:off x="2376360" y="5805360"/>
              <a:ext cx="900000" cy="31608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932760" y="604512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polarisat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2490840" y="5562360"/>
            <a:ext cx="4795560" cy="1298160"/>
            <a:chOff x="2490840" y="5562360"/>
            <a:chExt cx="4795560" cy="1298160"/>
          </a:xfrm>
        </p:grpSpPr>
        <p:sp>
          <p:nvSpPr>
            <p:cNvPr id="318" name=""/>
            <p:cNvSpPr/>
            <p:nvPr/>
          </p:nvSpPr>
          <p:spPr>
            <a:xfrm flipV="1">
              <a:off x="4896000" y="5562360"/>
              <a:ext cx="138240" cy="75708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90840" y="6400800"/>
              <a:ext cx="47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meetcel met optisch actieve sto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7233120" y="5740560"/>
            <a:ext cx="1683360" cy="764280"/>
            <a:chOff x="7233120" y="5740560"/>
            <a:chExt cx="1683360" cy="764280"/>
          </a:xfrm>
        </p:grpSpPr>
        <p:sp>
          <p:nvSpPr>
            <p:cNvPr id="321" name=""/>
            <p:cNvSpPr/>
            <p:nvPr/>
          </p:nvSpPr>
          <p:spPr>
            <a:xfrm flipH="1" flipV="1">
              <a:off x="7591320" y="5740560"/>
              <a:ext cx="685800" cy="30456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33120" y="60451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analysat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2351160" y="3429000"/>
            <a:ext cx="2855520" cy="1038240"/>
            <a:chOff x="2351160" y="3429000"/>
            <a:chExt cx="2855520" cy="1038240"/>
          </a:xfrm>
        </p:grpSpPr>
        <p:sp>
          <p:nvSpPr>
            <p:cNvPr id="324" name=""/>
            <p:cNvSpPr/>
            <p:nvPr/>
          </p:nvSpPr>
          <p:spPr>
            <a:xfrm>
              <a:off x="2351160" y="3429000"/>
              <a:ext cx="28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gepolariseerd lich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190760" y="3886200"/>
              <a:ext cx="380880" cy="58104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6199200" y="3429000"/>
            <a:ext cx="2690640" cy="838080"/>
            <a:chOff x="6199200" y="3429000"/>
            <a:chExt cx="2690640" cy="838080"/>
          </a:xfrm>
        </p:grpSpPr>
        <p:sp>
          <p:nvSpPr>
            <p:cNvPr id="327" name=""/>
            <p:cNvSpPr/>
            <p:nvPr/>
          </p:nvSpPr>
          <p:spPr>
            <a:xfrm>
              <a:off x="6199200" y="3429000"/>
              <a:ext cx="26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Draaiingshoek </a:t>
              </a:r>
              <a:r>
                <a:rPr b="0" lang="nl-NL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</a:t>
              </a: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24680" y="3809880"/>
              <a:ext cx="304920" cy="45720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5640" y="3581280"/>
            <a:ext cx="1183680" cy="990720"/>
            <a:chOff x="35640" y="3581280"/>
            <a:chExt cx="1183680" cy="990720"/>
          </a:xfrm>
        </p:grpSpPr>
        <p:sp>
          <p:nvSpPr>
            <p:cNvPr id="330" name=""/>
            <p:cNvSpPr/>
            <p:nvPr/>
          </p:nvSpPr>
          <p:spPr>
            <a:xfrm>
              <a:off x="609480" y="4038480"/>
              <a:ext cx="609840" cy="53352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5640" y="35812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lam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3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3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33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iegelbeeldisomeren zij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optisch actie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zij  kunnen het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va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 lich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draaien onder ee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oe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8" name="">
            <a:hlinkClick r:id="rId6"/>
          </p:cNvPr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 polarimeter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00000" y="5441760"/>
            <a:ext cx="79200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polarisato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maakt gepolariseerd licht.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oplossing met optisch actieve stof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t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het polarisatievlak 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º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Met 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nalysato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de waarde 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meten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611280" y="263700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3700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>
            <a:off x="826920" y="2133720"/>
            <a:ext cx="6481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polarime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n vereenvoudigde vorm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>
            <a:hlinkClick r:id="rId3"/>
          </p:cNvPr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>
            <a:hlinkClick r:id="rId4"/>
          </p:cNvPr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47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4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49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actoren die de waarde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bepal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0" y="167652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755640" y="2060640"/>
            <a:ext cx="79930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De mate waarin het polarisatievlak gedraaid wordt, wordt de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draaiingshoek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De draaiingshoek </a:t>
            </a:r>
            <a:r>
              <a:rPr b="1" i="1" lang="nl-NL" sz="28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wordt bepaald do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soort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optisch actiev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stof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 baseline="-25000">
                <a:solidFill>
                  <a:srgbClr val="800000"/>
                </a:solidFill>
                <a:latin typeface="Times New Roman"/>
              </a:rPr>
              <a:t>0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); voor suiker bedraagt deze 66,5 º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concentrati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c) in g/L waarin de optisch actieve stof aanwezig 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fstand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l) in dm die het licht aflegt in de oplossing van de optisch actieve sto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In formu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589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0" lang="en-US" sz="96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en-US" sz="9600" spc="-1" strike="noStrike" baseline="-25000">
                <a:solidFill>
                  <a:srgbClr val="800000"/>
                </a:solidFill>
                <a:latin typeface="Times New Roman"/>
              </a:rPr>
              <a:t>0 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. c . l</a:t>
            </a:r>
            <a:br>
              <a:rPr sz="4400"/>
            </a:b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5562720" y="5383080"/>
            <a:ext cx="3580920" cy="1474920"/>
            <a:chOff x="5562720" y="5383080"/>
            <a:chExt cx="3580920" cy="1474920"/>
          </a:xfrm>
        </p:grpSpPr>
        <p:graphicFrame>
          <p:nvGraphicFramePr>
            <p:cNvPr id="357" name=""/>
            <p:cNvGraphicFramePr/>
            <p:nvPr/>
          </p:nvGraphicFramePr>
          <p:xfrm>
            <a:off x="7526880" y="538308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538308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59" name=""/>
            <p:cNvGraphicFramePr/>
            <p:nvPr/>
          </p:nvGraphicFramePr>
          <p:xfrm>
            <a:off x="5562720" y="538308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6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38308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61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62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4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36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nksdraaiend &amp; rechtsdraaiend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167652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7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74" name=""/>
          <p:cNvSpPr/>
          <p:nvPr/>
        </p:nvSpPr>
        <p:spPr>
          <a:xfrm>
            <a:off x="746280" y="2332080"/>
            <a:ext cx="656424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Naamgeving op basis van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gedrag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in de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polarimeter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Indien het gepolariseerde licht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echts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met de klok mee) wordt gedraaid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rechtsdraai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teken:  (+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voorbeeld: 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(+)-1-chloor-1-ethan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Indien het gepolariseerde licht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links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tegen de klok in) wordt gedraaid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linksdraai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teken:  (-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voorbeeld: 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(-)-1-chloor-1-ethan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5" name="">
            <a:hlinkClick r:id="rId7"/>
          </p:cNvPr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 &amp; L-methode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378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80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8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82" name=""/>
          <p:cNvSpPr/>
          <p:nvPr/>
        </p:nvSpPr>
        <p:spPr>
          <a:xfrm>
            <a:off x="735120" y="1992240"/>
            <a:ext cx="65642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amgeving op basis van d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structuu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van de molecule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ebaseerd op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afspraken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oriëntatie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van de atoomgroepen rond he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asymmetrisch centrum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is bepale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-hydroxypropaanzuur (melkzuur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5"/>
          <a:stretch/>
        </p:blipFill>
        <p:spPr>
          <a:xfrm>
            <a:off x="1297080" y="4829040"/>
            <a:ext cx="300204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 &amp; L-methode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55720" y="2316240"/>
            <a:ext cx="5762520" cy="38941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77880" y="1925640"/>
            <a:ext cx="81597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2-hydroxypropaanzuur (melkzuu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Melkzuur beva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an het asymmetrische centrum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de volgende substituent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H-ato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0" lang="nl-NL" sz="16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-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5,0 u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OH- 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7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COOH-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45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Houd 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lichtst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substituent ‘in de hand’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Kij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langs de as van het asymmetrisch centrum en deze lichtste substitu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6680160" y="2960640"/>
          <a:ext cx="18637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0160" y="2960640"/>
                    <a:ext cx="18637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687240" y="5280120"/>
            <a:ext cx="8159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angschi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de andere substituenten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toenemen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mass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6734160" y="2728800"/>
          <a:ext cx="2208240" cy="20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4160" y="2728800"/>
                    <a:ext cx="220824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687240" y="5668920"/>
            <a:ext cx="81597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lvl="2" marL="825120" indent="-1735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Links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geöriënteerd: L-configuratie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L-2-hydroxypropaanzu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825120" indent="-1735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Rechts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geöriënteerd: D-configuratie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D-2-hydroxypropaanzu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Maak opgave 1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25120" indent="-17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6"/>
          <a:stretch/>
        </p:blipFill>
        <p:spPr>
          <a:xfrm>
            <a:off x="6281640" y="0"/>
            <a:ext cx="246708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3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Racemisch mengs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6120" y="2139840"/>
            <a:ext cx="5864040" cy="396252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467080" cy="1666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755640" y="1925640"/>
            <a:ext cx="81597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oorbee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Bij bereiding van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2-broompropaanzuur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ui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propaanzuur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ontstaat een molecuul me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één asymmetrisch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koolstofatoo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825480" y="3308400"/>
          <a:ext cx="802656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480" y="3308400"/>
                    <a:ext cx="80265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"/>
          <p:cNvSpPr/>
          <p:nvPr/>
        </p:nvSpPr>
        <p:spPr>
          <a:xfrm>
            <a:off x="696960" y="4562640"/>
            <a:ext cx="81597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Het onstane 2-broompropaanzuur vertoont in de polarimeter echte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en 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2-Broompropaanzuur blijkt na onderzoek een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fifty-fifty mengsel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te zijn van (-) en (+) draaiend enantiomeer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Zo'n mengsel van precies 50% van beide enantiomeren noemen we een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acemisch mengsel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racemaat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13280" y="1168560"/>
            <a:ext cx="1622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50 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116840" y="1168560"/>
            <a:ext cx="1622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50 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01:07Z</dcterms:created>
  <dc:creator>Martien van Bergen</dc:creator>
  <dc:description/>
  <dc:language>en-US</dc:language>
  <cp:lastModifiedBy>M. van Bergen</cp:lastModifiedBy>
  <dcterms:modified xsi:type="dcterms:W3CDTF">2006-04-27T11:45:57Z</dcterms:modified>
  <cp:revision>46</cp:revision>
  <dc:subject/>
  <dc:title>Isomerie</dc:title>
</cp:coreProperties>
</file>