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DEB6-9637-4569-952B-C07AC3F54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B337-4134-46DF-9681-3C7BA7CE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87D-1BB1-4BA2-9BE4-F655165DF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664B-053E-4364-820A-FBE1FF21C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3B4D-E7F5-4CCE-822D-98319F8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86E3-6E77-440F-ABA7-E02CD97C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C1D7-0D32-4F13-A63E-3148D590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B98-25A2-49FE-81F7-2A86A2106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9C17-75B8-4BBF-9245-24DBB671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1A4-00FC-49DA-9760-4B3D60A4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EEE-B903-41BD-9A11-975B44B0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C69F-B020-4B6D-BD41-6D821621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4764-CE01-4CAB-8E40-B8A269E3492E}" type="slidenum">
              <a:rPr b="0" lang="nl-NL" sz="14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1773000"/>
            <a:ext cx="85690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900" spc="-1" strike="noStrike">
                <a:solidFill>
                  <a:srgbClr val="172e45"/>
                </a:solidFill>
                <a:latin typeface="Trebuchet MS"/>
              </a:rPr>
              <a:t>Isomerie</a:t>
            </a:r>
            <a:endParaRPr b="0" lang="en-US" sz="12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6400800" cy="13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800" spc="-1" strike="noStrike">
                <a:solidFill>
                  <a:srgbClr val="000000"/>
                </a:solidFill>
                <a:latin typeface="Trebuchet MS"/>
              </a:rPr>
              <a:t>overzicht</a:t>
            </a:r>
            <a:endParaRPr b="0" lang="en-US" sz="4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rebuchet MS"/>
              </a:rPr>
              <a:t>Cis-trans isomeri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561440" cy="4232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57340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tredend bij moleculen met beperkte draaibaarheid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lkenen of cyclische verbindin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143" name="_s56327"/>
            <p:cNvCxnSpPr>
              <a:stCxn id="144" idx="0"/>
              <a:endCxn id="145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6" name="_s56328"/>
            <p:cNvCxnSpPr>
              <a:stCxn id="147" idx="0"/>
              <a:endCxn id="145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8" name="_s56329"/>
            <p:cNvCxnSpPr>
              <a:stCxn id="145" idx="0"/>
              <a:endCxn id="149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0" name="_s56330"/>
            <p:cNvCxnSpPr>
              <a:stCxn id="151" idx="0"/>
              <a:endCxn id="149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9" name="_s56331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_s56332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5" name="_s56333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_s56334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4" name="_s56335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611280" y="57340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leculen bevatten een asymmetrisch C-atoom (vier verschillende groepen) en verschillen in optische activite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rebuchet MS"/>
              </a:rPr>
              <a:t>Optische isomeri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340000" y="1517760"/>
            <a:ext cx="4464000" cy="4143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11280" y="57340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leculen bevatten een asymmetrisch C-atoom (vier verschillende groepen) en verschillen in optische activite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5734080"/>
            <a:ext cx="777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161" name="_s58375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58376"/>
            <p:cNvCxnSpPr>
              <a:stCxn id="165" idx="0"/>
              <a:endCxn id="163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58377"/>
            <p:cNvCxnSpPr>
              <a:stCxn id="163" idx="0"/>
              <a:endCxn id="167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58378"/>
            <p:cNvCxnSpPr>
              <a:stCxn id="169" idx="0"/>
              <a:endCxn id="167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7" name="_s58379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_s58380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_s58381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_s58382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_s58383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57340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Zelfde molecuulformule, andere structuurformu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47" name="_s35874"/>
            <p:cNvCxnSpPr>
              <a:stCxn id="48" idx="0"/>
              <a:endCxn id="49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35875"/>
            <p:cNvCxnSpPr>
              <a:stCxn id="51" idx="0"/>
              <a:endCxn id="49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35876"/>
            <p:cNvCxnSpPr>
              <a:stCxn id="49" idx="0"/>
              <a:endCxn id="53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35877"/>
            <p:cNvCxnSpPr>
              <a:stCxn id="55" idx="0"/>
              <a:endCxn id="53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" name="_s35878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_s35879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" name="_s35880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1" name="_s35881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" name="_s35882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50920" y="1565280"/>
            <a:ext cx="7134120" cy="409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57340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 te delen in twee groepen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61" name="_s46087"/>
            <p:cNvCxnSpPr>
              <a:stCxn id="62" idx="0"/>
              <a:endCxn id="63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4" name="_s46088"/>
            <p:cNvCxnSpPr>
              <a:stCxn id="65" idx="0"/>
              <a:endCxn id="63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" name="_s46089"/>
            <p:cNvCxnSpPr>
              <a:stCxn id="63" idx="0"/>
              <a:endCxn id="67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8" name="_s46090"/>
            <p:cNvCxnSpPr>
              <a:stCxn id="69" idx="0"/>
              <a:endCxn id="67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7" name="_s46091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_s46092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_s46093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_s46094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_s46095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50920" y="2135160"/>
            <a:ext cx="7134120" cy="3525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"/>
          <p:cNvSpPr/>
          <p:nvPr/>
        </p:nvSpPr>
        <p:spPr>
          <a:xfrm>
            <a:off x="611280" y="5734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schillen in karakteristieke groep,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plaatsnummer en/of koolstofske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75" name="_s48135"/>
            <p:cNvCxnSpPr>
              <a:stCxn id="76" idx="0"/>
              <a:endCxn id="77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48136"/>
            <p:cNvCxnSpPr>
              <a:stCxn id="79" idx="0"/>
              <a:endCxn id="77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0" name="_s48137"/>
            <p:cNvCxnSpPr>
              <a:stCxn id="77" idx="0"/>
              <a:endCxn id="81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2" name="_s48138"/>
            <p:cNvCxnSpPr>
              <a:stCxn id="83" idx="0"/>
              <a:endCxn id="81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1" name="_s48139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_s48140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_s48141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_s48142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6" name="_s48143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095640" y="2103480"/>
            <a:ext cx="4289400" cy="3557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3514680"/>
            <a:ext cx="4361040" cy="1700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rebuchet MS"/>
              </a:rPr>
              <a:t>Structuurisomeri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3435480" cy="45356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067280" y="314172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Verschillen in karakteristieke groep, plaatsnummer en/of koolstofskele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57340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leculen verschillen alleen in hun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ruimtelijke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structuu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94" name="_s50183"/>
            <p:cNvCxnSpPr>
              <a:stCxn id="95" idx="0"/>
              <a:endCxn id="96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50184"/>
            <p:cNvCxnSpPr>
              <a:stCxn id="98" idx="0"/>
              <a:endCxn id="96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50185"/>
            <p:cNvCxnSpPr>
              <a:stCxn id="96" idx="0"/>
              <a:endCxn id="100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50186"/>
            <p:cNvCxnSpPr>
              <a:stCxn id="102" idx="0"/>
              <a:endCxn id="100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0" name="_s50187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_s50188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_s50189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_s50190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_s50191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39640" y="3352680"/>
            <a:ext cx="6769080" cy="186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Trebuchet MS"/>
              </a:rPr>
              <a:t>Stereo-isomeri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4284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11280" y="585144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Moleculen verschillen alleen in hun </a:t>
            </a:r>
            <a:r>
              <a:rPr b="1" lang="nl-NL" sz="2400" spc="-1" strike="noStrike">
                <a:solidFill>
                  <a:srgbClr val="000000"/>
                </a:solidFill>
                <a:latin typeface="Trebuchet MS"/>
              </a:rPr>
              <a:t>ruimtelijke</a:t>
            </a: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 structuu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611280" y="573408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 te delen in twee groepen..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112" name="_s52231"/>
            <p:cNvCxnSpPr>
              <a:stCxn id="113" idx="0"/>
              <a:endCxn id="114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52232"/>
            <p:cNvCxnSpPr>
              <a:stCxn id="116" idx="0"/>
              <a:endCxn id="114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52233"/>
            <p:cNvCxnSpPr>
              <a:stCxn id="114" idx="0"/>
              <a:endCxn id="118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52234"/>
            <p:cNvCxnSpPr>
              <a:stCxn id="120" idx="0"/>
              <a:endCxn id="118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52235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_s52236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_s52237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6" name="_s52238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_s52239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539640" y="3913200"/>
            <a:ext cx="6769080" cy="130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63640" y="4397400"/>
            <a:ext cx="7129440" cy="205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0" y="3218040"/>
            <a:ext cx="3528720" cy="150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rebuchet MS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73408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Optredend bij moleculen met beperkte draaibaarheid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Trebuchet MS"/>
              </a:rPr>
              <a:t>Alkenen of cyclische verbindinge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95280" y="333360"/>
            <a:ext cx="6552360" cy="4823280"/>
            <a:chOff x="395280" y="333360"/>
            <a:chExt cx="6552360" cy="4823280"/>
          </a:xfrm>
        </p:grpSpPr>
        <p:cxnSp>
          <p:nvCxnSpPr>
            <p:cNvPr id="126" name="_s54279"/>
            <p:cNvCxnSpPr>
              <a:stCxn id="127" idx="0"/>
              <a:endCxn id="128" idx="2"/>
            </p:cNvCxnSpPr>
            <p:nvPr/>
          </p:nvCxnSpPr>
          <p:spPr>
            <a:xfrm flipV="1" rot="16200000">
              <a:off x="4759560" y="2953800"/>
              <a:ext cx="603360" cy="139068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9" name="_s54280"/>
            <p:cNvCxnSpPr>
              <a:stCxn id="130" idx="0"/>
              <a:endCxn id="128" idx="2"/>
            </p:cNvCxnSpPr>
            <p:nvPr/>
          </p:nvCxnSpPr>
          <p:spPr>
            <a:xfrm flipH="1" flipV="1" rot="5400000">
              <a:off x="3369960" y="2954160"/>
              <a:ext cx="603360" cy="1390320"/>
            </a:xfrm>
            <a:prstGeom prst="bentConnector3">
              <a:avLst>
                <a:gd name="adj1" fmla="val 2047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1" name="_s54281"/>
            <p:cNvCxnSpPr>
              <a:stCxn id="128" idx="0"/>
              <a:endCxn id="132" idx="2"/>
            </p:cNvCxnSpPr>
            <p:nvPr/>
          </p:nvCxnSpPr>
          <p:spPr>
            <a:xfrm flipV="1" rot="16200000">
              <a:off x="3369960" y="1144800"/>
              <a:ext cx="603360" cy="139032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54282"/>
            <p:cNvCxnSpPr>
              <a:stCxn id="134" idx="0"/>
              <a:endCxn id="132" idx="2"/>
            </p:cNvCxnSpPr>
            <p:nvPr/>
          </p:nvCxnSpPr>
          <p:spPr>
            <a:xfrm flipH="1" flipV="1" rot="5400000">
              <a:off x="1979640" y="1144800"/>
              <a:ext cx="603360" cy="1390680"/>
            </a:xfrm>
            <a:prstGeom prst="bentConnector3">
              <a:avLst>
                <a:gd name="adj1" fmla="val 204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2" name="_s54283"/>
            <p:cNvSpPr/>
            <p:nvPr/>
          </p:nvSpPr>
          <p:spPr>
            <a:xfrm>
              <a:off x="1785240" y="33336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40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4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4" name="_s54284"/>
            <p:cNvSpPr/>
            <p:nvPr/>
          </p:nvSpPr>
          <p:spPr>
            <a:xfrm>
              <a:off x="39528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ructuur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8" name="_s54285"/>
            <p:cNvSpPr/>
            <p:nvPr/>
          </p:nvSpPr>
          <p:spPr>
            <a:xfrm>
              <a:off x="3174840" y="2142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Stereo</a:t>
              </a:r>
              <a:br>
                <a:rPr sz="3200"/>
              </a:br>
              <a:r>
                <a:rPr b="1" lang="nl-NL" sz="3200" spc="-1" strike="noStrike">
                  <a:solidFill>
                    <a:srgbClr val="80808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30" name="_s54286"/>
            <p:cNvSpPr/>
            <p:nvPr/>
          </p:nvSpPr>
          <p:spPr>
            <a:xfrm>
              <a:off x="178524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Cis-trans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7" name="_s54287"/>
            <p:cNvSpPr/>
            <p:nvPr/>
          </p:nvSpPr>
          <p:spPr>
            <a:xfrm>
              <a:off x="4565160" y="3951000"/>
              <a:ext cx="2382480" cy="1205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Optische </a:t>
              </a:r>
              <a:br>
                <a:rPr sz="3200"/>
              </a:br>
              <a:r>
                <a:rPr b="1" lang="nl-NL" sz="3200" spc="-1" strike="noStrike">
                  <a:solidFill>
                    <a:srgbClr val="000000"/>
                  </a:solidFill>
                  <a:latin typeface="Trebuchet MS"/>
                </a:rPr>
                <a:t>isomerie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4494240" y="3933720"/>
            <a:ext cx="3894120" cy="1528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7:41:00Z</dcterms:created>
  <dc:creator>Mart</dc:creator>
  <dc:description/>
  <dc:language>en-US</dc:language>
  <cp:lastModifiedBy>Beck</cp:lastModifiedBy>
  <dcterms:modified xsi:type="dcterms:W3CDTF">2008-12-09T07:31:06Z</dcterms:modified>
  <cp:revision>8</cp:revision>
  <dc:subject/>
  <dc:title>Wetenschappelijk   Onderzoek</dc:title>
</cp:coreProperties>
</file>