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487-CAFC-4349-97A7-35E43153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1F3-F812-4B6E-9D9D-698F38C1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CD0-D881-47AC-B19B-A5FCC0CF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47F-8110-4917-BE23-E21750D5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0107-412D-4A8E-9196-787862E0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EBF2-4E22-4983-A325-E746A598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9B5A-2DE6-4F74-A343-1094D117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B6EE-2346-4D02-9124-AE5999EC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E18F-D6B3-464E-AAA4-07D3FD3E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EEAD-2A8C-4ECF-B335-730339BE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1AC2-E639-4FF4-B2A9-BDE27CE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C07-11BB-435C-BBC7-E7EE1B44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A73F-7080-4673-9216-AB046E18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EC41-17D5-44BA-A8EF-BAD29D73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3402-8E63-496E-88F2-68BB0F5F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AE5A-4B43-4111-B619-8AEF295D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7A77-6DB1-473C-B358-9B02622C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129-E89D-4FFF-AA0E-C9DFE7B4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C84-7785-4D01-BBAB-5778E611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515-5B14-4B15-AA7D-D9F90A75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7C0-AE91-481C-ACA2-7E45A372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51F-B435-4583-8467-512522FB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E4E-882D-4A65-836D-C0313C02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70F-366F-49BC-8C21-F53063E3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700D-BD7F-445E-B0EB-B5697064C8D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474F-3798-4F02-897B-4CC5A45E534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4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51280" y="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hromatografi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997360" y="4292280"/>
            <a:ext cx="614664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chrijven met ‘kleur’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157720"/>
            <a:ext cx="61466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Verdana"/>
              </a:rPr>
              <a:t>Papier- &amp; dunnelaagchromatografi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Verdana"/>
              </a:rPr>
              <a:t>Kolom-chromatografi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Verdana"/>
              </a:rPr>
              <a:t>Gas-chromatografi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olom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90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Arial Narrow"/>
              </a:rPr>
              <a:t>Retentietijd:</a:t>
            </a:r>
            <a:br>
              <a:rPr sz="2400"/>
            </a:br>
            <a:r>
              <a:rPr b="1" lang="en-US" sz="2400" spc="-1" strike="noStrike">
                <a:solidFill>
                  <a:srgbClr val="006699"/>
                </a:solidFill>
                <a:latin typeface="Arial Narrow"/>
              </a:rPr>
              <a:t>benodigde tijd om de kolom te passere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774880" y="1844640"/>
            <a:ext cx="636912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Gaschromatografie (GLC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14400" y="23320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2276640"/>
            <a:ext cx="1812960" cy="174600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4" action="ppaction://hlinksldjump"/>
          </p:cNvPr>
          <p:cNvSpPr/>
          <p:nvPr/>
        </p:nvSpPr>
        <p:spPr>
          <a:xfrm>
            <a:off x="8783640" y="907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Gaschromatografie (GLC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7058160" cy="2132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14400" y="1628640"/>
            <a:ext cx="82296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 Narrow"/>
              </a:rPr>
              <a:t>Capillaire kolom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Mobiele fase: dragerga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Stationaire fase: vloeistoffilm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783640" y="907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Gaschromatografie (GLC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692360" y="1755720"/>
            <a:ext cx="70563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58800" y="318960"/>
            <a:ext cx="824400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Gaschromatografie (GLC)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3040200"/>
            <a:ext cx="8748720" cy="3817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16720" y="3357720"/>
            <a:ext cx="24843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Arial Narrow"/>
              </a:rPr>
              <a:t>Samenstelling van draaggas wijzigt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Arial Narrow"/>
              </a:rPr>
              <a:t>Zo ook de warmtecoëfficient van het gasmengsel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Arial Narrow"/>
              </a:rPr>
              <a:t>Deze wijziging wordt omgezet in een electrisch signaal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as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63640" y="2862360"/>
            <a:ext cx="7380360" cy="3995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Arial Narrow"/>
              </a:rPr>
              <a:t>Retentietijd:</a:t>
            </a:r>
            <a:br>
              <a:rPr sz="2400"/>
            </a:br>
            <a:r>
              <a:rPr b="1" lang="en-US" sz="2400" spc="-1" strike="noStrike">
                <a:solidFill>
                  <a:srgbClr val="006699"/>
                </a:solidFill>
                <a:latin typeface="Arial Narrow"/>
              </a:rPr>
              <a:t>benodigde tijd om de kolom te passer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Gaschromatogra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Aanstekerga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etha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propa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buta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methylpropa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penta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086360" cy="2224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0" y="4437000"/>
            <a:ext cx="41482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Gaschromatogra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5003640" cy="3355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99"/>
                </a:solidFill>
                <a:latin typeface="Arial Narrow"/>
              </a:rPr>
              <a:t>Wijnaroma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cyclopentaa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1- ethana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ethylethanoa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ethano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2-methylpropano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1-butano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2-methylpropylethanoa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ethylbutanoa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ethyl-2-butanoa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ethyl-2-methylbutanoa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benzaldehy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limonee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1-hexano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ethylhexanoa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4797360"/>
            <a:ext cx="500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99"/>
                </a:solidFill>
                <a:latin typeface="Arial Narrow"/>
              </a:rPr>
              <a:t>Elke piek in het chromatogram staat voor een andere stof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99"/>
                </a:solidFill>
                <a:latin typeface="Arial Narrow"/>
              </a:rPr>
              <a:t>De oppervlakte van de piek geeft aan hoeveel van die stof in de wijnaroma wordt aangetroffen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99"/>
                </a:solidFill>
                <a:latin typeface="Arial Narrow"/>
              </a:rPr>
              <a:t>Deze methode is zeer gevoelig: tot één nanogram van een verbinding kan worden aangetoond.</a:t>
            </a:r>
            <a:r>
              <a:rPr b="0" lang="nl-NL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635280" y="1474920"/>
            <a:ext cx="5508720" cy="5383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pier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 Narrow"/>
              </a:rPr>
              <a:t>Het papier wordt in een vloeistof gehangen (= de loopvloeistof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 Narrow"/>
              </a:rPr>
              <a:t>De loopvloeistof wordt opgezogen door het papie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 Narrow"/>
              </a:rPr>
              <a:t>De stoffen in het mengsel lossen in de loopvloeistof op &amp; zullen mee omhoog getrokken worden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 Narrow"/>
              </a:rPr>
              <a:t>Doordat niet alle stoffen even goed oplossen ontstaat een vlekkenpatro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 Narrow"/>
              </a:rPr>
              <a:t>De stoffen in het mengsel zijn geheel of gedeeltelijk gescheide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pier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006699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-waarde (rate of flo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006699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 = a/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Groene kleurstof:</a:t>
            </a:r>
            <a:br>
              <a:rPr sz="2400"/>
            </a:br>
            <a:r>
              <a:rPr b="1" lang="nl-NL" sz="2400" spc="-1" strike="noStrike">
                <a:solidFill>
                  <a:srgbClr val="009900"/>
                </a:solidFill>
                <a:latin typeface="Arial Narrow"/>
              </a:rPr>
              <a:t>a = 3,3</a:t>
            </a:r>
            <a:br>
              <a:rPr sz="2400"/>
            </a:br>
            <a:r>
              <a:rPr b="1" lang="nl-NL" sz="2400" spc="-1" strike="noStrike">
                <a:solidFill>
                  <a:srgbClr val="009900"/>
                </a:solidFill>
                <a:latin typeface="Arial Narrow"/>
              </a:rPr>
              <a:t>b = 8,3</a:t>
            </a:r>
            <a:br>
              <a:rPr sz="2400"/>
            </a:br>
            <a:r>
              <a:rPr b="1" lang="nl-NL" sz="2400" spc="-1" strike="noStrike">
                <a:solidFill>
                  <a:srgbClr val="009900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009900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009900"/>
                </a:solidFill>
                <a:latin typeface="Arial Narrow"/>
              </a:rPr>
              <a:t> = 3,3/8,3 = 0,4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Rode kleurstof:</a:t>
            </a:r>
            <a:br>
              <a:rPr sz="2400"/>
            </a:b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a = 5,0</a:t>
            </a:r>
            <a:br>
              <a:rPr sz="2400"/>
            </a:b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b = 8,3</a:t>
            </a:r>
            <a:br>
              <a:rPr sz="2400"/>
            </a:b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cc3300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 = 5,0/8,3 = 0,6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Blauwe kleurstof:</a:t>
            </a:r>
            <a:br>
              <a:rPr sz="2400"/>
            </a:br>
            <a:r>
              <a:rPr b="1" lang="nl-NL" sz="2400" spc="-1" strike="noStrike">
                <a:solidFill>
                  <a:srgbClr val="0033cc"/>
                </a:solidFill>
                <a:latin typeface="Arial Narrow"/>
              </a:rPr>
              <a:t>a = 6,5</a:t>
            </a:r>
            <a:br>
              <a:rPr sz="2400"/>
            </a:br>
            <a:r>
              <a:rPr b="1" lang="nl-NL" sz="2400" spc="-1" strike="noStrike">
                <a:solidFill>
                  <a:srgbClr val="0033cc"/>
                </a:solidFill>
                <a:latin typeface="Arial Narrow"/>
              </a:rPr>
              <a:t>b = 8,3</a:t>
            </a:r>
            <a:br>
              <a:rPr sz="2400"/>
            </a:br>
            <a:r>
              <a:rPr b="1" lang="nl-NL" sz="2400" spc="-1" strike="noStrike">
                <a:solidFill>
                  <a:srgbClr val="0033cc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0033cc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0033cc"/>
                </a:solidFill>
                <a:latin typeface="Arial Narrow"/>
              </a:rPr>
              <a:t> = 6,5/8,3 = 0,7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1946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Dunnelaag-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 Narrow"/>
              </a:rPr>
              <a:t>Werkt hetzelfde als papierchromatografi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 Narrow"/>
              </a:rPr>
              <a:t>De stationaire fase is een dunne laag aangebracht op een glasplaat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492360" y="3067200"/>
            <a:ext cx="5651640" cy="3790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5280" y="3141720"/>
            <a:ext cx="8362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cc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0033cc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0033cc"/>
                </a:solidFill>
                <a:latin typeface="Arial Narrow"/>
              </a:rPr>
              <a:t> = a/f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9900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009900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009900"/>
                </a:solidFill>
                <a:latin typeface="Arial Narrow"/>
              </a:rPr>
              <a:t> = b/f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Verdelingsconstante K</a:t>
            </a:r>
            <a:r>
              <a:rPr b="0" lang="nl-NL" sz="4400" spc="-1" strike="noStrike" baseline="-25000">
                <a:solidFill>
                  <a:srgbClr val="006666"/>
                </a:solidFill>
                <a:latin typeface="Verdana"/>
              </a:rPr>
              <a:t>v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403280" y="2141640"/>
          <a:ext cx="7740720" cy="47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141640"/>
                    <a:ext cx="774072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Verdelingsconstante K</a:t>
            </a:r>
            <a:r>
              <a:rPr b="0" lang="nl-NL" sz="4400" spc="-1" strike="noStrike" baseline="-25000">
                <a:solidFill>
                  <a:srgbClr val="006666"/>
                </a:solidFill>
                <a:latin typeface="Verdana"/>
              </a:rPr>
              <a:t>v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2241720"/>
          <a:ext cx="7812000" cy="46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41720"/>
                    <a:ext cx="781200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Verdelingsconstante K</a:t>
            </a:r>
            <a:r>
              <a:rPr b="0" lang="nl-NL" sz="4400" spc="-1" strike="noStrike" baseline="-25000">
                <a:solidFill>
                  <a:srgbClr val="006666"/>
                </a:solidFill>
                <a:latin typeface="Verdana"/>
              </a:rPr>
              <a:t>v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32000" y="240192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Mobiele fa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Stationaire fa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K</a:t>
            </a:r>
            <a:r>
              <a:rPr b="1" lang="nl-NL" sz="2400" spc="-1" strike="noStrike" baseline="-25000">
                <a:solidFill>
                  <a:srgbClr val="006699"/>
                </a:solidFill>
                <a:latin typeface="Arial Narrow"/>
              </a:rPr>
              <a:t>v</a:t>
            </a: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 =[A]</a:t>
            </a:r>
            <a:r>
              <a:rPr b="1" lang="nl-NL" sz="2400" spc="-1" strike="noStrike" baseline="-25000">
                <a:solidFill>
                  <a:srgbClr val="006699"/>
                </a:solidFill>
                <a:latin typeface="Arial Narrow"/>
              </a:rPr>
              <a:t>s</a:t>
            </a: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/[A]</a:t>
            </a:r>
            <a:r>
              <a:rPr b="1" lang="nl-NL" sz="2400" spc="-1" strike="noStrike" baseline="-25000">
                <a:solidFill>
                  <a:srgbClr val="006699"/>
                </a:solidFill>
                <a:latin typeface="Arial Narrow"/>
              </a:rPr>
              <a:t>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Verdana"/>
              </a:rPr>
              <a:t>K</a:t>
            </a:r>
            <a:r>
              <a:rPr b="0" lang="nl-NL" sz="2400" spc="-1" strike="noStrike" baseline="-25000">
                <a:solidFill>
                  <a:srgbClr val="cc3300"/>
                </a:solidFill>
                <a:latin typeface="Verdana"/>
              </a:rPr>
              <a:t>A </a:t>
            </a:r>
            <a:r>
              <a:rPr b="0" lang="nl-NL" sz="2400" spc="-1" strike="noStrike">
                <a:solidFill>
                  <a:srgbClr val="cc3300"/>
                </a:solidFill>
                <a:latin typeface="Verdana"/>
              </a:rPr>
              <a:t>= 0,33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Verdana"/>
              </a:rPr>
              <a:t>K</a:t>
            </a:r>
            <a:r>
              <a:rPr b="0" lang="nl-NL" sz="2400" spc="-1" strike="noStrike" baseline="-25000">
                <a:solidFill>
                  <a:srgbClr val="cc3300"/>
                </a:solidFill>
                <a:latin typeface="Verdana"/>
              </a:rPr>
              <a:t>B </a:t>
            </a:r>
            <a:r>
              <a:rPr b="0" lang="nl-NL" sz="2400" spc="-1" strike="noStrike">
                <a:solidFill>
                  <a:srgbClr val="cc3300"/>
                </a:solidFill>
                <a:latin typeface="Verdana"/>
              </a:rPr>
              <a:t>= 1,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Verdana"/>
              </a:rPr>
              <a:t>K</a:t>
            </a:r>
            <a:r>
              <a:rPr b="0" lang="nl-NL" sz="2400" spc="-1" strike="noStrike" baseline="-25000">
                <a:solidFill>
                  <a:srgbClr val="cc3300"/>
                </a:solidFill>
                <a:latin typeface="Verdana"/>
              </a:rPr>
              <a:t>C </a:t>
            </a:r>
            <a:r>
              <a:rPr b="0" lang="nl-NL" sz="2400" spc="-1" strike="noStrike">
                <a:solidFill>
                  <a:srgbClr val="cc3300"/>
                </a:solidFill>
                <a:latin typeface="Verdana"/>
              </a:rPr>
              <a:t>= 3,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751280" y="2751120"/>
            <a:ext cx="4392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3059280" cy="411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olom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110200" y="1484280"/>
            <a:ext cx="4033800" cy="5373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Het kolommateriaal bestaat uit poreuze korrels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De poriën zijn zodanig van grootte dat moleculen tot een molecuulmassa van 6000 u kunnen binnendringen en grotere moleculen nie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Dithioniet (mol.massa 128 u) zal dus wel de gelkorrels kunnen binnengaan maar hemoglobine niet (mol.massa 65000 u)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Hierdoor zal dithioniet worden opgehouden bij het doorstromen en zal gescheiden worden van hemoglobin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Hemoglobine komt als eerste van de kolom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olom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00720" y="3745080"/>
            <a:ext cx="4643280" cy="3112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017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4149720"/>
            <a:ext cx="397044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Arial Narrow"/>
              </a:rPr>
              <a:t>Retentietijd:</a:t>
            </a:r>
            <a:br>
              <a:rPr sz="2400"/>
            </a:br>
            <a:r>
              <a:rPr b="1" lang="en-US" sz="2400" spc="-1" strike="noStrike">
                <a:solidFill>
                  <a:srgbClr val="006699"/>
                </a:solidFill>
                <a:latin typeface="Arial Narrow"/>
              </a:rPr>
              <a:t>benodigde tijd om de kolom te passer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5:27:13Z</dcterms:created>
  <dc:creator>Martien van Bergen</dc:creator>
  <dc:description/>
  <dc:language>en-US</dc:language>
  <cp:lastModifiedBy>M. van Bergen</cp:lastModifiedBy>
  <dcterms:modified xsi:type="dcterms:W3CDTF">2006-05-29T10:05:36Z</dcterms:modified>
  <cp:revision>14</cp:revision>
  <dc:subject/>
  <dc:title>Gaschromatografie</dc:title>
</cp:coreProperties>
</file>