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2C8-3BD8-481C-B5E1-AE2685F2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1FE-5A8C-47DB-AD9C-7933E8C1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B50-11BF-4CEF-A723-7B90CEBF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FDF-078F-488E-84EB-A9FD206F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05A-DCEE-43D5-9FD0-0AB06CB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BE3-4136-4790-93DC-25D5B2F6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A60-954C-443E-A154-47392591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D8B-3BB9-4CAA-8F28-78A6D029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F9C-60F0-4876-AE62-852C1588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609-1005-4ED5-83B3-B70A2A70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FD1-D5CF-449A-8A05-9CBCFFFA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1EF-E049-4C0A-9B25-FC821786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8C85-ABAE-45F5-8E9B-0CF1FBD3D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idingsmetho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idingsmethodes worden toegepast om mengsels weer uit elkaar te halen ofwel om de stoffen weer te sort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666880"/>
            <a:ext cx="3962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am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l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p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h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inken en afsche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atograf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90512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een mengsel van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e stof die niet opl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en vloeist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. Zand en water,  koolstof en water of zout en alcoh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 de vaste stof doo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oeistof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dat deze vloeist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e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an no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it mengsel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 op het filter blijft ligge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 door het filter loop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a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86360" y="2514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00800" y="3429000"/>
            <a:ext cx="195120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5334120" y="4190760"/>
            <a:ext cx="144756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181480" y="6095520"/>
            <a:ext cx="17528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057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een mengsel van een vaste stof di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l oplost in een vloeist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 zout e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mengsel noemen we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loss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t mengsel kun 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t filtr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doet het mengsel in een indampschaaltje en je laat het water helemaal verdampen. De opgeloste vaste stof hou je dan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28840" y="2414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029200" cy="350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1981080"/>
            <a:ext cx="25909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een mengsel v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ee vloeistoffe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moeten dan wel een verschillend kookpunt hebben. De vloeistof met h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ags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kpunt is h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lla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95320" y="4571640"/>
            <a:ext cx="129564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58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lleren ver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429000"/>
            <a:ext cx="6705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loeistof met h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g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okpunt is h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zie tek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koelvloeistof moet altijd v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ag naar hoo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lleren doe je ook bij een oplossing als je niet de vaste stof wilt overhouden maar ook de vloeistof. B.v. als je van  zout water drinkwater wilt ma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28840" y="2414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05320" cy="244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371240" y="1981080"/>
            <a:ext cx="662940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914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sorp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0866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pas je toe als in een vloeistof een klein beetje kleurstof zit of een andere opgeloste stof. Je voegt dan koolstof toe ( aktieve kool)die dan dat kleine beetje opzuigt(aan zich bind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arna moet je wel nog filtre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 de kleur uit spiritus hal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her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76520" y="2700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52880" cy="298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95680" y="1371600"/>
            <a:ext cx="41148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een mengsel van tw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e stoffe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moet dan wel een vloeistof kiezen waarin er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 opl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t opl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 zout en zand extraheren met water of jodium en zout extraheren met water of alcoh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257800"/>
            <a:ext cx="8381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j extraheren moet je een aantal handelingen verrich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  Vloeistof erbij doen zodat een vaste stof oplost.2.   filtreren  zodat de niet opgeloste stof op het filter blijft.3.   Het filtraat indampen om de andere vaste stof te krij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inken en afschenken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suspensies, als de vaste stof zo zwaar is dat hij naar de bodem wil zakke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32767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atograf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26708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mee kun je een mengsel van kleurstoffen schei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 de kleuren van een viltsti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kleuren moeten dan wel in de vloeistof willen oplo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loeistof = loopvloeistof.    Het papier = de d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56:29Z</dcterms:created>
  <dc:creator>Systeembeheer</dc:creator>
  <dc:description/>
  <dc:language>en-US</dc:language>
  <cp:lastModifiedBy>Systeembeheer</cp:lastModifiedBy>
  <dcterms:modified xsi:type="dcterms:W3CDTF">2004-04-18T19:17:19Z</dcterms:modified>
  <cp:revision>3</cp:revision>
  <dc:subject/>
  <dc:title>scheidingsmethoden</dc:title>
</cp:coreProperties>
</file>