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672-3847-4BE9-94B7-09C0E2CD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A68-25AA-41C2-8F6B-ACEE3296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125-86E4-42E0-80EC-5D2DBF6B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670-E87B-4CB4-B7A1-EE4AEA82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9F2-72CD-411A-9202-F65DD23E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F4A-D27A-459C-89A9-2DCEBF0F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145-1DF8-4D16-AF42-8480ACAC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F11-74B1-4F1B-9FBB-46E22061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6EE-EC7A-4C35-9021-6A13447D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103-3EB3-4A8B-A276-4781E9A9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AEE-A875-41C4-8F96-6A32E9C2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BFB-AF75-4FA6-989F-29238F59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FBF0-7909-4124-BB9C-31C7E1765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17880" y="2460600"/>
            <a:ext cx="3476160" cy="2958840"/>
            <a:chOff x="3017880" y="2460600"/>
            <a:chExt cx="3476160" cy="2958840"/>
          </a:xfrm>
        </p:grpSpPr>
        <p:sp>
          <p:nvSpPr>
            <p:cNvPr id="42" name=""/>
            <p:cNvSpPr/>
            <p:nvPr/>
          </p:nvSpPr>
          <p:spPr>
            <a:xfrm>
              <a:off x="3192480" y="3526560"/>
              <a:ext cx="3126960" cy="1892520"/>
            </a:xfrm>
            <a:custGeom>
              <a:avLst/>
              <a:gdLst/>
              <a:ahLst/>
              <a:rect l="l" t="t" r="r" b="b"/>
              <a:pathLst>
                <a:path w="1632" h="870">
                  <a:moveTo>
                    <a:pt x="0" y="0"/>
                  </a:moveTo>
                  <a:lnTo>
                    <a:pt x="0" y="780"/>
                  </a:lnTo>
                  <a:lnTo>
                    <a:pt x="45" y="870"/>
                  </a:lnTo>
                  <a:lnTo>
                    <a:pt x="1587" y="870"/>
                  </a:lnTo>
                  <a:lnTo>
                    <a:pt x="1632" y="780"/>
                  </a:lnTo>
                  <a:lnTo>
                    <a:pt x="16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17880" y="2460600"/>
              <a:ext cx="3476160" cy="2958840"/>
            </a:xfrm>
            <a:custGeom>
              <a:avLst/>
              <a:gdLst/>
              <a:ahLst/>
              <a:rect l="l" t="t" r="r" b="b"/>
              <a:pathLst>
                <a:path w="1814" h="1360">
                  <a:moveTo>
                    <a:pt x="0" y="0"/>
                  </a:moveTo>
                  <a:lnTo>
                    <a:pt x="91" y="136"/>
                  </a:lnTo>
                  <a:lnTo>
                    <a:pt x="91" y="1270"/>
                  </a:lnTo>
                  <a:lnTo>
                    <a:pt x="136" y="1360"/>
                  </a:lnTo>
                  <a:lnTo>
                    <a:pt x="1678" y="1360"/>
                  </a:lnTo>
                  <a:lnTo>
                    <a:pt x="1723" y="1270"/>
                  </a:lnTo>
                  <a:lnTo>
                    <a:pt x="1723" y="136"/>
                  </a:lnTo>
                  <a:lnTo>
                    <a:pt x="181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406760" y="417816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49560" y="37972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75120" y="42292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65560" y="441972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4040" y="49276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511812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2040" y="441972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57960" y="46245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5960" y="44578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488952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59400" y="44578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428004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89440" y="40258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7920" y="487692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391176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8560" y="507996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80240" y="448308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88000" y="495144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62440" y="414036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6600" y="373392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91040" y="43560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0920" y="379728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22760" y="487692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05240" y="3886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32480" y="37846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19440" y="405144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43480" y="36831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63960" y="45720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49467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89320" y="457200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1360" y="507996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69160" y="480060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6400" y="42292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64240" y="473724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9243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05240" y="513072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95800" y="497196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31000" y="518148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39960" y="546120"/>
            <a:ext cx="35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inken en afsche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1181160"/>
            <a:ext cx="2387880" cy="1028520"/>
          </a:xfrm>
          <a:prstGeom prst="wedgeRoundRectCallout">
            <a:avLst>
              <a:gd name="adj1" fmla="val -45347"/>
              <a:gd name="adj2" fmla="val 194907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ltjes bezi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400480"/>
            <a:ext cx="2070000" cy="1752480"/>
          </a:xfrm>
          <a:prstGeom prst="wedgeRoundRectCallout">
            <a:avLst>
              <a:gd name="adj1" fmla="val 82976"/>
              <a:gd name="adj2" fmla="val 30708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dere bovenlaag kun je afsche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4240" y="6019920"/>
            <a:ext cx="2387520" cy="596880"/>
          </a:xfrm>
          <a:prstGeom prst="wedgeRoundRectCallout">
            <a:avLst>
              <a:gd name="adj1" fmla="val 930"/>
              <a:gd name="adj2" fmla="val -142819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3120" y="485784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1680" y="509256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4.44444E-006 0.15185 E">
                                      <p:cBhvr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00052 0.11944 E">
                                      <p:cBhvr>
                                        <p:cTn id="13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7037E-007 L 0.00469 0.22153 E">
                                      <p:cBhvr>
                                        <p:cTn id="15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4 -0.01088 L -0.01112 0.12037 E">
                                      <p:cBhvr>
                                        <p:cTn id="17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4.44444E-006 0.19097 E">
                                      <p:cBhvr>
                                        <p:cTn id="19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3.33333E-006 0.15208 E">
                                      <p:cBhvr>
                                        <p:cTn id="21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0.00938 0.125 E">
                                      <p:cBhvr>
                                        <p:cTn id="23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00521 0.0375 E">
                                      <p:cBhvr>
                                        <p:cTn id="25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4.44444E-006 0.11736 E">
                                      <p:cBhvr>
                                        <p:cTn id="27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1.11111E-006 0.09653 E">
                                      <p:cBhvr>
                                        <p:cTn id="29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022E-016 L -4.44444E-006 0.10139 E">
                                      <p:cBhvr>
                                        <p:cTn id="31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0.00521 0.13611 E">
                                      <p:cBhvr>
                                        <p:cTn id="33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-2.22222E-006 0.21041 E">
                                      <p:cBhvr>
                                        <p:cTn id="35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222E-006 L -1.11111E-006 0.1875 E">
                                      <p:cBhvr>
                                        <p:cTn id="37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0.00052 0.19375 E">
                                      <p:cBhvr>
                                        <p:cTn id="39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00729 0.11459 E">
                                      <p:cBhvr>
                                        <p:cTn id="41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L 0.00261 0.08264 E">
                                      <p:cBhvr>
                                        <p:cTn id="43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-0.00729 0.08056 E">
                                      <p:cBhvr>
                                        <p:cTn id="45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00469 0.06875 E">
                                      <p:cBhvr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.01458 0.12291 E">
                                      <p:cBhvr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L 0.00938 0.15903 E">
                                      <p:cBhvr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0261 0.1618 E">
                                      <p:cBhvr>
                                        <p:cTn id="5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7407E-006 L -0.01094 0.17223 E">
                                      <p:cBhvr>
                                        <p:cTn id="55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022E-016 L -0.01458 0.15069 E">
                                      <p:cBhvr>
                                        <p:cTn id="57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22222E-006 L 0.01146 0.12916 E">
                                      <p:cBhvr>
                                        <p:cTn id="59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022E-016 L -2.22222E-006 0.14653 E">
                                      <p:cBhvr>
                                        <p:cTn id="61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022E-016 L 0.00261 0.03819 E">
                                      <p:cBhvr>
                                        <p:cTn id="63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268280"/>
            <a:ext cx="3206520" cy="2154240"/>
          </a:xfrm>
          <a:custGeom>
            <a:avLst/>
            <a:gdLst/>
            <a:ahLst/>
            <a:rect l="l" t="t" r="r" b="b"/>
            <a:pathLst>
              <a:path w="2020" h="1357">
                <a:moveTo>
                  <a:pt x="0" y="0"/>
                </a:moveTo>
                <a:lnTo>
                  <a:pt x="1019" y="1357"/>
                </a:lnTo>
                <a:lnTo>
                  <a:pt x="202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3480" y="542880"/>
            <a:ext cx="4313160" cy="2878200"/>
          </a:xfrm>
          <a:custGeom>
            <a:avLst/>
            <a:gdLst/>
            <a:ahLst/>
            <a:rect l="l" t="t" r="r" b="b"/>
            <a:pathLst>
              <a:path w="2717" h="1813">
                <a:moveTo>
                  <a:pt x="0" y="0"/>
                </a:moveTo>
                <a:lnTo>
                  <a:pt x="1361" y="1813"/>
                </a:lnTo>
                <a:lnTo>
                  <a:pt x="2717" y="5"/>
                </a:lnTo>
              </a:path>
            </a:pathLst>
          </a:custGeom>
          <a:noFill/>
          <a:ln w="2844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549360"/>
            <a:ext cx="2087640" cy="4319640"/>
          </a:xfrm>
          <a:custGeom>
            <a:avLst/>
            <a:gdLst/>
            <a:ahLst/>
            <a:rect l="l" t="t" r="r" b="b"/>
            <a:pathLst>
              <a:path w="1315" h="2721">
                <a:moveTo>
                  <a:pt x="0" y="0"/>
                </a:moveTo>
                <a:lnTo>
                  <a:pt x="1315" y="1769"/>
                </a:lnTo>
                <a:lnTo>
                  <a:pt x="1315" y="272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715640" y="549360"/>
            <a:ext cx="2087640" cy="4319640"/>
          </a:xfrm>
          <a:custGeom>
            <a:avLst/>
            <a:gdLst/>
            <a:ahLst/>
            <a:rect l="l" t="t" r="r" b="b"/>
            <a:pathLst>
              <a:path w="1315" h="2721">
                <a:moveTo>
                  <a:pt x="0" y="0"/>
                </a:moveTo>
                <a:lnTo>
                  <a:pt x="1315" y="1769"/>
                </a:lnTo>
                <a:lnTo>
                  <a:pt x="1315" y="272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4149720"/>
            <a:ext cx="2880000" cy="2158920"/>
          </a:xfrm>
          <a:custGeom>
            <a:avLst/>
            <a:gdLst/>
            <a:ahLst/>
            <a:rect l="l" t="t" r="r" b="b"/>
            <a:pathLst>
              <a:path w="1814" h="1360">
                <a:moveTo>
                  <a:pt x="0" y="0"/>
                </a:moveTo>
                <a:lnTo>
                  <a:pt x="91" y="136"/>
                </a:lnTo>
                <a:lnTo>
                  <a:pt x="91" y="1270"/>
                </a:lnTo>
                <a:lnTo>
                  <a:pt x="136" y="1360"/>
                </a:lnTo>
                <a:lnTo>
                  <a:pt x="1678" y="1360"/>
                </a:lnTo>
                <a:lnTo>
                  <a:pt x="1723" y="1270"/>
                </a:lnTo>
                <a:lnTo>
                  <a:pt x="1723" y="136"/>
                </a:lnTo>
                <a:lnTo>
                  <a:pt x="181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5589720"/>
            <a:ext cx="2590560" cy="718920"/>
          </a:xfrm>
          <a:custGeom>
            <a:avLst/>
            <a:gdLst/>
            <a:ahLst/>
            <a:rect l="l" t="t" r="r" b="b"/>
            <a:pathLst>
              <a:path w="1632" h="453">
                <a:moveTo>
                  <a:pt x="0" y="0"/>
                </a:moveTo>
                <a:lnTo>
                  <a:pt x="0" y="363"/>
                </a:lnTo>
                <a:lnTo>
                  <a:pt x="45" y="453"/>
                </a:lnTo>
                <a:lnTo>
                  <a:pt x="1587" y="453"/>
                </a:lnTo>
                <a:lnTo>
                  <a:pt x="1632" y="363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33987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25960" y="1346040"/>
            <a:ext cx="2349360" cy="1917720"/>
            <a:chOff x="3225960" y="1346040"/>
            <a:chExt cx="2349360" cy="1917720"/>
          </a:xfrm>
        </p:grpSpPr>
        <p:sp>
          <p:nvSpPr>
            <p:cNvPr id="96" name=""/>
            <p:cNvSpPr/>
            <p:nvPr/>
          </p:nvSpPr>
          <p:spPr>
            <a:xfrm>
              <a:off x="4191120" y="224784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19720" y="297180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18200" y="27176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4040" y="240012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73600" y="212076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94240" y="177804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4680" y="154944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25960" y="144792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27760" y="170172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8640" y="199368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8520" y="148572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0640" y="170172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0" y="22478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73880" y="275580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13560" y="139680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139680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46720" y="185400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61200" y="15620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13560" y="198108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78440" y="219708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07120" y="13460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94240" y="137160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96040" y="162540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45280" y="243828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64320" y="24764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10160" y="300996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96040" y="3149640"/>
              <a:ext cx="11412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276720" y="4927680"/>
            <a:ext cx="2590560" cy="1380960"/>
          </a:xfrm>
          <a:custGeom>
            <a:avLst/>
            <a:gdLst/>
            <a:ahLst/>
            <a:rect l="l" t="t" r="r" b="b"/>
            <a:pathLst>
              <a:path w="1632" h="870">
                <a:moveTo>
                  <a:pt x="0" y="0"/>
                </a:moveTo>
                <a:lnTo>
                  <a:pt x="0" y="780"/>
                </a:lnTo>
                <a:lnTo>
                  <a:pt x="45" y="870"/>
                </a:lnTo>
                <a:lnTo>
                  <a:pt x="1587" y="870"/>
                </a:lnTo>
                <a:lnTo>
                  <a:pt x="1632" y="780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665520" y="2185920"/>
            <a:ext cx="1665360" cy="1179720"/>
            <a:chOff x="3665520" y="2185920"/>
            <a:chExt cx="1665360" cy="1179720"/>
          </a:xfrm>
        </p:grpSpPr>
        <p:sp>
          <p:nvSpPr>
            <p:cNvPr id="125" name=""/>
            <p:cNvSpPr/>
            <p:nvPr/>
          </p:nvSpPr>
          <p:spPr>
            <a:xfrm>
              <a:off x="3738600" y="229860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44920" y="307332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35360" y="302256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45120" y="234936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65520" y="218592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16400" y="225252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67360" y="243828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70480" y="325116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9840" y="25160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24360" y="2502000"/>
              <a:ext cx="11412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22840" y="238428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6640" y="270684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95680" y="294624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303516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3960" y="267984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27600" y="27716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57640" y="281304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56000" y="290844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46440" y="288288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255200">
              <a:off x="4709880" y="292572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0680" y="2603520"/>
              <a:ext cx="11412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17840" y="281952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0280" y="259092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43360" y="281628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16320" y="290844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33840" y="312408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94160" y="316224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286680" y="1790640"/>
            <a:ext cx="2387520" cy="596880"/>
          </a:xfrm>
          <a:prstGeom prst="wedgeRoundRectCallout">
            <a:avLst>
              <a:gd name="adj1" fmla="val -93750"/>
              <a:gd name="adj2" fmla="val 3990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86680" y="1778040"/>
            <a:ext cx="2387520" cy="596880"/>
          </a:xfrm>
          <a:prstGeom prst="wedgeRoundRectCallout">
            <a:avLst>
              <a:gd name="adj1" fmla="val -108643"/>
              <a:gd name="adj2" fmla="val 123138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86680" y="2971800"/>
            <a:ext cx="2387520" cy="596880"/>
          </a:xfrm>
          <a:prstGeom prst="wedgeRoundRectCallout">
            <a:avLst>
              <a:gd name="adj1" fmla="val -86300"/>
              <a:gd name="adj2" fmla="val 333777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39960" y="54612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r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3.05556E-006 0.32708 E">
                                      <p:cBhvr>
                                        <p:cTn id="9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500"/>
                            </p:stCondLst>
                            <p:childTnLst>
                              <p:par>
                                <p:cTn id="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855960" y="4723920"/>
            <a:ext cx="1670040" cy="1409400"/>
            <a:chOff x="3855960" y="4723920"/>
            <a:chExt cx="1670040" cy="1409400"/>
          </a:xfrm>
        </p:grpSpPr>
        <p:grpSp>
          <p:nvGrpSpPr>
            <p:cNvPr id="157" name=""/>
            <p:cNvGrpSpPr/>
            <p:nvPr/>
          </p:nvGrpSpPr>
          <p:grpSpPr>
            <a:xfrm>
              <a:off x="3855960" y="4723920"/>
              <a:ext cx="156960" cy="1009800"/>
              <a:chOff x="3855960" y="4723920"/>
              <a:chExt cx="156960" cy="100980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3927240" y="472392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55960" y="486864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863960" y="4723920"/>
              <a:ext cx="156960" cy="1009800"/>
              <a:chOff x="4863960" y="4723920"/>
              <a:chExt cx="156960" cy="100980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4935240" y="472392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63960" y="486864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361040" y="4723920"/>
              <a:ext cx="156960" cy="1009800"/>
              <a:chOff x="4361040" y="4723920"/>
              <a:chExt cx="156960" cy="1009800"/>
            </a:xfrm>
          </p:grpSpPr>
          <p:sp>
            <p:nvSpPr>
              <p:cNvPr id="164" name=""/>
              <p:cNvSpPr/>
              <p:nvPr/>
            </p:nvSpPr>
            <p:spPr>
              <a:xfrm flipV="1">
                <a:off x="4432320" y="472392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61040" y="486864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369040" y="4723920"/>
              <a:ext cx="156960" cy="1009800"/>
              <a:chOff x="5369040" y="4723920"/>
              <a:chExt cx="156960" cy="100980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5440320" y="472392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69040" y="486864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044960" y="56736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arm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33880" y="2473200"/>
            <a:ext cx="2879640" cy="2159280"/>
          </a:xfrm>
          <a:custGeom>
            <a:avLst/>
            <a:gdLst/>
            <a:ahLst/>
            <a:rect l="l" t="t" r="r" b="b"/>
            <a:pathLst>
              <a:path w="1814" h="1360">
                <a:moveTo>
                  <a:pt x="0" y="0"/>
                </a:moveTo>
                <a:lnTo>
                  <a:pt x="91" y="136"/>
                </a:lnTo>
                <a:lnTo>
                  <a:pt x="91" y="1270"/>
                </a:lnTo>
                <a:lnTo>
                  <a:pt x="136" y="1360"/>
                </a:lnTo>
                <a:lnTo>
                  <a:pt x="1678" y="1360"/>
                </a:lnTo>
                <a:lnTo>
                  <a:pt x="1723" y="1270"/>
                </a:lnTo>
                <a:lnTo>
                  <a:pt x="1723" y="136"/>
                </a:lnTo>
                <a:lnTo>
                  <a:pt x="181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78240" y="3251160"/>
            <a:ext cx="2590920" cy="1381320"/>
          </a:xfrm>
          <a:custGeom>
            <a:avLst/>
            <a:gdLst/>
            <a:ahLst/>
            <a:rect l="l" t="t" r="r" b="b"/>
            <a:pathLst>
              <a:path w="1632" h="870">
                <a:moveTo>
                  <a:pt x="0" y="0"/>
                </a:moveTo>
                <a:lnTo>
                  <a:pt x="0" y="780"/>
                </a:lnTo>
                <a:lnTo>
                  <a:pt x="45" y="870"/>
                </a:lnTo>
                <a:lnTo>
                  <a:pt x="1587" y="870"/>
                </a:lnTo>
                <a:lnTo>
                  <a:pt x="1632" y="780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fe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78240" y="4489560"/>
            <a:ext cx="2590920" cy="142920"/>
          </a:xfrm>
          <a:custGeom>
            <a:avLst/>
            <a:gdLst/>
            <a:ahLst/>
            <a:rect l="l" t="t" r="r" b="b"/>
            <a:pathLst>
              <a:path w="1632" h="90">
                <a:moveTo>
                  <a:pt x="0" y="0"/>
                </a:moveTo>
                <a:lnTo>
                  <a:pt x="45" y="90"/>
                </a:lnTo>
                <a:lnTo>
                  <a:pt x="1587" y="90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5674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840120" y="1177920"/>
            <a:ext cx="1670040" cy="1515960"/>
            <a:chOff x="3840120" y="1177920"/>
            <a:chExt cx="1670040" cy="1515960"/>
          </a:xfrm>
        </p:grpSpPr>
        <p:grpSp>
          <p:nvGrpSpPr>
            <p:cNvPr id="174" name=""/>
            <p:cNvGrpSpPr/>
            <p:nvPr/>
          </p:nvGrpSpPr>
          <p:grpSpPr>
            <a:xfrm>
              <a:off x="3840120" y="1684080"/>
              <a:ext cx="1670040" cy="1009800"/>
              <a:chOff x="3840120" y="1684080"/>
              <a:chExt cx="1670040" cy="100980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840120" y="1684080"/>
                <a:ext cx="156960" cy="1009800"/>
                <a:chOff x="3840120" y="1684080"/>
                <a:chExt cx="156960" cy="1009800"/>
              </a:xfrm>
            </p:grpSpPr>
            <p:sp>
              <p:nvSpPr>
                <p:cNvPr id="176" name=""/>
                <p:cNvSpPr/>
                <p:nvPr/>
              </p:nvSpPr>
              <p:spPr>
                <a:xfrm flipV="1">
                  <a:off x="3911400" y="16840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40120" y="1828800"/>
                  <a:ext cx="156960" cy="8650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848120" y="1684080"/>
                <a:ext cx="156960" cy="1009800"/>
                <a:chOff x="4848120" y="1684080"/>
                <a:chExt cx="156960" cy="1009800"/>
              </a:xfrm>
            </p:grpSpPr>
            <p:sp>
              <p:nvSpPr>
                <p:cNvPr id="179" name=""/>
                <p:cNvSpPr/>
                <p:nvPr/>
              </p:nvSpPr>
              <p:spPr>
                <a:xfrm flipV="1">
                  <a:off x="4919400" y="16840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848120" y="1828800"/>
                  <a:ext cx="156960" cy="8650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344840" y="1684080"/>
                <a:ext cx="156960" cy="1009800"/>
                <a:chOff x="4344840" y="1684080"/>
                <a:chExt cx="156960" cy="100980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4416120" y="16840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44840" y="1828800"/>
                  <a:ext cx="156960" cy="8650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353200" y="1684080"/>
                <a:ext cx="156960" cy="1009800"/>
                <a:chOff x="5353200" y="1684080"/>
                <a:chExt cx="156960" cy="1009800"/>
              </a:xfrm>
            </p:grpSpPr>
            <p:sp>
              <p:nvSpPr>
                <p:cNvPr id="185" name=""/>
                <p:cNvSpPr/>
                <p:nvPr/>
              </p:nvSpPr>
              <p:spPr>
                <a:xfrm flipV="1">
                  <a:off x="5424480" y="16840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353200" y="1828800"/>
                  <a:ext cx="156960" cy="8650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3956040" y="117792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da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362640" y="3238560"/>
            <a:ext cx="2387520" cy="914400"/>
          </a:xfrm>
          <a:prstGeom prst="wedgeRoundRectCallout">
            <a:avLst>
              <a:gd name="adj1" fmla="val -73537"/>
              <a:gd name="adj2" fmla="val 90800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of kristallis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7760" y="558720"/>
            <a:ext cx="19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am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86680" y="1790640"/>
            <a:ext cx="2387520" cy="596880"/>
          </a:xfrm>
          <a:prstGeom prst="wedgeRoundRectCallout">
            <a:avLst>
              <a:gd name="adj1" fmla="val -67152"/>
              <a:gd name="adj2" fmla="val 212500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o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49560" y="3233880"/>
            <a:ext cx="4270320" cy="2458800"/>
          </a:xfrm>
          <a:custGeom>
            <a:avLst/>
            <a:gdLst/>
            <a:ahLst/>
            <a:rect l="l" t="t" r="r" b="b"/>
            <a:pathLst>
              <a:path w="1632" h="870">
                <a:moveTo>
                  <a:pt x="0" y="0"/>
                </a:moveTo>
                <a:lnTo>
                  <a:pt x="0" y="780"/>
                </a:lnTo>
                <a:lnTo>
                  <a:pt x="45" y="870"/>
                </a:lnTo>
                <a:lnTo>
                  <a:pt x="1587" y="870"/>
                </a:lnTo>
                <a:lnTo>
                  <a:pt x="1632" y="780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fe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38400" y="3222720"/>
            <a:ext cx="4270320" cy="2458800"/>
          </a:xfrm>
          <a:custGeom>
            <a:avLst/>
            <a:gdLst/>
            <a:ahLst/>
            <a:rect l="l" t="t" r="r" b="b"/>
            <a:pathLst>
              <a:path w="1632" h="870">
                <a:moveTo>
                  <a:pt x="0" y="0"/>
                </a:moveTo>
                <a:lnTo>
                  <a:pt x="0" y="780"/>
                </a:lnTo>
                <a:lnTo>
                  <a:pt x="45" y="870"/>
                </a:lnTo>
                <a:lnTo>
                  <a:pt x="1587" y="870"/>
                </a:lnTo>
                <a:lnTo>
                  <a:pt x="1632" y="780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74840" y="4884840"/>
            <a:ext cx="4017600" cy="745200"/>
            <a:chOff x="2274840" y="4884840"/>
            <a:chExt cx="4017600" cy="745200"/>
          </a:xfrm>
        </p:grpSpPr>
        <p:sp>
          <p:nvSpPr>
            <p:cNvPr id="194" name=""/>
            <p:cNvSpPr/>
            <p:nvPr/>
          </p:nvSpPr>
          <p:spPr>
            <a:xfrm>
              <a:off x="5685480" y="538128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88400" y="535896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74480" y="538128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74840" y="535896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95000" y="535896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4520" y="538128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61840" y="517284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00480" y="511056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14040" y="5178600"/>
              <a:ext cx="18792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14040" y="5336640"/>
              <a:ext cx="18792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09280" y="4930200"/>
              <a:ext cx="18828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39320" y="504288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18440" y="538128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64960" y="538128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90960" y="5088240"/>
              <a:ext cx="18792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1960" y="5088240"/>
              <a:ext cx="18828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26680" y="488484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08920" y="502020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62400" y="542664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90600" y="535896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07080" y="502020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88400" y="5178600"/>
              <a:ext cx="18792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52880" y="511056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8280" y="529092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6280" y="542664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81440" y="5184360"/>
              <a:ext cx="18792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88400" y="535896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00080" y="1838160"/>
            <a:ext cx="4746960" cy="3843360"/>
          </a:xfrm>
          <a:custGeom>
            <a:avLst/>
            <a:gdLst/>
            <a:ahLst/>
            <a:rect l="l" t="t" r="r" b="b"/>
            <a:pathLst>
              <a:path w="1814" h="1360">
                <a:moveTo>
                  <a:pt x="0" y="0"/>
                </a:moveTo>
                <a:lnTo>
                  <a:pt x="91" y="136"/>
                </a:lnTo>
                <a:lnTo>
                  <a:pt x="91" y="1270"/>
                </a:lnTo>
                <a:lnTo>
                  <a:pt x="136" y="1360"/>
                </a:lnTo>
                <a:lnTo>
                  <a:pt x="1678" y="1360"/>
                </a:lnTo>
                <a:lnTo>
                  <a:pt x="1723" y="1270"/>
                </a:lnTo>
                <a:lnTo>
                  <a:pt x="1723" y="136"/>
                </a:lnTo>
                <a:lnTo>
                  <a:pt x="181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20840" y="4800960"/>
            <a:ext cx="3958920" cy="835560"/>
            <a:chOff x="2220840" y="4800960"/>
            <a:chExt cx="3958920" cy="835560"/>
          </a:xfrm>
        </p:grpSpPr>
        <p:sp>
          <p:nvSpPr>
            <p:cNvPr id="223" name=""/>
            <p:cNvSpPr/>
            <p:nvPr/>
          </p:nvSpPr>
          <p:spPr>
            <a:xfrm rot="21471000">
              <a:off x="5425560" y="5133240"/>
              <a:ext cx="18864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1471000">
              <a:off x="3671640" y="4990680"/>
              <a:ext cx="18792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1471000">
              <a:off x="3181320" y="5184720"/>
              <a:ext cx="18792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1471000">
              <a:off x="2604600" y="5019840"/>
              <a:ext cx="18792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1471000">
              <a:off x="5699520" y="518040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1471000">
              <a:off x="5987160" y="5158080"/>
              <a:ext cx="18864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1471000">
              <a:off x="2971080" y="5429880"/>
              <a:ext cx="18792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1471000">
              <a:off x="2224440" y="5214960"/>
              <a:ext cx="18792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1471000">
              <a:off x="3360600" y="4804200"/>
              <a:ext cx="18864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1471000">
              <a:off x="5012280" y="542088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21471000">
              <a:off x="3352320" y="542088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1471000">
              <a:off x="4179600" y="5412600"/>
              <a:ext cx="18792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1471000">
              <a:off x="4418640" y="4946040"/>
              <a:ext cx="18792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1471000">
              <a:off x="3793320" y="5166720"/>
              <a:ext cx="18792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471000">
              <a:off x="4747320" y="5193360"/>
              <a:ext cx="18792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1471000">
              <a:off x="5809680" y="504576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1471000">
              <a:off x="2782080" y="541980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1471000">
              <a:off x="5530680" y="5423760"/>
              <a:ext cx="18864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1471000">
              <a:off x="5084280" y="4959720"/>
              <a:ext cx="18864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1471000">
              <a:off x="5133960" y="5156280"/>
              <a:ext cx="18792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1471000">
              <a:off x="2451600" y="542088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1471000">
              <a:off x="2819160" y="5022360"/>
              <a:ext cx="18864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1471000">
              <a:off x="4806360" y="4947840"/>
              <a:ext cx="18792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1471000">
              <a:off x="3671280" y="540900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1471000">
              <a:off x="4177440" y="508464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21471000">
              <a:off x="3400200" y="516456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21471000">
              <a:off x="2402640" y="495324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939960" y="54612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h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20880" y="6051600"/>
            <a:ext cx="234720" cy="235080"/>
          </a:xfrm>
          <a:prstGeom prst="ellipse">
            <a:avLst/>
          </a:prstGeom>
          <a:solidFill>
            <a:srgbClr val="567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27320" y="5950080"/>
            <a:ext cx="21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plo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6039000"/>
            <a:ext cx="235080" cy="23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15080" y="593712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iet oplo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546120"/>
            <a:ext cx="2870280" cy="1295280"/>
          </a:xfrm>
          <a:prstGeom prst="wedgeRoundRectCallout">
            <a:avLst>
              <a:gd name="adj1" fmla="val -18694"/>
              <a:gd name="adj2" fmla="val 137620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osmiddel trekt groene stof uit meng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56480" y="3683160"/>
            <a:ext cx="2019240" cy="914400"/>
          </a:xfrm>
          <a:prstGeom prst="wedgeRoundRectCallout">
            <a:avLst>
              <a:gd name="adj1" fmla="val -72171"/>
              <a:gd name="adj2" fmla="val 128300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e stof lost niet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2514600" y="2289240"/>
            <a:ext cx="4098960" cy="3111480"/>
            <a:chOff x="2514600" y="2289240"/>
            <a:chExt cx="4098960" cy="3111480"/>
          </a:xfrm>
        </p:grpSpPr>
        <p:sp>
          <p:nvSpPr>
            <p:cNvPr id="258" name=""/>
            <p:cNvSpPr/>
            <p:nvPr/>
          </p:nvSpPr>
          <p:spPr>
            <a:xfrm>
              <a:off x="2514600" y="2289240"/>
              <a:ext cx="4098960" cy="3111480"/>
            </a:xfrm>
            <a:custGeom>
              <a:avLst/>
              <a:gdLst/>
              <a:ahLst/>
              <a:rect l="l" t="t" r="r" b="b"/>
              <a:pathLst>
                <a:path w="1814" h="1360">
                  <a:moveTo>
                    <a:pt x="0" y="0"/>
                  </a:moveTo>
                  <a:lnTo>
                    <a:pt x="91" y="136"/>
                  </a:lnTo>
                  <a:lnTo>
                    <a:pt x="91" y="1270"/>
                  </a:lnTo>
                  <a:lnTo>
                    <a:pt x="136" y="1360"/>
                  </a:lnTo>
                  <a:lnTo>
                    <a:pt x="1678" y="1360"/>
                  </a:lnTo>
                  <a:lnTo>
                    <a:pt x="1723" y="1270"/>
                  </a:lnTo>
                  <a:lnTo>
                    <a:pt x="1723" y="136"/>
                  </a:lnTo>
                  <a:lnTo>
                    <a:pt x="181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21240" y="3409920"/>
              <a:ext cx="3686040" cy="1990800"/>
            </a:xfrm>
            <a:custGeom>
              <a:avLst/>
              <a:gdLst/>
              <a:ahLst/>
              <a:rect l="l" t="t" r="r" b="b"/>
              <a:pathLst>
                <a:path w="1632" h="870">
                  <a:moveTo>
                    <a:pt x="0" y="0"/>
                  </a:moveTo>
                  <a:lnTo>
                    <a:pt x="0" y="780"/>
                  </a:lnTo>
                  <a:lnTo>
                    <a:pt x="45" y="870"/>
                  </a:lnTo>
                  <a:lnTo>
                    <a:pt x="1587" y="870"/>
                  </a:lnTo>
                  <a:lnTo>
                    <a:pt x="1632" y="780"/>
                  </a:lnTo>
                  <a:lnTo>
                    <a:pt x="16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f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74880" y="55728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sorb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20880" y="3424320"/>
            <a:ext cx="3686400" cy="1990800"/>
          </a:xfrm>
          <a:custGeom>
            <a:avLst/>
            <a:gdLst/>
            <a:ahLst/>
            <a:rect l="l" t="t" r="r" b="b"/>
            <a:pathLst>
              <a:path w="1632" h="870">
                <a:moveTo>
                  <a:pt x="0" y="0"/>
                </a:moveTo>
                <a:lnTo>
                  <a:pt x="0" y="780"/>
                </a:lnTo>
                <a:lnTo>
                  <a:pt x="45" y="870"/>
                </a:lnTo>
                <a:lnTo>
                  <a:pt x="1587" y="870"/>
                </a:lnTo>
                <a:lnTo>
                  <a:pt x="1632" y="780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044880" y="3548160"/>
            <a:ext cx="3123720" cy="1751760"/>
            <a:chOff x="3044880" y="3548160"/>
            <a:chExt cx="3123720" cy="1751760"/>
          </a:xfrm>
        </p:grpSpPr>
        <p:sp>
          <p:nvSpPr>
            <p:cNvPr id="263" name=""/>
            <p:cNvSpPr/>
            <p:nvPr/>
          </p:nvSpPr>
          <p:spPr>
            <a:xfrm>
              <a:off x="4274640" y="42966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62560" y="371268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30520" y="455220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4560" y="4241880"/>
              <a:ext cx="14544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83400" y="4916880"/>
              <a:ext cx="14580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30520" y="5117760"/>
              <a:ext cx="14544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02760" y="394992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18160" y="46980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87440" y="4114080"/>
              <a:ext cx="14544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4080" y="49356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9440" y="4661280"/>
              <a:ext cx="14580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39960" y="42786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80160" y="40410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42080" y="493560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81480" y="3876480"/>
              <a:ext cx="14544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26920" y="4898880"/>
              <a:ext cx="14580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22800" y="46980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513612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27880" y="4004280"/>
              <a:ext cx="14580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22280" y="36216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89880" y="4515480"/>
              <a:ext cx="14544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69400" y="371268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1840" y="502668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29200" y="362160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4720" y="369432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42080" y="407772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4880" y="3548160"/>
              <a:ext cx="14580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036960" y="3543480"/>
            <a:ext cx="3134880" cy="1764720"/>
            <a:chOff x="3036960" y="3543480"/>
            <a:chExt cx="3134880" cy="1764720"/>
          </a:xfrm>
        </p:grpSpPr>
        <p:sp>
          <p:nvSpPr>
            <p:cNvPr id="291" name=""/>
            <p:cNvSpPr/>
            <p:nvPr/>
          </p:nvSpPr>
          <p:spPr>
            <a:xfrm>
              <a:off x="3138480" y="492588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25840" y="511308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78000" y="491328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20800" y="454176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63920" y="501804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35240" y="407016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20960" y="423684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92320" y="394164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35480" y="465588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68520" y="428472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8960" y="370368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36960" y="354348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22720" y="361476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5440" y="370512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24440" y="361620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24280" y="399240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76800" y="386856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34000" y="368280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71880" y="403056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86360" y="410688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38520" y="427356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86280" y="450684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43360" y="493056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19720" y="4892760"/>
              <a:ext cx="151920" cy="17712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19600" y="468792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560" y="469260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19600" y="513072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915240" y="1039680"/>
            <a:ext cx="2019240" cy="1292400"/>
          </a:xfrm>
          <a:prstGeom prst="wedgeRoundRectCallout">
            <a:avLst>
              <a:gd name="adj1" fmla="val -91430"/>
              <a:gd name="adj2" fmla="val 14495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sorbeer-middel toevo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7680" y="5864400"/>
            <a:ext cx="2387520" cy="596880"/>
          </a:xfrm>
          <a:prstGeom prst="wedgeRoundRectCallout">
            <a:avLst>
              <a:gd name="adj1" fmla="val 62898"/>
              <a:gd name="adj2" fmla="val -167287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o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83480" y="3679920"/>
            <a:ext cx="2178000" cy="1611360"/>
          </a:xfrm>
          <a:prstGeom prst="wedgeRoundRectCallout">
            <a:avLst>
              <a:gd name="adj1" fmla="val -77115"/>
              <a:gd name="adj2" fmla="val 16995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gehecht 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sorbeer-mid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373480" y="4471920"/>
            <a:ext cx="1739880" cy="647640"/>
          </a:xfrm>
          <a:custGeom>
            <a:avLst/>
            <a:gdLst/>
            <a:ahLst/>
            <a:rect l="l" t="t" r="r" b="b"/>
            <a:pathLst>
              <a:path w="1096" h="408">
                <a:moveTo>
                  <a:pt x="16" y="43"/>
                </a:moveTo>
                <a:cubicBezTo>
                  <a:pt x="20" y="54"/>
                  <a:pt x="27" y="69"/>
                  <a:pt x="33" y="82"/>
                </a:cubicBezTo>
                <a:cubicBezTo>
                  <a:pt x="39" y="95"/>
                  <a:pt x="44" y="108"/>
                  <a:pt x="51" y="119"/>
                </a:cubicBezTo>
                <a:cubicBezTo>
                  <a:pt x="58" y="130"/>
                  <a:pt x="66" y="137"/>
                  <a:pt x="73" y="148"/>
                </a:cubicBezTo>
                <a:cubicBezTo>
                  <a:pt x="80" y="159"/>
                  <a:pt x="87" y="174"/>
                  <a:pt x="94" y="184"/>
                </a:cubicBezTo>
                <a:cubicBezTo>
                  <a:pt x="101" y="194"/>
                  <a:pt x="110" y="199"/>
                  <a:pt x="118" y="208"/>
                </a:cubicBezTo>
                <a:cubicBezTo>
                  <a:pt x="126" y="217"/>
                  <a:pt x="131" y="228"/>
                  <a:pt x="142" y="239"/>
                </a:cubicBezTo>
                <a:cubicBezTo>
                  <a:pt x="153" y="250"/>
                  <a:pt x="171" y="263"/>
                  <a:pt x="184" y="274"/>
                </a:cubicBezTo>
                <a:cubicBezTo>
                  <a:pt x="197" y="285"/>
                  <a:pt x="209" y="298"/>
                  <a:pt x="220" y="306"/>
                </a:cubicBezTo>
                <a:cubicBezTo>
                  <a:pt x="231" y="314"/>
                  <a:pt x="240" y="315"/>
                  <a:pt x="251" y="321"/>
                </a:cubicBezTo>
                <a:cubicBezTo>
                  <a:pt x="262" y="327"/>
                  <a:pt x="272" y="337"/>
                  <a:pt x="288" y="345"/>
                </a:cubicBezTo>
                <a:cubicBezTo>
                  <a:pt x="304" y="353"/>
                  <a:pt x="332" y="365"/>
                  <a:pt x="349" y="371"/>
                </a:cubicBezTo>
                <a:cubicBezTo>
                  <a:pt x="366" y="377"/>
                  <a:pt x="377" y="380"/>
                  <a:pt x="392" y="384"/>
                </a:cubicBezTo>
                <a:cubicBezTo>
                  <a:pt x="407" y="388"/>
                  <a:pt x="424" y="394"/>
                  <a:pt x="440" y="397"/>
                </a:cubicBezTo>
                <a:cubicBezTo>
                  <a:pt x="456" y="400"/>
                  <a:pt x="476" y="398"/>
                  <a:pt x="490" y="400"/>
                </a:cubicBezTo>
                <a:cubicBezTo>
                  <a:pt x="504" y="402"/>
                  <a:pt x="510" y="408"/>
                  <a:pt x="527" y="408"/>
                </a:cubicBezTo>
                <a:cubicBezTo>
                  <a:pt x="544" y="408"/>
                  <a:pt x="573" y="404"/>
                  <a:pt x="592" y="402"/>
                </a:cubicBezTo>
                <a:cubicBezTo>
                  <a:pt x="611" y="400"/>
                  <a:pt x="627" y="399"/>
                  <a:pt x="640" y="398"/>
                </a:cubicBezTo>
                <a:cubicBezTo>
                  <a:pt x="653" y="397"/>
                  <a:pt x="660" y="396"/>
                  <a:pt x="673" y="393"/>
                </a:cubicBezTo>
                <a:cubicBezTo>
                  <a:pt x="686" y="390"/>
                  <a:pt x="705" y="383"/>
                  <a:pt x="720" y="378"/>
                </a:cubicBezTo>
                <a:cubicBezTo>
                  <a:pt x="735" y="373"/>
                  <a:pt x="749" y="366"/>
                  <a:pt x="762" y="361"/>
                </a:cubicBezTo>
                <a:cubicBezTo>
                  <a:pt x="775" y="356"/>
                  <a:pt x="784" y="353"/>
                  <a:pt x="797" y="347"/>
                </a:cubicBezTo>
                <a:cubicBezTo>
                  <a:pt x="810" y="341"/>
                  <a:pt x="826" y="330"/>
                  <a:pt x="840" y="322"/>
                </a:cubicBezTo>
                <a:cubicBezTo>
                  <a:pt x="854" y="314"/>
                  <a:pt x="869" y="305"/>
                  <a:pt x="881" y="297"/>
                </a:cubicBezTo>
                <a:cubicBezTo>
                  <a:pt x="893" y="289"/>
                  <a:pt x="900" y="283"/>
                  <a:pt x="912" y="272"/>
                </a:cubicBezTo>
                <a:cubicBezTo>
                  <a:pt x="924" y="261"/>
                  <a:pt x="941" y="244"/>
                  <a:pt x="953" y="232"/>
                </a:cubicBezTo>
                <a:cubicBezTo>
                  <a:pt x="965" y="220"/>
                  <a:pt x="972" y="216"/>
                  <a:pt x="983" y="202"/>
                </a:cubicBezTo>
                <a:cubicBezTo>
                  <a:pt x="994" y="188"/>
                  <a:pt x="1011" y="166"/>
                  <a:pt x="1022" y="150"/>
                </a:cubicBezTo>
                <a:cubicBezTo>
                  <a:pt x="1033" y="134"/>
                  <a:pt x="1040" y="119"/>
                  <a:pt x="1048" y="104"/>
                </a:cubicBezTo>
                <a:cubicBezTo>
                  <a:pt x="1056" y="89"/>
                  <a:pt x="1065" y="69"/>
                  <a:pt x="1070" y="58"/>
                </a:cubicBezTo>
                <a:cubicBezTo>
                  <a:pt x="1075" y="47"/>
                  <a:pt x="1076" y="42"/>
                  <a:pt x="1079" y="35"/>
                </a:cubicBezTo>
                <a:cubicBezTo>
                  <a:pt x="1082" y="28"/>
                  <a:pt x="1084" y="22"/>
                  <a:pt x="1086" y="17"/>
                </a:cubicBezTo>
                <a:cubicBezTo>
                  <a:pt x="1088" y="12"/>
                  <a:pt x="1096" y="4"/>
                  <a:pt x="1092" y="2"/>
                </a:cubicBezTo>
                <a:cubicBezTo>
                  <a:pt x="1088" y="0"/>
                  <a:pt x="1080" y="4"/>
                  <a:pt x="1064" y="4"/>
                </a:cubicBezTo>
                <a:cubicBezTo>
                  <a:pt x="1048" y="4"/>
                  <a:pt x="1020" y="4"/>
                  <a:pt x="996" y="4"/>
                </a:cubicBezTo>
                <a:cubicBezTo>
                  <a:pt x="972" y="4"/>
                  <a:pt x="946" y="4"/>
                  <a:pt x="918" y="4"/>
                </a:cubicBezTo>
                <a:cubicBezTo>
                  <a:pt x="890" y="4"/>
                  <a:pt x="857" y="4"/>
                  <a:pt x="827" y="4"/>
                </a:cubicBezTo>
                <a:cubicBezTo>
                  <a:pt x="797" y="4"/>
                  <a:pt x="770" y="4"/>
                  <a:pt x="735" y="4"/>
                </a:cubicBezTo>
                <a:cubicBezTo>
                  <a:pt x="700" y="4"/>
                  <a:pt x="652" y="4"/>
                  <a:pt x="614" y="4"/>
                </a:cubicBezTo>
                <a:cubicBezTo>
                  <a:pt x="576" y="4"/>
                  <a:pt x="536" y="4"/>
                  <a:pt x="507" y="4"/>
                </a:cubicBezTo>
                <a:cubicBezTo>
                  <a:pt x="478" y="4"/>
                  <a:pt x="460" y="4"/>
                  <a:pt x="438" y="4"/>
                </a:cubicBezTo>
                <a:cubicBezTo>
                  <a:pt x="416" y="4"/>
                  <a:pt x="399" y="4"/>
                  <a:pt x="377" y="4"/>
                </a:cubicBezTo>
                <a:cubicBezTo>
                  <a:pt x="355" y="4"/>
                  <a:pt x="326" y="4"/>
                  <a:pt x="305" y="4"/>
                </a:cubicBezTo>
                <a:cubicBezTo>
                  <a:pt x="284" y="4"/>
                  <a:pt x="269" y="4"/>
                  <a:pt x="249" y="4"/>
                </a:cubicBezTo>
                <a:cubicBezTo>
                  <a:pt x="229" y="4"/>
                  <a:pt x="204" y="4"/>
                  <a:pt x="183" y="4"/>
                </a:cubicBezTo>
                <a:cubicBezTo>
                  <a:pt x="162" y="4"/>
                  <a:pt x="138" y="4"/>
                  <a:pt x="120" y="4"/>
                </a:cubicBezTo>
                <a:cubicBezTo>
                  <a:pt x="102" y="4"/>
                  <a:pt x="89" y="4"/>
                  <a:pt x="77" y="4"/>
                </a:cubicBezTo>
                <a:cubicBezTo>
                  <a:pt x="65" y="4"/>
                  <a:pt x="58" y="4"/>
                  <a:pt x="49" y="4"/>
                </a:cubicBezTo>
                <a:cubicBezTo>
                  <a:pt x="40" y="4"/>
                  <a:pt x="33" y="4"/>
                  <a:pt x="25" y="4"/>
                </a:cubicBezTo>
                <a:cubicBezTo>
                  <a:pt x="17" y="4"/>
                  <a:pt x="6" y="2"/>
                  <a:pt x="3" y="4"/>
                </a:cubicBezTo>
                <a:cubicBezTo>
                  <a:pt x="0" y="6"/>
                  <a:pt x="6" y="12"/>
                  <a:pt x="7" y="17"/>
                </a:cubicBezTo>
                <a:cubicBezTo>
                  <a:pt x="8" y="22"/>
                  <a:pt x="12" y="32"/>
                  <a:pt x="16" y="43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41440" y="3317760"/>
            <a:ext cx="1800360" cy="180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68520" y="1378080"/>
            <a:ext cx="4253040" cy="1960560"/>
          </a:xfrm>
          <a:custGeom>
            <a:avLst/>
            <a:gdLst/>
            <a:ahLst/>
            <a:rect l="l" t="t" r="r" b="b"/>
            <a:pathLst>
              <a:path w="2679" h="1235">
                <a:moveTo>
                  <a:pt x="9" y="1235"/>
                </a:moveTo>
                <a:cubicBezTo>
                  <a:pt x="9" y="950"/>
                  <a:pt x="9" y="666"/>
                  <a:pt x="9" y="486"/>
                </a:cubicBezTo>
                <a:cubicBezTo>
                  <a:pt x="9" y="306"/>
                  <a:pt x="0" y="232"/>
                  <a:pt x="9" y="156"/>
                </a:cubicBezTo>
                <a:cubicBezTo>
                  <a:pt x="18" y="80"/>
                  <a:pt x="31" y="50"/>
                  <a:pt x="60" y="29"/>
                </a:cubicBezTo>
                <a:cubicBezTo>
                  <a:pt x="89" y="8"/>
                  <a:pt x="108" y="7"/>
                  <a:pt x="186" y="29"/>
                </a:cubicBezTo>
                <a:cubicBezTo>
                  <a:pt x="264" y="51"/>
                  <a:pt x="116" y="0"/>
                  <a:pt x="531" y="158"/>
                </a:cubicBezTo>
                <a:cubicBezTo>
                  <a:pt x="946" y="316"/>
                  <a:pt x="2232" y="808"/>
                  <a:pt x="2679" y="97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05000" y="920880"/>
            <a:ext cx="4588200" cy="2417760"/>
          </a:xfrm>
          <a:custGeom>
            <a:avLst/>
            <a:gdLst/>
            <a:ahLst/>
            <a:rect l="l" t="t" r="r" b="b"/>
            <a:pathLst>
              <a:path w="2890" h="1523">
                <a:moveTo>
                  <a:pt x="1" y="1523"/>
                </a:moveTo>
                <a:cubicBezTo>
                  <a:pt x="2" y="1354"/>
                  <a:pt x="8" y="725"/>
                  <a:pt x="9" y="499"/>
                </a:cubicBezTo>
                <a:cubicBezTo>
                  <a:pt x="10" y="273"/>
                  <a:pt x="0" y="245"/>
                  <a:pt x="9" y="169"/>
                </a:cubicBezTo>
                <a:cubicBezTo>
                  <a:pt x="18" y="93"/>
                  <a:pt x="31" y="63"/>
                  <a:pt x="60" y="42"/>
                </a:cubicBezTo>
                <a:cubicBezTo>
                  <a:pt x="89" y="21"/>
                  <a:pt x="108" y="20"/>
                  <a:pt x="186" y="42"/>
                </a:cubicBezTo>
                <a:cubicBezTo>
                  <a:pt x="264" y="64"/>
                  <a:pt x="80" y="0"/>
                  <a:pt x="531" y="171"/>
                </a:cubicBezTo>
                <a:cubicBezTo>
                  <a:pt x="982" y="342"/>
                  <a:pt x="2399" y="880"/>
                  <a:pt x="2890" y="106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17960" y="3290760"/>
            <a:ext cx="2570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665440" y="5175000"/>
            <a:ext cx="1484280" cy="1437840"/>
            <a:chOff x="2665440" y="5175000"/>
            <a:chExt cx="1484280" cy="1437840"/>
          </a:xfrm>
        </p:grpSpPr>
        <p:grpSp>
          <p:nvGrpSpPr>
            <p:cNvPr id="327" name=""/>
            <p:cNvGrpSpPr/>
            <p:nvPr/>
          </p:nvGrpSpPr>
          <p:grpSpPr>
            <a:xfrm>
              <a:off x="2665440" y="5175000"/>
              <a:ext cx="156960" cy="1009800"/>
              <a:chOff x="2665440" y="5175000"/>
              <a:chExt cx="156960" cy="1009800"/>
            </a:xfrm>
          </p:grpSpPr>
          <p:sp>
            <p:nvSpPr>
              <p:cNvPr id="328" name=""/>
              <p:cNvSpPr/>
              <p:nvPr/>
            </p:nvSpPr>
            <p:spPr>
              <a:xfrm flipV="1">
                <a:off x="2736720" y="517500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665440" y="531972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673440" y="5175000"/>
              <a:ext cx="156960" cy="1009800"/>
              <a:chOff x="3673440" y="5175000"/>
              <a:chExt cx="156960" cy="100980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3744720" y="517500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73440" y="531972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170160" y="5175000"/>
              <a:ext cx="156960" cy="1009800"/>
              <a:chOff x="3170160" y="5175000"/>
              <a:chExt cx="156960" cy="1009800"/>
            </a:xfrm>
          </p:grpSpPr>
          <p:sp>
            <p:nvSpPr>
              <p:cNvPr id="334" name=""/>
              <p:cNvSpPr/>
              <p:nvPr/>
            </p:nvSpPr>
            <p:spPr>
              <a:xfrm flipV="1">
                <a:off x="3241440" y="517500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170160" y="531972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709720" y="615312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arm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722680" y="3338640"/>
            <a:ext cx="1074240" cy="1094760"/>
            <a:chOff x="2722680" y="3338640"/>
            <a:chExt cx="1074240" cy="1094760"/>
          </a:xfrm>
        </p:grpSpPr>
        <p:grpSp>
          <p:nvGrpSpPr>
            <p:cNvPr id="338" name=""/>
            <p:cNvGrpSpPr/>
            <p:nvPr/>
          </p:nvGrpSpPr>
          <p:grpSpPr>
            <a:xfrm>
              <a:off x="2722680" y="3743280"/>
              <a:ext cx="1074240" cy="690120"/>
              <a:chOff x="2722680" y="3743280"/>
              <a:chExt cx="1074240" cy="69012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722680" y="3743280"/>
                <a:ext cx="101160" cy="690120"/>
                <a:chOff x="2722680" y="3743280"/>
                <a:chExt cx="101160" cy="690120"/>
              </a:xfrm>
            </p:grpSpPr>
            <p:sp>
              <p:nvSpPr>
                <p:cNvPr id="340" name=""/>
                <p:cNvSpPr/>
                <p:nvPr/>
              </p:nvSpPr>
              <p:spPr>
                <a:xfrm flipV="1">
                  <a:off x="2768400" y="3743280"/>
                  <a:ext cx="0" cy="9864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722680" y="3841920"/>
                  <a:ext cx="10116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371040" y="3743280"/>
                <a:ext cx="101160" cy="690120"/>
                <a:chOff x="3371040" y="3743280"/>
                <a:chExt cx="101160" cy="690120"/>
              </a:xfrm>
            </p:grpSpPr>
            <p:sp>
              <p:nvSpPr>
                <p:cNvPr id="343" name=""/>
                <p:cNvSpPr/>
                <p:nvPr/>
              </p:nvSpPr>
              <p:spPr>
                <a:xfrm flipV="1">
                  <a:off x="3416760" y="3743280"/>
                  <a:ext cx="0" cy="9864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371040" y="3841920"/>
                  <a:ext cx="10116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047400" y="3743280"/>
                <a:ext cx="101160" cy="690120"/>
                <a:chOff x="3047400" y="3743280"/>
                <a:chExt cx="101160" cy="690120"/>
              </a:xfrm>
            </p:grpSpPr>
            <p:sp>
              <p:nvSpPr>
                <p:cNvPr id="346" name=""/>
                <p:cNvSpPr/>
                <p:nvPr/>
              </p:nvSpPr>
              <p:spPr>
                <a:xfrm flipV="1">
                  <a:off x="3093120" y="3743280"/>
                  <a:ext cx="0" cy="9864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047400" y="3841920"/>
                  <a:ext cx="10116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3696120" y="3743280"/>
                <a:ext cx="100800" cy="690120"/>
                <a:chOff x="3696120" y="3743280"/>
                <a:chExt cx="100800" cy="690120"/>
              </a:xfrm>
            </p:grpSpPr>
            <p:sp>
              <p:nvSpPr>
                <p:cNvPr id="349" name=""/>
                <p:cNvSpPr/>
                <p:nvPr/>
              </p:nvSpPr>
              <p:spPr>
                <a:xfrm flipV="1">
                  <a:off x="3741840" y="3743280"/>
                  <a:ext cx="0" cy="9864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696120" y="3841920"/>
                  <a:ext cx="10080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2736720" y="3338640"/>
              <a:ext cx="10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da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198960" y="2593800"/>
            <a:ext cx="101520" cy="690480"/>
            <a:chOff x="3198960" y="2593800"/>
            <a:chExt cx="101520" cy="690480"/>
          </a:xfrm>
        </p:grpSpPr>
        <p:sp>
          <p:nvSpPr>
            <p:cNvPr id="353" name=""/>
            <p:cNvSpPr/>
            <p:nvPr/>
          </p:nvSpPr>
          <p:spPr>
            <a:xfrm flipV="1">
              <a:off x="3245040" y="2593800"/>
              <a:ext cx="0" cy="986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98960" y="2692440"/>
              <a:ext cx="101520" cy="591840"/>
            </a:xfrm>
            <a:custGeom>
              <a:avLst/>
              <a:gdLst/>
              <a:ahLst/>
              <a:rect l="l" t="t" r="r" b="b"/>
              <a:pathLst>
                <a:path w="99" h="545">
                  <a:moveTo>
                    <a:pt x="46" y="0"/>
                  </a:moveTo>
                  <a:cubicBezTo>
                    <a:pt x="42" y="26"/>
                    <a:pt x="39" y="53"/>
                    <a:pt x="46" y="91"/>
                  </a:cubicBezTo>
                  <a:cubicBezTo>
                    <a:pt x="53" y="129"/>
                    <a:pt x="99" y="182"/>
                    <a:pt x="91" y="227"/>
                  </a:cubicBezTo>
                  <a:cubicBezTo>
                    <a:pt x="83" y="272"/>
                    <a:pt x="0" y="310"/>
                    <a:pt x="0" y="363"/>
                  </a:cubicBezTo>
                  <a:cubicBezTo>
                    <a:pt x="0" y="416"/>
                    <a:pt x="45" y="480"/>
                    <a:pt x="91" y="545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530880" y="1168200"/>
            <a:ext cx="660600" cy="314280"/>
            <a:chOff x="3530880" y="1168200"/>
            <a:chExt cx="660600" cy="314280"/>
          </a:xfrm>
        </p:grpSpPr>
        <p:sp>
          <p:nvSpPr>
            <p:cNvPr id="356" name=""/>
            <p:cNvSpPr/>
            <p:nvPr/>
          </p:nvSpPr>
          <p:spPr>
            <a:xfrm>
              <a:off x="4100040" y="1431720"/>
              <a:ext cx="91440" cy="37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6718200">
              <a:off x="3773880" y="1029600"/>
              <a:ext cx="100080" cy="591480"/>
            </a:xfrm>
            <a:custGeom>
              <a:avLst/>
              <a:gdLst/>
              <a:ahLst/>
              <a:rect l="l" t="t" r="r" b="b"/>
              <a:pathLst>
                <a:path w="99" h="545">
                  <a:moveTo>
                    <a:pt x="46" y="0"/>
                  </a:moveTo>
                  <a:cubicBezTo>
                    <a:pt x="42" y="26"/>
                    <a:pt x="39" y="53"/>
                    <a:pt x="46" y="91"/>
                  </a:cubicBezTo>
                  <a:cubicBezTo>
                    <a:pt x="53" y="129"/>
                    <a:pt x="99" y="182"/>
                    <a:pt x="91" y="227"/>
                  </a:cubicBezTo>
                  <a:cubicBezTo>
                    <a:pt x="83" y="272"/>
                    <a:pt x="0" y="310"/>
                    <a:pt x="0" y="363"/>
                  </a:cubicBezTo>
                  <a:cubicBezTo>
                    <a:pt x="0" y="416"/>
                    <a:pt x="45" y="480"/>
                    <a:pt x="91" y="545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205080" y="1579680"/>
            <a:ext cx="100080" cy="690120"/>
            <a:chOff x="3205080" y="1579680"/>
            <a:chExt cx="100080" cy="690120"/>
          </a:xfrm>
        </p:grpSpPr>
        <p:sp>
          <p:nvSpPr>
            <p:cNvPr id="359" name=""/>
            <p:cNvSpPr/>
            <p:nvPr/>
          </p:nvSpPr>
          <p:spPr>
            <a:xfrm flipV="1">
              <a:off x="3250440" y="1579680"/>
              <a:ext cx="0" cy="986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05080" y="1678320"/>
              <a:ext cx="100080" cy="591480"/>
            </a:xfrm>
            <a:custGeom>
              <a:avLst/>
              <a:gdLst/>
              <a:ahLst/>
              <a:rect l="l" t="t" r="r" b="b"/>
              <a:pathLst>
                <a:path w="99" h="545">
                  <a:moveTo>
                    <a:pt x="46" y="0"/>
                  </a:moveTo>
                  <a:cubicBezTo>
                    <a:pt x="42" y="26"/>
                    <a:pt x="39" y="53"/>
                    <a:pt x="46" y="91"/>
                  </a:cubicBezTo>
                  <a:cubicBezTo>
                    <a:pt x="53" y="129"/>
                    <a:pt x="99" y="182"/>
                    <a:pt x="91" y="227"/>
                  </a:cubicBezTo>
                  <a:cubicBezTo>
                    <a:pt x="83" y="272"/>
                    <a:pt x="0" y="310"/>
                    <a:pt x="0" y="363"/>
                  </a:cubicBezTo>
                  <a:cubicBezTo>
                    <a:pt x="0" y="416"/>
                    <a:pt x="45" y="480"/>
                    <a:pt x="91" y="545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549680" y="2112480"/>
            <a:ext cx="1685880" cy="1504080"/>
            <a:chOff x="4549680" y="2112480"/>
            <a:chExt cx="1685880" cy="1504080"/>
          </a:xfrm>
        </p:grpSpPr>
        <p:grpSp>
          <p:nvGrpSpPr>
            <p:cNvPr id="362" name=""/>
            <p:cNvGrpSpPr/>
            <p:nvPr/>
          </p:nvGrpSpPr>
          <p:grpSpPr>
            <a:xfrm>
              <a:off x="4979520" y="2112480"/>
              <a:ext cx="1210680" cy="995760"/>
              <a:chOff x="4979520" y="2112480"/>
              <a:chExt cx="1210680" cy="99576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4979520" y="2112480"/>
                <a:ext cx="294120" cy="668880"/>
                <a:chOff x="4979520" y="2112480"/>
                <a:chExt cx="294120" cy="66888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5221080" y="2112480"/>
                  <a:ext cx="33480" cy="92880"/>
                </a:xfrm>
                <a:prstGeom prst="line">
                  <a:avLst/>
                </a:prstGeom>
                <a:ln w="5724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1177800">
                  <a:off x="5075640" y="2189880"/>
                  <a:ext cx="10116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66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590080" y="2330280"/>
                <a:ext cx="294120" cy="668880"/>
                <a:chOff x="5590080" y="2330280"/>
                <a:chExt cx="294120" cy="668880"/>
              </a:xfrm>
            </p:grpSpPr>
            <p:sp>
              <p:nvSpPr>
                <p:cNvPr id="367" name=""/>
                <p:cNvSpPr/>
                <p:nvPr/>
              </p:nvSpPr>
              <p:spPr>
                <a:xfrm flipV="1">
                  <a:off x="5832000" y="2330280"/>
                  <a:ext cx="33120" cy="92880"/>
                </a:xfrm>
                <a:prstGeom prst="line">
                  <a:avLst/>
                </a:prstGeom>
                <a:ln w="5724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1177800">
                  <a:off x="5686200" y="2407680"/>
                  <a:ext cx="10116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66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5285160" y="2221560"/>
                <a:ext cx="294120" cy="668880"/>
                <a:chOff x="5285160" y="2221560"/>
                <a:chExt cx="294120" cy="668880"/>
              </a:xfrm>
            </p:grpSpPr>
            <p:sp>
              <p:nvSpPr>
                <p:cNvPr id="370" name=""/>
                <p:cNvSpPr/>
                <p:nvPr/>
              </p:nvSpPr>
              <p:spPr>
                <a:xfrm flipV="1">
                  <a:off x="5527080" y="2221560"/>
                  <a:ext cx="33120" cy="92880"/>
                </a:xfrm>
                <a:prstGeom prst="line">
                  <a:avLst/>
                </a:prstGeom>
                <a:ln w="5724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1177800">
                  <a:off x="5381280" y="2298960"/>
                  <a:ext cx="10116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66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5896440" y="2439720"/>
                <a:ext cx="293760" cy="668520"/>
                <a:chOff x="5896440" y="2439720"/>
                <a:chExt cx="293760" cy="668520"/>
              </a:xfrm>
            </p:grpSpPr>
            <p:sp>
              <p:nvSpPr>
                <p:cNvPr id="373" name=""/>
                <p:cNvSpPr/>
                <p:nvPr/>
              </p:nvSpPr>
              <p:spPr>
                <a:xfrm flipV="1">
                  <a:off x="6138000" y="2439720"/>
                  <a:ext cx="33120" cy="92880"/>
                </a:xfrm>
                <a:prstGeom prst="line">
                  <a:avLst/>
                </a:prstGeom>
                <a:ln w="5724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rot="1177800">
                  <a:off x="5992560" y="2516760"/>
                  <a:ext cx="10080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66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5" name=""/>
            <p:cNvSpPr/>
            <p:nvPr/>
          </p:nvSpPr>
          <p:spPr>
            <a:xfrm rot="1177800">
              <a:off x="4579560" y="2896920"/>
              <a:ext cx="162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koe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611680" y="2006640"/>
            <a:ext cx="173160" cy="17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429080" y="1500120"/>
            <a:ext cx="660600" cy="313920"/>
            <a:chOff x="4429080" y="1500120"/>
            <a:chExt cx="660600" cy="313920"/>
          </a:xfrm>
        </p:grpSpPr>
        <p:sp>
          <p:nvSpPr>
            <p:cNvPr id="378" name=""/>
            <p:cNvSpPr/>
            <p:nvPr/>
          </p:nvSpPr>
          <p:spPr>
            <a:xfrm>
              <a:off x="4998240" y="1763280"/>
              <a:ext cx="91440" cy="37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6718200">
              <a:off x="4672080" y="1360800"/>
              <a:ext cx="99720" cy="591840"/>
            </a:xfrm>
            <a:custGeom>
              <a:avLst/>
              <a:gdLst/>
              <a:ahLst/>
              <a:rect l="l" t="t" r="r" b="b"/>
              <a:pathLst>
                <a:path w="99" h="545">
                  <a:moveTo>
                    <a:pt x="46" y="0"/>
                  </a:moveTo>
                  <a:cubicBezTo>
                    <a:pt x="42" y="26"/>
                    <a:pt x="39" y="53"/>
                    <a:pt x="46" y="91"/>
                  </a:cubicBezTo>
                  <a:cubicBezTo>
                    <a:pt x="53" y="129"/>
                    <a:pt x="99" y="182"/>
                    <a:pt x="91" y="227"/>
                  </a:cubicBezTo>
                  <a:cubicBezTo>
                    <a:pt x="83" y="272"/>
                    <a:pt x="0" y="310"/>
                    <a:pt x="0" y="363"/>
                  </a:cubicBezTo>
                  <a:cubicBezTo>
                    <a:pt x="0" y="416"/>
                    <a:pt x="45" y="480"/>
                    <a:pt x="91" y="545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78600" y="3727440"/>
            <a:ext cx="1530360" cy="1098720"/>
            <a:chOff x="6978600" y="3727440"/>
            <a:chExt cx="1530360" cy="1098720"/>
          </a:xfrm>
        </p:grpSpPr>
        <p:sp>
          <p:nvSpPr>
            <p:cNvPr id="381" name=""/>
            <p:cNvSpPr/>
            <p:nvPr/>
          </p:nvSpPr>
          <p:spPr>
            <a:xfrm>
              <a:off x="7056360" y="4111560"/>
              <a:ext cx="1376640" cy="703440"/>
            </a:xfrm>
            <a:custGeom>
              <a:avLst/>
              <a:gdLst/>
              <a:ahLst/>
              <a:rect l="l" t="t" r="r" b="b"/>
              <a:pathLst>
                <a:path w="1632" h="870">
                  <a:moveTo>
                    <a:pt x="0" y="0"/>
                  </a:moveTo>
                  <a:lnTo>
                    <a:pt x="0" y="780"/>
                  </a:lnTo>
                  <a:lnTo>
                    <a:pt x="45" y="870"/>
                  </a:lnTo>
                  <a:lnTo>
                    <a:pt x="1587" y="870"/>
                  </a:lnTo>
                  <a:lnTo>
                    <a:pt x="1632" y="780"/>
                  </a:lnTo>
                  <a:lnTo>
                    <a:pt x="16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78600" y="3727440"/>
              <a:ext cx="1530360" cy="1098720"/>
            </a:xfrm>
            <a:custGeom>
              <a:avLst/>
              <a:gdLst/>
              <a:ahLst/>
              <a:rect l="l" t="t" r="r" b="b"/>
              <a:pathLst>
                <a:path w="1814" h="1360">
                  <a:moveTo>
                    <a:pt x="0" y="0"/>
                  </a:moveTo>
                  <a:lnTo>
                    <a:pt x="91" y="136"/>
                  </a:lnTo>
                  <a:lnTo>
                    <a:pt x="91" y="1270"/>
                  </a:lnTo>
                  <a:lnTo>
                    <a:pt x="136" y="1360"/>
                  </a:lnTo>
                  <a:lnTo>
                    <a:pt x="1678" y="1360"/>
                  </a:lnTo>
                  <a:lnTo>
                    <a:pt x="1723" y="1270"/>
                  </a:lnTo>
                  <a:lnTo>
                    <a:pt x="1723" y="136"/>
                  </a:lnTo>
                  <a:lnTo>
                    <a:pt x="181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974880" y="54468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l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8520" y="5038560"/>
            <a:ext cx="1787400" cy="597240"/>
          </a:xfrm>
          <a:prstGeom prst="wedgeRoundRectCallout">
            <a:avLst>
              <a:gd name="adj1" fmla="val 93962"/>
              <a:gd name="adj2" fmla="val -94680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u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6560" y="2251080"/>
            <a:ext cx="1981440" cy="843120"/>
          </a:xfrm>
          <a:prstGeom prst="wedgeRoundRectCallout">
            <a:avLst>
              <a:gd name="adj1" fmla="val 64023"/>
              <a:gd name="adj2" fmla="val 104425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dam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o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39000" y="507960"/>
            <a:ext cx="2706480" cy="596880"/>
          </a:xfrm>
          <a:prstGeom prst="wedgeRoundRectCallout">
            <a:avLst>
              <a:gd name="adj1" fmla="val -53342"/>
              <a:gd name="adj2" fmla="val 173138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ensdru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00960" y="5705640"/>
            <a:ext cx="2019240" cy="507960"/>
          </a:xfrm>
          <a:prstGeom prst="wedgeRoundRectCallout">
            <a:avLst>
              <a:gd name="adj1" fmla="val -8333"/>
              <a:gd name="adj2" fmla="val -210939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iver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46 L 0.22031 0.11204 L 0.21979 0.33611 E">
                                      <p:cBhvr>
                                        <p:cTn id="266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6:04:20Z</dcterms:created>
  <dc:creator>B.N. Fledderman</dc:creator>
  <dc:description/>
  <dc:language>en-US</dc:language>
  <cp:lastModifiedBy>B.N. Fledderman</cp:lastModifiedBy>
  <dcterms:modified xsi:type="dcterms:W3CDTF">2007-10-12T12:19:43Z</dcterms:modified>
  <cp:revision>17</cp:revision>
  <dc:subject/>
  <dc:title>Dia 1</dc:title>
</cp:coreProperties>
</file>