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DED-C3D0-4EB1-9ADF-0E6431D7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5E2-B0ED-419C-A956-ABB1DF1E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73C-4E6A-4321-AEC6-6C14BC65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823-E89C-4CFD-A92E-27A7EE12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94E-640D-4DFE-AFA6-3E3BEE40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D68-96FA-4F36-9606-0013590B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87E-6423-43E8-BA41-B54F106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03E-FD0B-4DD5-9228-52198BFD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EB2-99F1-455D-8467-1A7C68A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6AA-EE29-4BFD-B64B-F2C8AA4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93B-D4B0-45D5-9783-44206E0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249-5F6F-4ADF-B317-F732E5A5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8230-E3F5-4A38-89E4-0A4F14CB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idingsmetho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idingsmethodes worden toegepast om mengsels weer uit elkaar te halen ofwel om de stoffen weer te sort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66688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am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l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p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h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inken en afsche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atogra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051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e stof die niet op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en vloeist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. Zand en water,  koolstof en water of zout en alco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 de vaste stof doo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oeistof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dat deze vloeist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e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an no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t mengsel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 op het filter blijft ligge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 door het filter loop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a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8636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3429000"/>
            <a:ext cx="195120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5334120" y="4190760"/>
            <a:ext cx="144756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181480" y="6095520"/>
            <a:ext cx="1752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057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een vaste stof di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 oplost in een vloeist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zout e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mengsel noemen we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loss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t mengsel kun 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t filtr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doet het mengsel in een indampschaaltje en je laat het water helemaal verdampen. De opgeloste vaste stof hou je dan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8840" y="2414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029200" cy="350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1981080"/>
            <a:ext cx="2590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e vloeistoffe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 moeten dan wel een verschillend kookpunt hebben. De vloeistof met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ags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kpunt is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lla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95320" y="4571640"/>
            <a:ext cx="12956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58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lleren ver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429000"/>
            <a:ext cx="6705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loeistof met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g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okpunt is h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zie tek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koelvloeistof moet altijd v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ag naar ho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lleren doe je ook bij een oplossing als je niet de vaste stof wilt overhouden maar ook de vloeistof. B.v. als je van  zout water drinkwater wilt ma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28840" y="2414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05320" cy="244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371240" y="1981080"/>
            <a:ext cx="66294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914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orp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086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pas je toe als in een vloeistof een klein beetje kleurstof zit of een andere opgeloste stof. Je voegt dan koolstof toe ( aktieve kool)die dan dat kleine beetje opzuigt(aan zich bind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arna moet je wel nog filtre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de kleur uit spiritus hal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her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6520" y="2700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298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95680" y="1371600"/>
            <a:ext cx="4114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een mengsel van tw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te stoff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oet dan wel een vloeistof kiezen waarin er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 opl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t op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zout en zand extraheren met water of jodium en zout extraheren met water of alco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25780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j extraheren moet je een aantal handelingen verrich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  Vloeistof erbij doen zodat een vaste stof oplost.2.   filtreren  zodat de niet opgeloste stof op het filter blijft.3.   Het filtraat indampen om de andere vaste stof te krij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inken en afschenken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 doe je met suspensies, als de vaste stof zo zwaar is dat hij naar de bodem wil zakke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2767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f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26708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mee kun je een mengsel van kleurstoffen schei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v. de kleuren van een viltsti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kleuren moeten dan wel in de vloeistof willen oplo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loeistof = loopvloeistof.    Het papier = de d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56:29Z</dcterms:created>
  <dc:creator>Systeembeheer</dc:creator>
  <dc:description/>
  <dc:language>en-US</dc:language>
  <cp:lastModifiedBy>Systeembeheer</cp:lastModifiedBy>
  <dcterms:modified xsi:type="dcterms:W3CDTF">2004-04-18T19:17:19Z</dcterms:modified>
  <cp:revision>3</cp:revision>
  <dc:subject/>
  <dc:title>scheidingsmethoden</dc:title>
</cp:coreProperties>
</file>