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7D2ED-F9BD-47AA-96AD-4FF5A3CCD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8A0C9-0F7D-4D50-BA34-0D2664B38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94848-FEBD-4EB9-97AC-C532BB1FE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42952-A39E-4691-9D19-579EF1C37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A42EB-6032-4F72-ABD0-FEED5AA27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A34A6-FCB9-4EA6-B7DA-B09A5E31B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5CD12-284F-49C4-9985-0AB350369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A2240-19A7-4F0A-B6FC-06A4D43E8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2B97E-EAEC-4D6E-9B86-02FFCCD9F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20584-5E22-428A-96C6-70CAEF445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CFB22-8125-41F9-86F7-D3796381D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BBB81-999E-4FBE-939B-9D0350DDE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ffa1c"/>
            </a:gs>
            <a:gs pos="100000">
              <a:srgbClr val="f4f99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BA1EB-C85C-44AC-8335-2AF660A7CE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ffa1c"/>
            </a:gs>
            <a:gs pos="100000">
              <a:srgbClr val="f4f99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3017880" y="2460600"/>
            <a:ext cx="3476160" cy="2958840"/>
            <a:chOff x="3017880" y="2460600"/>
            <a:chExt cx="3476160" cy="2958840"/>
          </a:xfrm>
        </p:grpSpPr>
        <p:sp>
          <p:nvSpPr>
            <p:cNvPr id="42" name=""/>
            <p:cNvSpPr/>
            <p:nvPr/>
          </p:nvSpPr>
          <p:spPr>
            <a:xfrm>
              <a:off x="3192480" y="3526560"/>
              <a:ext cx="3126960" cy="1892520"/>
            </a:xfrm>
            <a:custGeom>
              <a:avLst/>
              <a:gdLst/>
              <a:ahLst/>
              <a:rect l="l" t="t" r="r" b="b"/>
              <a:pathLst>
                <a:path w="1632" h="870">
                  <a:moveTo>
                    <a:pt x="0" y="0"/>
                  </a:moveTo>
                  <a:lnTo>
                    <a:pt x="0" y="780"/>
                  </a:lnTo>
                  <a:lnTo>
                    <a:pt x="45" y="870"/>
                  </a:lnTo>
                  <a:lnTo>
                    <a:pt x="1587" y="870"/>
                  </a:lnTo>
                  <a:lnTo>
                    <a:pt x="1632" y="780"/>
                  </a:lnTo>
                  <a:lnTo>
                    <a:pt x="163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17880" y="2460600"/>
              <a:ext cx="3476160" cy="2958840"/>
            </a:xfrm>
            <a:custGeom>
              <a:avLst/>
              <a:gdLst/>
              <a:ahLst/>
              <a:rect l="l" t="t" r="r" b="b"/>
              <a:pathLst>
                <a:path w="1814" h="1360">
                  <a:moveTo>
                    <a:pt x="0" y="0"/>
                  </a:moveTo>
                  <a:lnTo>
                    <a:pt x="91" y="136"/>
                  </a:lnTo>
                  <a:lnTo>
                    <a:pt x="91" y="1270"/>
                  </a:lnTo>
                  <a:lnTo>
                    <a:pt x="136" y="1360"/>
                  </a:lnTo>
                  <a:lnTo>
                    <a:pt x="1678" y="1360"/>
                  </a:lnTo>
                  <a:lnTo>
                    <a:pt x="1723" y="1270"/>
                  </a:lnTo>
                  <a:lnTo>
                    <a:pt x="1723" y="136"/>
                  </a:lnTo>
                  <a:lnTo>
                    <a:pt x="1814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" name=""/>
          <p:cNvSpPr/>
          <p:nvPr/>
        </p:nvSpPr>
        <p:spPr>
          <a:xfrm>
            <a:off x="4406760" y="4178160"/>
            <a:ext cx="114480" cy="1144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949560" y="3797280"/>
            <a:ext cx="114480" cy="1144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75120" y="4229280"/>
            <a:ext cx="114120" cy="1141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65560" y="4419720"/>
            <a:ext cx="114480" cy="1141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064040" y="4927680"/>
            <a:ext cx="114120" cy="1141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708360" y="5118120"/>
            <a:ext cx="114480" cy="1141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632040" y="4419720"/>
            <a:ext cx="114480" cy="1141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457960" y="4624560"/>
            <a:ext cx="114120" cy="1141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295960" y="4457880"/>
            <a:ext cx="114120" cy="1141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003640" y="4889520"/>
            <a:ext cx="114480" cy="1141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59400" y="4457880"/>
            <a:ext cx="114120" cy="1141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486400" y="4280040"/>
            <a:ext cx="114480" cy="1141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689440" y="4025880"/>
            <a:ext cx="114480" cy="1144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517920" y="4876920"/>
            <a:ext cx="114120" cy="1141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219640" y="3911760"/>
            <a:ext cx="114480" cy="1141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308560" y="5079960"/>
            <a:ext cx="114480" cy="1144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880240" y="4483080"/>
            <a:ext cx="114120" cy="1144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688000" y="4951440"/>
            <a:ext cx="114480" cy="1141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62440" y="4140360"/>
            <a:ext cx="114480" cy="1141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16600" y="3733920"/>
            <a:ext cx="114120" cy="1141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991040" y="4356000"/>
            <a:ext cx="114480" cy="1144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660920" y="3797280"/>
            <a:ext cx="114120" cy="1144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22760" y="4876920"/>
            <a:ext cx="114480" cy="1141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305240" y="3886200"/>
            <a:ext cx="114480" cy="1144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532480" y="3784680"/>
            <a:ext cx="114120" cy="1141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619440" y="4051440"/>
            <a:ext cx="114480" cy="1141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543480" y="3683160"/>
            <a:ext cx="114120" cy="1141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863960" y="4572000"/>
            <a:ext cx="114480" cy="1144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851280" y="4946760"/>
            <a:ext cx="114120" cy="1141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289320" y="4572000"/>
            <a:ext cx="114120" cy="1144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851360" y="5079960"/>
            <a:ext cx="114480" cy="1144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969160" y="4800600"/>
            <a:ext cx="114120" cy="1144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416400" y="4229280"/>
            <a:ext cx="114120" cy="1141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664240" y="4737240"/>
            <a:ext cx="114120" cy="1141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019920" y="3924360"/>
            <a:ext cx="114120" cy="1141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305240" y="5130720"/>
            <a:ext cx="114480" cy="1144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95800" y="4971960"/>
            <a:ext cx="114120" cy="1144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931000" y="5181480"/>
            <a:ext cx="114120" cy="1144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939960" y="546120"/>
            <a:ext cx="359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zinken en afschenk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24480" y="1181160"/>
            <a:ext cx="2387880" cy="1028520"/>
          </a:xfrm>
          <a:prstGeom prst="wedgeRoundRectCallout">
            <a:avLst>
              <a:gd name="adj1" fmla="val -45347"/>
              <a:gd name="adj2" fmla="val 194907"/>
              <a:gd name="adj3" fmla="val 16667"/>
            </a:avLst>
          </a:prstGeom>
          <a:solidFill>
            <a:srgbClr val="bbf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eltjes bezink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04920" y="2400480"/>
            <a:ext cx="2070000" cy="1752480"/>
          </a:xfrm>
          <a:prstGeom prst="wedgeRoundRectCallout">
            <a:avLst>
              <a:gd name="adj1" fmla="val 82976"/>
              <a:gd name="adj2" fmla="val 30708"/>
              <a:gd name="adj3" fmla="val 16667"/>
            </a:avLst>
          </a:prstGeom>
          <a:solidFill>
            <a:srgbClr val="bbf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dere bovenlaag kun je afschenk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594240" y="6019920"/>
            <a:ext cx="2387520" cy="596880"/>
          </a:xfrm>
          <a:prstGeom prst="wedgeRoundRectCallout">
            <a:avLst>
              <a:gd name="adj1" fmla="val 930"/>
              <a:gd name="adj2" fmla="val -142819"/>
              <a:gd name="adj3" fmla="val 16667"/>
            </a:avLst>
          </a:prstGeom>
          <a:solidFill>
            <a:srgbClr val="bbf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spens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253120" y="4857840"/>
            <a:ext cx="114120" cy="1141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151680" y="5092560"/>
            <a:ext cx="114120" cy="1144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2.59259E-006 L -4.44444E-006 0.15185 E">
                                      <p:cBhvr>
                                        <p:cTn id="11" dur="5000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2.96296E-006 L -0.00052 0.11944 E">
                                      <p:cBhvr>
                                        <p:cTn id="13" dur="5000" fill="hold"/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112E-017 -3.7037E-007 L 0.00469 0.22153 E">
                                      <p:cBhvr>
                                        <p:cTn id="15" dur="5000" fill="hold"/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164 -0.01088 L -0.01112 0.12037 E">
                                      <p:cBhvr>
                                        <p:cTn id="17" dur="5000" fill="hold"/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2.96296E-006 L -4.44444E-006 0.19097 E">
                                      <p:cBhvr>
                                        <p:cTn id="19" dur="50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0 L -3.33333E-006 0.15208 E">
                                      <p:cBhvr>
                                        <p:cTn id="21" dur="5000" fill="hold"/>
                                        <p:tgtEl>
                                          <p:spTgt spid="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2.22222E-006 L 0.00938 0.125 E">
                                      <p:cBhvr>
                                        <p:cTn id="23" dur="5000" fill="hold"/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4.44444E-006 L -0.00521 0.0375 E">
                                      <p:cBhvr>
                                        <p:cTn id="25" dur="50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2.22222E-006 L 4.44444E-006 0.11736 E">
                                      <p:cBhvr>
                                        <p:cTn id="27" dur="5000" fill="hold"/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3.33333E-006 L -1.11111E-006 0.09653 E">
                                      <p:cBhvr>
                                        <p:cTn id="29" dur="500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1.11022E-016 L -4.44444E-006 0.10139 E">
                                      <p:cBhvr>
                                        <p:cTn id="31" dur="5000" fill="hold"/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48148E-006 L 0.00521 0.13611 E">
                                      <p:cBhvr>
                                        <p:cTn id="33" dur="5000" fill="hold"/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2.96296E-006 L -2.22222E-006 0.21041 E">
                                      <p:cBhvr>
                                        <p:cTn id="35" dur="5000" fill="hold"/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2.22222E-006 L -1.11111E-006 0.1875 E">
                                      <p:cBhvr>
                                        <p:cTn id="37" dur="500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8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3.7037E-006 L -0.00052 0.19375 E">
                                      <p:cBhvr>
                                        <p:cTn id="39" dur="5000" fill="hold"/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0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3.33333E-006 L 0.00729 0.11459 E">
                                      <p:cBhvr>
                                        <p:cTn id="41" dur="5000" fill="hold"/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2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1.11111E-006 L 0.00261 0.08264 E">
                                      <p:cBhvr>
                                        <p:cTn id="43" dur="500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4.07407E-006 L -0.00729 0.08056 E">
                                      <p:cBhvr>
                                        <p:cTn id="45" dur="5000" fill="hold"/>
                                        <p:tgtEl>
                                          <p:spTgt spid="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6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4.07407E-006 L 0.00469 0.06875 E">
                                      <p:cBhvr>
                                        <p:cTn id="47" dur="50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2.59259E-006 L 0.01458 0.12291 E">
                                      <p:cBhvr>
                                        <p:cTn id="49" dur="5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0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3.7037E-007 L 0.00938 0.15903 E">
                                      <p:cBhvr>
                                        <p:cTn id="51" dur="5000" fill="hold"/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2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4.44444E-006 L 0.00261 0.1618 E">
                                      <p:cBhvr>
                                        <p:cTn id="53" dur="50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4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4.07407E-006 L -0.01094 0.17223 E">
                                      <p:cBhvr>
                                        <p:cTn id="55" dur="500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6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1.11022E-016 L -0.01458 0.15069 E">
                                      <p:cBhvr>
                                        <p:cTn id="57" dur="5000" fill="hold"/>
                                        <p:tgtEl>
                                          <p:spTgt spid="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8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2.22222E-006 L 0.01146 0.12916 E">
                                      <p:cBhvr>
                                        <p:cTn id="59" dur="5000" fill="hold"/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1.11022E-016 L -2.22222E-006 0.14653 E">
                                      <p:cBhvr>
                                        <p:cTn id="61" dur="50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2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1.11022E-016 L 0.00261 0.03819 E">
                                      <p:cBhvr>
                                        <p:cTn id="63" dur="5000" fill="hold"/>
                                        <p:tgtEl>
                                          <p:spTgt spid="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0"/>
                            </p:stCondLst>
                            <p:childTnLst>
                              <p:par>
                                <p:cTn id="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ffa1c"/>
            </a:gs>
            <a:gs pos="100000">
              <a:srgbClr val="f4f99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916360" y="1268280"/>
            <a:ext cx="3206520" cy="2154240"/>
          </a:xfrm>
          <a:custGeom>
            <a:avLst/>
            <a:gdLst/>
            <a:ahLst/>
            <a:rect l="l" t="t" r="r" b="b"/>
            <a:pathLst>
              <a:path w="2020" h="1357">
                <a:moveTo>
                  <a:pt x="0" y="0"/>
                </a:moveTo>
                <a:lnTo>
                  <a:pt x="1019" y="1357"/>
                </a:lnTo>
                <a:lnTo>
                  <a:pt x="2020" y="0"/>
                </a:lnTo>
                <a:lnTo>
                  <a:pt x="0" y="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373480" y="542880"/>
            <a:ext cx="4313160" cy="2878200"/>
          </a:xfrm>
          <a:custGeom>
            <a:avLst/>
            <a:gdLst/>
            <a:ahLst/>
            <a:rect l="l" t="t" r="r" b="b"/>
            <a:pathLst>
              <a:path w="2717" h="1813">
                <a:moveTo>
                  <a:pt x="0" y="0"/>
                </a:moveTo>
                <a:lnTo>
                  <a:pt x="1361" y="1813"/>
                </a:lnTo>
                <a:lnTo>
                  <a:pt x="2717" y="5"/>
                </a:lnTo>
              </a:path>
            </a:pathLst>
          </a:custGeom>
          <a:noFill/>
          <a:ln w="28440">
            <a:solidFill>
              <a:srgbClr val="80808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68360" y="549360"/>
            <a:ext cx="2087640" cy="4319640"/>
          </a:xfrm>
          <a:custGeom>
            <a:avLst/>
            <a:gdLst/>
            <a:ahLst/>
            <a:rect l="l" t="t" r="r" b="b"/>
            <a:pathLst>
              <a:path w="1315" h="2721">
                <a:moveTo>
                  <a:pt x="0" y="0"/>
                </a:moveTo>
                <a:lnTo>
                  <a:pt x="1315" y="1769"/>
                </a:lnTo>
                <a:lnTo>
                  <a:pt x="1315" y="272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4715640" y="549360"/>
            <a:ext cx="2087640" cy="4319640"/>
          </a:xfrm>
          <a:custGeom>
            <a:avLst/>
            <a:gdLst/>
            <a:ahLst/>
            <a:rect l="l" t="t" r="r" b="b"/>
            <a:pathLst>
              <a:path w="1315" h="2721">
                <a:moveTo>
                  <a:pt x="0" y="0"/>
                </a:moveTo>
                <a:lnTo>
                  <a:pt x="1315" y="1769"/>
                </a:lnTo>
                <a:lnTo>
                  <a:pt x="1315" y="272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32000" y="4149720"/>
            <a:ext cx="2880000" cy="2158920"/>
          </a:xfrm>
          <a:custGeom>
            <a:avLst/>
            <a:gdLst/>
            <a:ahLst/>
            <a:rect l="l" t="t" r="r" b="b"/>
            <a:pathLst>
              <a:path w="1814" h="1360">
                <a:moveTo>
                  <a:pt x="0" y="0"/>
                </a:moveTo>
                <a:lnTo>
                  <a:pt x="91" y="136"/>
                </a:lnTo>
                <a:lnTo>
                  <a:pt x="91" y="1270"/>
                </a:lnTo>
                <a:lnTo>
                  <a:pt x="136" y="1360"/>
                </a:lnTo>
                <a:lnTo>
                  <a:pt x="1678" y="1360"/>
                </a:lnTo>
                <a:lnTo>
                  <a:pt x="1723" y="1270"/>
                </a:lnTo>
                <a:lnTo>
                  <a:pt x="1723" y="136"/>
                </a:lnTo>
                <a:lnTo>
                  <a:pt x="1814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76720" y="5589720"/>
            <a:ext cx="2590560" cy="718920"/>
          </a:xfrm>
          <a:custGeom>
            <a:avLst/>
            <a:gdLst/>
            <a:ahLst/>
            <a:rect l="l" t="t" r="r" b="b"/>
            <a:pathLst>
              <a:path w="1632" h="453">
                <a:moveTo>
                  <a:pt x="0" y="0"/>
                </a:moveTo>
                <a:lnTo>
                  <a:pt x="0" y="363"/>
                </a:lnTo>
                <a:lnTo>
                  <a:pt x="45" y="453"/>
                </a:lnTo>
                <a:lnTo>
                  <a:pt x="1587" y="453"/>
                </a:lnTo>
                <a:lnTo>
                  <a:pt x="1632" y="363"/>
                </a:lnTo>
                <a:lnTo>
                  <a:pt x="1632" y="0"/>
                </a:lnTo>
                <a:lnTo>
                  <a:pt x="0" y="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56000" y="3398760"/>
            <a:ext cx="360360" cy="36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3225960" y="1346040"/>
            <a:ext cx="2349360" cy="1917720"/>
            <a:chOff x="3225960" y="1346040"/>
            <a:chExt cx="2349360" cy="1917720"/>
          </a:xfrm>
        </p:grpSpPr>
        <p:sp>
          <p:nvSpPr>
            <p:cNvPr id="96" name=""/>
            <p:cNvSpPr/>
            <p:nvPr/>
          </p:nvSpPr>
          <p:spPr>
            <a:xfrm>
              <a:off x="4191120" y="2247840"/>
              <a:ext cx="114480" cy="114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419720" y="2971800"/>
              <a:ext cx="114480" cy="1141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318200" y="2717640"/>
              <a:ext cx="114120" cy="114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064040" y="2400120"/>
              <a:ext cx="114480" cy="114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73600" y="2120760"/>
              <a:ext cx="114480" cy="114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594240" y="1778040"/>
              <a:ext cx="114480" cy="1141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784680" y="1549440"/>
              <a:ext cx="114480" cy="1141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225960" y="1447920"/>
              <a:ext cx="114480" cy="1141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127760" y="1701720"/>
              <a:ext cx="114120" cy="114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508640" y="1993680"/>
              <a:ext cx="114480" cy="114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178520" y="1485720"/>
              <a:ext cx="114120" cy="114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940640" y="1701720"/>
              <a:ext cx="114120" cy="114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762800" y="2247840"/>
              <a:ext cx="114120" cy="114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673880" y="2755800"/>
              <a:ext cx="114120" cy="114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13560" y="1396800"/>
              <a:ext cx="114120" cy="114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257800" y="1396800"/>
              <a:ext cx="114480" cy="114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46720" y="1854000"/>
              <a:ext cx="114480" cy="114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461200" y="1562040"/>
              <a:ext cx="114120" cy="114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813560" y="1981080"/>
              <a:ext cx="114120" cy="114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978440" y="2197080"/>
              <a:ext cx="114480" cy="1141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407120" y="1346040"/>
              <a:ext cx="114120" cy="114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594240" y="1371600"/>
              <a:ext cx="114480" cy="1141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496040" y="1625400"/>
              <a:ext cx="114120" cy="114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445280" y="2438280"/>
              <a:ext cx="114120" cy="114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864320" y="2476440"/>
              <a:ext cx="114120" cy="114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610160" y="3009960"/>
              <a:ext cx="114480" cy="1141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496040" y="3149640"/>
              <a:ext cx="114120" cy="1141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" name=""/>
          <p:cNvSpPr/>
          <p:nvPr/>
        </p:nvSpPr>
        <p:spPr>
          <a:xfrm>
            <a:off x="3276720" y="4927680"/>
            <a:ext cx="2590560" cy="1380960"/>
          </a:xfrm>
          <a:custGeom>
            <a:avLst/>
            <a:gdLst/>
            <a:ahLst/>
            <a:rect l="l" t="t" r="r" b="b"/>
            <a:pathLst>
              <a:path w="1632" h="870">
                <a:moveTo>
                  <a:pt x="0" y="0"/>
                </a:moveTo>
                <a:lnTo>
                  <a:pt x="0" y="780"/>
                </a:lnTo>
                <a:lnTo>
                  <a:pt x="45" y="870"/>
                </a:lnTo>
                <a:lnTo>
                  <a:pt x="1587" y="870"/>
                </a:lnTo>
                <a:lnTo>
                  <a:pt x="1632" y="780"/>
                </a:lnTo>
                <a:lnTo>
                  <a:pt x="1632" y="0"/>
                </a:lnTo>
                <a:lnTo>
                  <a:pt x="0" y="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3665520" y="2185920"/>
            <a:ext cx="1665360" cy="1179720"/>
            <a:chOff x="3665520" y="2185920"/>
            <a:chExt cx="1665360" cy="1179720"/>
          </a:xfrm>
        </p:grpSpPr>
        <p:sp>
          <p:nvSpPr>
            <p:cNvPr id="125" name=""/>
            <p:cNvSpPr/>
            <p:nvPr/>
          </p:nvSpPr>
          <p:spPr>
            <a:xfrm>
              <a:off x="3738600" y="2298600"/>
              <a:ext cx="114120" cy="114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444920" y="3073320"/>
              <a:ext cx="114480" cy="114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635360" y="3022560"/>
              <a:ext cx="114480" cy="114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45120" y="2349360"/>
              <a:ext cx="114120" cy="114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665520" y="2185920"/>
              <a:ext cx="114480" cy="114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216400" y="2252520"/>
              <a:ext cx="114480" cy="114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067360" y="2438280"/>
              <a:ext cx="114120" cy="114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470480" y="3251160"/>
              <a:ext cx="114120" cy="114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019840" y="2516040"/>
              <a:ext cx="114120" cy="114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924360" y="2502000"/>
              <a:ext cx="114120" cy="1141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822840" y="2384280"/>
              <a:ext cx="114120" cy="114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076640" y="2706840"/>
              <a:ext cx="114480" cy="1141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495680" y="2946240"/>
              <a:ext cx="114480" cy="114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343400" y="3035160"/>
              <a:ext cx="114480" cy="114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863960" y="2679840"/>
              <a:ext cx="114480" cy="1141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827600" y="2771640"/>
              <a:ext cx="114120" cy="114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157640" y="2813040"/>
              <a:ext cx="114480" cy="114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356000" y="2908440"/>
              <a:ext cx="114480" cy="1141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546440" y="2882880"/>
              <a:ext cx="114480" cy="114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 rot="1255200">
              <a:off x="4709880" y="2925720"/>
              <a:ext cx="114120" cy="114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000680" y="2603520"/>
              <a:ext cx="114120" cy="1141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317840" y="2819520"/>
              <a:ext cx="114480" cy="1141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940280" y="2590920"/>
              <a:ext cx="114480" cy="1141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743360" y="2816280"/>
              <a:ext cx="114480" cy="1141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216320" y="2908440"/>
              <a:ext cx="114480" cy="1141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533840" y="3124080"/>
              <a:ext cx="114480" cy="114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394160" y="3162240"/>
              <a:ext cx="114480" cy="114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"/>
          <p:cNvSpPr/>
          <p:nvPr/>
        </p:nvSpPr>
        <p:spPr>
          <a:xfrm>
            <a:off x="6286680" y="1790640"/>
            <a:ext cx="2387520" cy="596880"/>
          </a:xfrm>
          <a:prstGeom prst="wedgeRoundRectCallout">
            <a:avLst>
              <a:gd name="adj1" fmla="val -93750"/>
              <a:gd name="adj2" fmla="val 3990"/>
              <a:gd name="adj3" fmla="val 16667"/>
            </a:avLst>
          </a:prstGeom>
          <a:solidFill>
            <a:srgbClr val="bbf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spens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286680" y="1778040"/>
            <a:ext cx="2387520" cy="596880"/>
          </a:xfrm>
          <a:prstGeom prst="wedgeRoundRectCallout">
            <a:avLst>
              <a:gd name="adj1" fmla="val -108643"/>
              <a:gd name="adj2" fmla="val 123138"/>
              <a:gd name="adj3" fmla="val 16667"/>
            </a:avLst>
          </a:prstGeom>
          <a:solidFill>
            <a:srgbClr val="bbf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id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286680" y="2971800"/>
            <a:ext cx="2387520" cy="596880"/>
          </a:xfrm>
          <a:prstGeom prst="wedgeRoundRectCallout">
            <a:avLst>
              <a:gd name="adj1" fmla="val -86300"/>
              <a:gd name="adj2" fmla="val 333777"/>
              <a:gd name="adj3" fmla="val 16667"/>
            </a:avLst>
          </a:prstGeom>
          <a:solidFill>
            <a:srgbClr val="bbf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tra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939960" y="546120"/>
            <a:ext cx="148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tr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path" presetID="0" repeatCount="4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7.40741E-007 L 3.05556E-006 0.32708 E">
                                      <p:cBhvr>
                                        <p:cTn id="93" dur="2000" fill="hold"/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8500"/>
                            </p:stCondLst>
                            <p:childTnLst>
                              <p:par>
                                <p:cTn id="9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9000"/>
                            </p:stCondLst>
                            <p:childTnLst>
                              <p:par>
                                <p:cTn id="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3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6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ffa1c"/>
            </a:gs>
            <a:gs pos="100000">
              <a:srgbClr val="f4f99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"/>
          <p:cNvGrpSpPr/>
          <p:nvPr/>
        </p:nvGrpSpPr>
        <p:grpSpPr>
          <a:xfrm>
            <a:off x="3855960" y="4723920"/>
            <a:ext cx="1670040" cy="1409400"/>
            <a:chOff x="3855960" y="4723920"/>
            <a:chExt cx="1670040" cy="1409400"/>
          </a:xfrm>
        </p:grpSpPr>
        <p:grpSp>
          <p:nvGrpSpPr>
            <p:cNvPr id="157" name=""/>
            <p:cNvGrpSpPr/>
            <p:nvPr/>
          </p:nvGrpSpPr>
          <p:grpSpPr>
            <a:xfrm>
              <a:off x="3855960" y="4723920"/>
              <a:ext cx="156960" cy="1009800"/>
              <a:chOff x="3855960" y="4723920"/>
              <a:chExt cx="156960" cy="1009800"/>
            </a:xfrm>
          </p:grpSpPr>
          <p:sp>
            <p:nvSpPr>
              <p:cNvPr id="158" name=""/>
              <p:cNvSpPr/>
              <p:nvPr/>
            </p:nvSpPr>
            <p:spPr>
              <a:xfrm flipV="1">
                <a:off x="3927240" y="4723920"/>
                <a:ext cx="0" cy="14436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3855960" y="4868640"/>
                <a:ext cx="156960" cy="865080"/>
              </a:xfrm>
              <a:custGeom>
                <a:avLst/>
                <a:gdLst/>
                <a:ahLst/>
                <a:rect l="l" t="t" r="r" b="b"/>
                <a:pathLst>
                  <a:path w="99" h="545">
                    <a:moveTo>
                      <a:pt x="46" y="0"/>
                    </a:moveTo>
                    <a:cubicBezTo>
                      <a:pt x="42" y="26"/>
                      <a:pt x="39" y="53"/>
                      <a:pt x="46" y="91"/>
                    </a:cubicBezTo>
                    <a:cubicBezTo>
                      <a:pt x="53" y="129"/>
                      <a:pt x="99" y="182"/>
                      <a:pt x="91" y="227"/>
                    </a:cubicBezTo>
                    <a:cubicBezTo>
                      <a:pt x="83" y="272"/>
                      <a:pt x="0" y="310"/>
                      <a:pt x="0" y="363"/>
                    </a:cubicBezTo>
                    <a:cubicBezTo>
                      <a:pt x="0" y="416"/>
                      <a:pt x="45" y="480"/>
                      <a:pt x="91" y="545"/>
                    </a:cubicBezTo>
                  </a:path>
                </a:pathLst>
              </a:custGeom>
              <a:noFill/>
              <a:ln w="57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0" name=""/>
            <p:cNvGrpSpPr/>
            <p:nvPr/>
          </p:nvGrpSpPr>
          <p:grpSpPr>
            <a:xfrm>
              <a:off x="4863960" y="4723920"/>
              <a:ext cx="156960" cy="1009800"/>
              <a:chOff x="4863960" y="4723920"/>
              <a:chExt cx="156960" cy="1009800"/>
            </a:xfrm>
          </p:grpSpPr>
          <p:sp>
            <p:nvSpPr>
              <p:cNvPr id="161" name=""/>
              <p:cNvSpPr/>
              <p:nvPr/>
            </p:nvSpPr>
            <p:spPr>
              <a:xfrm flipV="1">
                <a:off x="4935240" y="4723920"/>
                <a:ext cx="0" cy="14436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4863960" y="4868640"/>
                <a:ext cx="156960" cy="865080"/>
              </a:xfrm>
              <a:custGeom>
                <a:avLst/>
                <a:gdLst/>
                <a:ahLst/>
                <a:rect l="l" t="t" r="r" b="b"/>
                <a:pathLst>
                  <a:path w="99" h="545">
                    <a:moveTo>
                      <a:pt x="46" y="0"/>
                    </a:moveTo>
                    <a:cubicBezTo>
                      <a:pt x="42" y="26"/>
                      <a:pt x="39" y="53"/>
                      <a:pt x="46" y="91"/>
                    </a:cubicBezTo>
                    <a:cubicBezTo>
                      <a:pt x="53" y="129"/>
                      <a:pt x="99" y="182"/>
                      <a:pt x="91" y="227"/>
                    </a:cubicBezTo>
                    <a:cubicBezTo>
                      <a:pt x="83" y="272"/>
                      <a:pt x="0" y="310"/>
                      <a:pt x="0" y="363"/>
                    </a:cubicBezTo>
                    <a:cubicBezTo>
                      <a:pt x="0" y="416"/>
                      <a:pt x="45" y="480"/>
                      <a:pt x="91" y="545"/>
                    </a:cubicBezTo>
                  </a:path>
                </a:pathLst>
              </a:custGeom>
              <a:noFill/>
              <a:ln w="57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4361040" y="4723920"/>
              <a:ext cx="156960" cy="1009800"/>
              <a:chOff x="4361040" y="4723920"/>
              <a:chExt cx="156960" cy="1009800"/>
            </a:xfrm>
          </p:grpSpPr>
          <p:sp>
            <p:nvSpPr>
              <p:cNvPr id="164" name=""/>
              <p:cNvSpPr/>
              <p:nvPr/>
            </p:nvSpPr>
            <p:spPr>
              <a:xfrm flipV="1">
                <a:off x="4432320" y="4723920"/>
                <a:ext cx="0" cy="14436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4361040" y="4868640"/>
                <a:ext cx="156960" cy="865080"/>
              </a:xfrm>
              <a:custGeom>
                <a:avLst/>
                <a:gdLst/>
                <a:ahLst/>
                <a:rect l="l" t="t" r="r" b="b"/>
                <a:pathLst>
                  <a:path w="99" h="545">
                    <a:moveTo>
                      <a:pt x="46" y="0"/>
                    </a:moveTo>
                    <a:cubicBezTo>
                      <a:pt x="42" y="26"/>
                      <a:pt x="39" y="53"/>
                      <a:pt x="46" y="91"/>
                    </a:cubicBezTo>
                    <a:cubicBezTo>
                      <a:pt x="53" y="129"/>
                      <a:pt x="99" y="182"/>
                      <a:pt x="91" y="227"/>
                    </a:cubicBezTo>
                    <a:cubicBezTo>
                      <a:pt x="83" y="272"/>
                      <a:pt x="0" y="310"/>
                      <a:pt x="0" y="363"/>
                    </a:cubicBezTo>
                    <a:cubicBezTo>
                      <a:pt x="0" y="416"/>
                      <a:pt x="45" y="480"/>
                      <a:pt x="91" y="545"/>
                    </a:cubicBezTo>
                  </a:path>
                </a:pathLst>
              </a:custGeom>
              <a:noFill/>
              <a:ln w="57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6" name=""/>
            <p:cNvGrpSpPr/>
            <p:nvPr/>
          </p:nvGrpSpPr>
          <p:grpSpPr>
            <a:xfrm>
              <a:off x="5369040" y="4723920"/>
              <a:ext cx="156960" cy="1009800"/>
              <a:chOff x="5369040" y="4723920"/>
              <a:chExt cx="156960" cy="1009800"/>
            </a:xfrm>
          </p:grpSpPr>
          <p:sp>
            <p:nvSpPr>
              <p:cNvPr id="167" name=""/>
              <p:cNvSpPr/>
              <p:nvPr/>
            </p:nvSpPr>
            <p:spPr>
              <a:xfrm flipV="1">
                <a:off x="5440320" y="4723920"/>
                <a:ext cx="0" cy="14436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5369040" y="4868640"/>
                <a:ext cx="156960" cy="865080"/>
              </a:xfrm>
              <a:custGeom>
                <a:avLst/>
                <a:gdLst/>
                <a:ahLst/>
                <a:rect l="l" t="t" r="r" b="b"/>
                <a:pathLst>
                  <a:path w="99" h="545">
                    <a:moveTo>
                      <a:pt x="46" y="0"/>
                    </a:moveTo>
                    <a:cubicBezTo>
                      <a:pt x="42" y="26"/>
                      <a:pt x="39" y="53"/>
                      <a:pt x="46" y="91"/>
                    </a:cubicBezTo>
                    <a:cubicBezTo>
                      <a:pt x="53" y="129"/>
                      <a:pt x="99" y="182"/>
                      <a:pt x="91" y="227"/>
                    </a:cubicBezTo>
                    <a:cubicBezTo>
                      <a:pt x="83" y="272"/>
                      <a:pt x="0" y="310"/>
                      <a:pt x="0" y="363"/>
                    </a:cubicBezTo>
                    <a:cubicBezTo>
                      <a:pt x="0" y="416"/>
                      <a:pt x="45" y="480"/>
                      <a:pt x="91" y="545"/>
                    </a:cubicBezTo>
                  </a:path>
                </a:pathLst>
              </a:custGeom>
              <a:noFill/>
              <a:ln w="57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9" name=""/>
            <p:cNvSpPr/>
            <p:nvPr/>
          </p:nvSpPr>
          <p:spPr>
            <a:xfrm>
              <a:off x="4044960" y="5673600"/>
              <a:ext cx="144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warm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3233880" y="2473200"/>
            <a:ext cx="2879640" cy="2159280"/>
          </a:xfrm>
          <a:custGeom>
            <a:avLst/>
            <a:gdLst/>
            <a:ahLst/>
            <a:rect l="l" t="t" r="r" b="b"/>
            <a:pathLst>
              <a:path w="1814" h="1360">
                <a:moveTo>
                  <a:pt x="0" y="0"/>
                </a:moveTo>
                <a:lnTo>
                  <a:pt x="91" y="136"/>
                </a:lnTo>
                <a:lnTo>
                  <a:pt x="91" y="1270"/>
                </a:lnTo>
                <a:lnTo>
                  <a:pt x="136" y="1360"/>
                </a:lnTo>
                <a:lnTo>
                  <a:pt x="1678" y="1360"/>
                </a:lnTo>
                <a:lnTo>
                  <a:pt x="1723" y="1270"/>
                </a:lnTo>
                <a:lnTo>
                  <a:pt x="1723" y="136"/>
                </a:lnTo>
                <a:lnTo>
                  <a:pt x="1814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378240" y="3251160"/>
            <a:ext cx="2590920" cy="1381320"/>
          </a:xfrm>
          <a:custGeom>
            <a:avLst/>
            <a:gdLst/>
            <a:ahLst/>
            <a:rect l="l" t="t" r="r" b="b"/>
            <a:pathLst>
              <a:path w="1632" h="870">
                <a:moveTo>
                  <a:pt x="0" y="0"/>
                </a:moveTo>
                <a:lnTo>
                  <a:pt x="0" y="780"/>
                </a:lnTo>
                <a:lnTo>
                  <a:pt x="45" y="870"/>
                </a:lnTo>
                <a:lnTo>
                  <a:pt x="1587" y="870"/>
                </a:lnTo>
                <a:lnTo>
                  <a:pt x="1632" y="780"/>
                </a:lnTo>
                <a:lnTo>
                  <a:pt x="1632" y="0"/>
                </a:lnTo>
                <a:lnTo>
                  <a:pt x="0" y="0"/>
                </a:lnTo>
                <a:close/>
              </a:path>
            </a:pathLst>
          </a:custGeom>
          <a:solidFill>
            <a:srgbClr val="bbfe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378240" y="4489560"/>
            <a:ext cx="2590920" cy="142920"/>
          </a:xfrm>
          <a:custGeom>
            <a:avLst/>
            <a:gdLst/>
            <a:ahLst/>
            <a:rect l="l" t="t" r="r" b="b"/>
            <a:pathLst>
              <a:path w="1632" h="90">
                <a:moveTo>
                  <a:pt x="0" y="0"/>
                </a:moveTo>
                <a:lnTo>
                  <a:pt x="45" y="90"/>
                </a:lnTo>
                <a:lnTo>
                  <a:pt x="1587" y="90"/>
                </a:lnTo>
                <a:lnTo>
                  <a:pt x="1632" y="0"/>
                </a:lnTo>
                <a:lnTo>
                  <a:pt x="0" y="0"/>
                </a:lnTo>
                <a:close/>
              </a:path>
            </a:pathLst>
          </a:custGeom>
          <a:solidFill>
            <a:srgbClr val="5674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3840120" y="1177920"/>
            <a:ext cx="1670040" cy="1515960"/>
            <a:chOff x="3840120" y="1177920"/>
            <a:chExt cx="1670040" cy="1515960"/>
          </a:xfrm>
        </p:grpSpPr>
        <p:grpSp>
          <p:nvGrpSpPr>
            <p:cNvPr id="174" name=""/>
            <p:cNvGrpSpPr/>
            <p:nvPr/>
          </p:nvGrpSpPr>
          <p:grpSpPr>
            <a:xfrm>
              <a:off x="3840120" y="1684080"/>
              <a:ext cx="1670040" cy="1009800"/>
              <a:chOff x="3840120" y="1684080"/>
              <a:chExt cx="1670040" cy="1009800"/>
            </a:xfrm>
          </p:grpSpPr>
          <p:grpSp>
            <p:nvGrpSpPr>
              <p:cNvPr id="175" name=""/>
              <p:cNvGrpSpPr/>
              <p:nvPr/>
            </p:nvGrpSpPr>
            <p:grpSpPr>
              <a:xfrm>
                <a:off x="3840120" y="1684080"/>
                <a:ext cx="156960" cy="1009800"/>
                <a:chOff x="3840120" y="1684080"/>
                <a:chExt cx="156960" cy="1009800"/>
              </a:xfrm>
            </p:grpSpPr>
            <p:sp>
              <p:nvSpPr>
                <p:cNvPr id="176" name=""/>
                <p:cNvSpPr/>
                <p:nvPr/>
              </p:nvSpPr>
              <p:spPr>
                <a:xfrm flipV="1">
                  <a:off x="3911400" y="1684080"/>
                  <a:ext cx="0" cy="144360"/>
                </a:xfrm>
                <a:prstGeom prst="line">
                  <a:avLst/>
                </a:prstGeom>
                <a:ln w="57240">
                  <a:solidFill>
                    <a:srgbClr val="009999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40120" y="1828800"/>
                  <a:ext cx="156960" cy="865080"/>
                </a:xfrm>
                <a:custGeom>
                  <a:avLst/>
                  <a:gdLst/>
                  <a:ahLst/>
                  <a:rect l="l" t="t" r="r" b="b"/>
                  <a:pathLst>
                    <a:path w="99" h="545">
                      <a:moveTo>
                        <a:pt x="46" y="0"/>
                      </a:moveTo>
                      <a:cubicBezTo>
                        <a:pt x="42" y="26"/>
                        <a:pt x="39" y="53"/>
                        <a:pt x="46" y="91"/>
                      </a:cubicBezTo>
                      <a:cubicBezTo>
                        <a:pt x="53" y="129"/>
                        <a:pt x="99" y="182"/>
                        <a:pt x="91" y="227"/>
                      </a:cubicBezTo>
                      <a:cubicBezTo>
                        <a:pt x="83" y="272"/>
                        <a:pt x="0" y="310"/>
                        <a:pt x="0" y="363"/>
                      </a:cubicBezTo>
                      <a:cubicBezTo>
                        <a:pt x="0" y="416"/>
                        <a:pt x="45" y="480"/>
                        <a:pt x="91" y="545"/>
                      </a:cubicBezTo>
                    </a:path>
                  </a:pathLst>
                </a:custGeom>
                <a:noFill/>
                <a:ln w="57240">
                  <a:solidFill>
                    <a:srgbClr val="0099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4848120" y="1684080"/>
                <a:ext cx="156960" cy="1009800"/>
                <a:chOff x="4848120" y="1684080"/>
                <a:chExt cx="156960" cy="1009800"/>
              </a:xfrm>
            </p:grpSpPr>
            <p:sp>
              <p:nvSpPr>
                <p:cNvPr id="179" name=""/>
                <p:cNvSpPr/>
                <p:nvPr/>
              </p:nvSpPr>
              <p:spPr>
                <a:xfrm flipV="1">
                  <a:off x="4919400" y="1684080"/>
                  <a:ext cx="0" cy="144360"/>
                </a:xfrm>
                <a:prstGeom prst="line">
                  <a:avLst/>
                </a:prstGeom>
                <a:ln w="57240">
                  <a:solidFill>
                    <a:srgbClr val="009999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4848120" y="1828800"/>
                  <a:ext cx="156960" cy="865080"/>
                </a:xfrm>
                <a:custGeom>
                  <a:avLst/>
                  <a:gdLst/>
                  <a:ahLst/>
                  <a:rect l="l" t="t" r="r" b="b"/>
                  <a:pathLst>
                    <a:path w="99" h="545">
                      <a:moveTo>
                        <a:pt x="46" y="0"/>
                      </a:moveTo>
                      <a:cubicBezTo>
                        <a:pt x="42" y="26"/>
                        <a:pt x="39" y="53"/>
                        <a:pt x="46" y="91"/>
                      </a:cubicBezTo>
                      <a:cubicBezTo>
                        <a:pt x="53" y="129"/>
                        <a:pt x="99" y="182"/>
                        <a:pt x="91" y="227"/>
                      </a:cubicBezTo>
                      <a:cubicBezTo>
                        <a:pt x="83" y="272"/>
                        <a:pt x="0" y="310"/>
                        <a:pt x="0" y="363"/>
                      </a:cubicBezTo>
                      <a:cubicBezTo>
                        <a:pt x="0" y="416"/>
                        <a:pt x="45" y="480"/>
                        <a:pt x="91" y="545"/>
                      </a:cubicBezTo>
                    </a:path>
                  </a:pathLst>
                </a:custGeom>
                <a:noFill/>
                <a:ln w="57240">
                  <a:solidFill>
                    <a:srgbClr val="0099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1" name=""/>
              <p:cNvGrpSpPr/>
              <p:nvPr/>
            </p:nvGrpSpPr>
            <p:grpSpPr>
              <a:xfrm>
                <a:off x="4344840" y="1684080"/>
                <a:ext cx="156960" cy="1009800"/>
                <a:chOff x="4344840" y="1684080"/>
                <a:chExt cx="156960" cy="1009800"/>
              </a:xfrm>
            </p:grpSpPr>
            <p:sp>
              <p:nvSpPr>
                <p:cNvPr id="182" name=""/>
                <p:cNvSpPr/>
                <p:nvPr/>
              </p:nvSpPr>
              <p:spPr>
                <a:xfrm flipV="1">
                  <a:off x="4416120" y="1684080"/>
                  <a:ext cx="0" cy="144360"/>
                </a:xfrm>
                <a:prstGeom prst="line">
                  <a:avLst/>
                </a:prstGeom>
                <a:ln w="57240">
                  <a:solidFill>
                    <a:srgbClr val="009999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4344840" y="1828800"/>
                  <a:ext cx="156960" cy="865080"/>
                </a:xfrm>
                <a:custGeom>
                  <a:avLst/>
                  <a:gdLst/>
                  <a:ahLst/>
                  <a:rect l="l" t="t" r="r" b="b"/>
                  <a:pathLst>
                    <a:path w="99" h="545">
                      <a:moveTo>
                        <a:pt x="46" y="0"/>
                      </a:moveTo>
                      <a:cubicBezTo>
                        <a:pt x="42" y="26"/>
                        <a:pt x="39" y="53"/>
                        <a:pt x="46" y="91"/>
                      </a:cubicBezTo>
                      <a:cubicBezTo>
                        <a:pt x="53" y="129"/>
                        <a:pt x="99" y="182"/>
                        <a:pt x="91" y="227"/>
                      </a:cubicBezTo>
                      <a:cubicBezTo>
                        <a:pt x="83" y="272"/>
                        <a:pt x="0" y="310"/>
                        <a:pt x="0" y="363"/>
                      </a:cubicBezTo>
                      <a:cubicBezTo>
                        <a:pt x="0" y="416"/>
                        <a:pt x="45" y="480"/>
                        <a:pt x="91" y="545"/>
                      </a:cubicBezTo>
                    </a:path>
                  </a:pathLst>
                </a:custGeom>
                <a:noFill/>
                <a:ln w="57240">
                  <a:solidFill>
                    <a:srgbClr val="0099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4" name=""/>
              <p:cNvGrpSpPr/>
              <p:nvPr/>
            </p:nvGrpSpPr>
            <p:grpSpPr>
              <a:xfrm>
                <a:off x="5353200" y="1684080"/>
                <a:ext cx="156960" cy="1009800"/>
                <a:chOff x="5353200" y="1684080"/>
                <a:chExt cx="156960" cy="1009800"/>
              </a:xfrm>
            </p:grpSpPr>
            <p:sp>
              <p:nvSpPr>
                <p:cNvPr id="185" name=""/>
                <p:cNvSpPr/>
                <p:nvPr/>
              </p:nvSpPr>
              <p:spPr>
                <a:xfrm flipV="1">
                  <a:off x="5424480" y="1684080"/>
                  <a:ext cx="0" cy="144360"/>
                </a:xfrm>
                <a:prstGeom prst="line">
                  <a:avLst/>
                </a:prstGeom>
                <a:ln w="57240">
                  <a:solidFill>
                    <a:srgbClr val="009999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5353200" y="1828800"/>
                  <a:ext cx="156960" cy="865080"/>
                </a:xfrm>
                <a:custGeom>
                  <a:avLst/>
                  <a:gdLst/>
                  <a:ahLst/>
                  <a:rect l="l" t="t" r="r" b="b"/>
                  <a:pathLst>
                    <a:path w="99" h="545">
                      <a:moveTo>
                        <a:pt x="46" y="0"/>
                      </a:moveTo>
                      <a:cubicBezTo>
                        <a:pt x="42" y="26"/>
                        <a:pt x="39" y="53"/>
                        <a:pt x="46" y="91"/>
                      </a:cubicBezTo>
                      <a:cubicBezTo>
                        <a:pt x="53" y="129"/>
                        <a:pt x="99" y="182"/>
                        <a:pt x="91" y="227"/>
                      </a:cubicBezTo>
                      <a:cubicBezTo>
                        <a:pt x="83" y="272"/>
                        <a:pt x="0" y="310"/>
                        <a:pt x="0" y="363"/>
                      </a:cubicBezTo>
                      <a:cubicBezTo>
                        <a:pt x="0" y="416"/>
                        <a:pt x="45" y="480"/>
                        <a:pt x="91" y="545"/>
                      </a:cubicBezTo>
                    </a:path>
                  </a:pathLst>
                </a:custGeom>
                <a:noFill/>
                <a:ln w="57240">
                  <a:solidFill>
                    <a:srgbClr val="0099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87" name=""/>
            <p:cNvSpPr/>
            <p:nvPr/>
          </p:nvSpPr>
          <p:spPr>
            <a:xfrm>
              <a:off x="3956040" y="1177920"/>
              <a:ext cx="144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9999"/>
                  </a:solidFill>
                  <a:latin typeface="Arial"/>
                </a:rPr>
                <a:t>dam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6362640" y="3238560"/>
            <a:ext cx="2387520" cy="914400"/>
          </a:xfrm>
          <a:prstGeom prst="wedgeRoundRectCallout">
            <a:avLst>
              <a:gd name="adj1" fmla="val -73537"/>
              <a:gd name="adj2" fmla="val 90800"/>
              <a:gd name="adj3" fmla="val 16667"/>
            </a:avLst>
          </a:prstGeom>
          <a:solidFill>
            <a:srgbClr val="bbf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ste stof kristallisee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977760" y="558720"/>
            <a:ext cx="193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amp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286680" y="1790640"/>
            <a:ext cx="2387520" cy="596880"/>
          </a:xfrm>
          <a:prstGeom prst="wedgeRoundRectCallout">
            <a:avLst>
              <a:gd name="adj1" fmla="val -67152"/>
              <a:gd name="adj2" fmla="val 212500"/>
              <a:gd name="adj3" fmla="val 16667"/>
            </a:avLst>
          </a:prstGeom>
          <a:solidFill>
            <a:srgbClr val="bbf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lo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5" dur="5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1" dur="3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000"/>
                            </p:stCondLst>
                            <p:childTnLst>
                              <p:par>
                                <p:cTn id="14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5500"/>
                            </p:stCondLst>
                            <p:childTnLst>
                              <p:par>
                                <p:cTn id="15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ffa1c"/>
            </a:gs>
            <a:gs pos="100000">
              <a:srgbClr val="f4f99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2149560" y="3233880"/>
            <a:ext cx="4270320" cy="2458800"/>
          </a:xfrm>
          <a:custGeom>
            <a:avLst/>
            <a:gdLst/>
            <a:ahLst/>
            <a:rect l="l" t="t" r="r" b="b"/>
            <a:pathLst>
              <a:path w="1632" h="870">
                <a:moveTo>
                  <a:pt x="0" y="0"/>
                </a:moveTo>
                <a:lnTo>
                  <a:pt x="0" y="780"/>
                </a:lnTo>
                <a:lnTo>
                  <a:pt x="45" y="870"/>
                </a:lnTo>
                <a:lnTo>
                  <a:pt x="1587" y="870"/>
                </a:lnTo>
                <a:lnTo>
                  <a:pt x="1632" y="780"/>
                </a:lnTo>
                <a:lnTo>
                  <a:pt x="1632" y="0"/>
                </a:lnTo>
                <a:lnTo>
                  <a:pt x="0" y="0"/>
                </a:lnTo>
                <a:close/>
              </a:path>
            </a:pathLst>
          </a:custGeom>
          <a:solidFill>
            <a:srgbClr val="bbfe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38400" y="3222720"/>
            <a:ext cx="4270320" cy="2458800"/>
          </a:xfrm>
          <a:custGeom>
            <a:avLst/>
            <a:gdLst/>
            <a:ahLst/>
            <a:rect l="l" t="t" r="r" b="b"/>
            <a:pathLst>
              <a:path w="1632" h="870">
                <a:moveTo>
                  <a:pt x="0" y="0"/>
                </a:moveTo>
                <a:lnTo>
                  <a:pt x="0" y="780"/>
                </a:lnTo>
                <a:lnTo>
                  <a:pt x="45" y="870"/>
                </a:lnTo>
                <a:lnTo>
                  <a:pt x="1587" y="870"/>
                </a:lnTo>
                <a:lnTo>
                  <a:pt x="1632" y="780"/>
                </a:lnTo>
                <a:lnTo>
                  <a:pt x="1632" y="0"/>
                </a:lnTo>
                <a:lnTo>
                  <a:pt x="0" y="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2274840" y="4884840"/>
            <a:ext cx="4017600" cy="745200"/>
            <a:chOff x="2274840" y="4884840"/>
            <a:chExt cx="4017600" cy="745200"/>
          </a:xfrm>
        </p:grpSpPr>
        <p:sp>
          <p:nvSpPr>
            <p:cNvPr id="194" name=""/>
            <p:cNvSpPr/>
            <p:nvPr/>
          </p:nvSpPr>
          <p:spPr>
            <a:xfrm>
              <a:off x="5685480" y="5381280"/>
              <a:ext cx="188280" cy="2034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488400" y="5358960"/>
              <a:ext cx="188280" cy="2034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174480" y="5381280"/>
              <a:ext cx="187920" cy="2034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274840" y="5358960"/>
              <a:ext cx="187920" cy="2034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895000" y="5358960"/>
              <a:ext cx="187920" cy="2034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104520" y="5381280"/>
              <a:ext cx="187920" cy="2034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661840" y="5172840"/>
              <a:ext cx="187920" cy="2034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400480" y="5110560"/>
              <a:ext cx="187920" cy="2034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614040" y="5178600"/>
              <a:ext cx="187920" cy="2026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414040" y="5336640"/>
              <a:ext cx="187920" cy="2026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509280" y="4930200"/>
              <a:ext cx="188280" cy="2026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639320" y="5042880"/>
              <a:ext cx="188280" cy="2034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618440" y="5381280"/>
              <a:ext cx="188280" cy="2034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864960" y="5381280"/>
              <a:ext cx="188280" cy="2034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990960" y="5088240"/>
              <a:ext cx="187920" cy="2026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601960" y="5088240"/>
              <a:ext cx="188280" cy="2026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226680" y="4884840"/>
              <a:ext cx="188280" cy="2034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308920" y="5020200"/>
              <a:ext cx="188280" cy="2034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162400" y="5426640"/>
              <a:ext cx="188280" cy="2034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890600" y="5358960"/>
              <a:ext cx="187920" cy="2034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007080" y="5020200"/>
              <a:ext cx="187920" cy="2034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388400" y="5178600"/>
              <a:ext cx="187920" cy="2026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952880" y="5110560"/>
              <a:ext cx="188280" cy="2034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058280" y="5290920"/>
              <a:ext cx="188280" cy="2034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346280" y="5426640"/>
              <a:ext cx="188280" cy="2034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881440" y="5184360"/>
              <a:ext cx="187920" cy="2026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588400" y="5358960"/>
              <a:ext cx="188280" cy="2034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"/>
          <p:cNvSpPr/>
          <p:nvPr/>
        </p:nvSpPr>
        <p:spPr>
          <a:xfrm>
            <a:off x="1900080" y="1838160"/>
            <a:ext cx="4746960" cy="3843360"/>
          </a:xfrm>
          <a:custGeom>
            <a:avLst/>
            <a:gdLst/>
            <a:ahLst/>
            <a:rect l="l" t="t" r="r" b="b"/>
            <a:pathLst>
              <a:path w="1814" h="1360">
                <a:moveTo>
                  <a:pt x="0" y="0"/>
                </a:moveTo>
                <a:lnTo>
                  <a:pt x="91" y="136"/>
                </a:lnTo>
                <a:lnTo>
                  <a:pt x="91" y="1270"/>
                </a:lnTo>
                <a:lnTo>
                  <a:pt x="136" y="1360"/>
                </a:lnTo>
                <a:lnTo>
                  <a:pt x="1678" y="1360"/>
                </a:lnTo>
                <a:lnTo>
                  <a:pt x="1723" y="1270"/>
                </a:lnTo>
                <a:lnTo>
                  <a:pt x="1723" y="136"/>
                </a:lnTo>
                <a:lnTo>
                  <a:pt x="1814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2220840" y="4800960"/>
            <a:ext cx="3958920" cy="835560"/>
            <a:chOff x="2220840" y="4800960"/>
            <a:chExt cx="3958920" cy="835560"/>
          </a:xfrm>
        </p:grpSpPr>
        <p:sp>
          <p:nvSpPr>
            <p:cNvPr id="223" name=""/>
            <p:cNvSpPr/>
            <p:nvPr/>
          </p:nvSpPr>
          <p:spPr>
            <a:xfrm rot="21471000">
              <a:off x="5425560" y="5133240"/>
              <a:ext cx="188640" cy="203400"/>
            </a:xfrm>
            <a:prstGeom prst="ellipse">
              <a:avLst/>
            </a:prstGeom>
            <a:solidFill>
              <a:srgbClr val="5674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 rot="21471000">
              <a:off x="3671640" y="4990680"/>
              <a:ext cx="187920" cy="203400"/>
            </a:xfrm>
            <a:prstGeom prst="ellipse">
              <a:avLst/>
            </a:prstGeom>
            <a:solidFill>
              <a:srgbClr val="5674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 rot="21471000">
              <a:off x="3181320" y="5184720"/>
              <a:ext cx="187920" cy="203040"/>
            </a:xfrm>
            <a:prstGeom prst="ellipse">
              <a:avLst/>
            </a:prstGeom>
            <a:solidFill>
              <a:srgbClr val="5674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 rot="21471000">
              <a:off x="2604600" y="5019840"/>
              <a:ext cx="187920" cy="203040"/>
            </a:xfrm>
            <a:prstGeom prst="ellipse">
              <a:avLst/>
            </a:prstGeom>
            <a:solidFill>
              <a:srgbClr val="5674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21471000">
              <a:off x="5699520" y="5180400"/>
              <a:ext cx="188640" cy="203040"/>
            </a:xfrm>
            <a:prstGeom prst="ellipse">
              <a:avLst/>
            </a:prstGeom>
            <a:solidFill>
              <a:srgbClr val="5674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 rot="21471000">
              <a:off x="5987160" y="5158080"/>
              <a:ext cx="188640" cy="203400"/>
            </a:xfrm>
            <a:prstGeom prst="ellipse">
              <a:avLst/>
            </a:prstGeom>
            <a:solidFill>
              <a:srgbClr val="5674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 rot="21471000">
              <a:off x="2971080" y="5429880"/>
              <a:ext cx="187920" cy="203040"/>
            </a:xfrm>
            <a:prstGeom prst="ellipse">
              <a:avLst/>
            </a:prstGeom>
            <a:solidFill>
              <a:srgbClr val="5674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21471000">
              <a:off x="2224440" y="5214960"/>
              <a:ext cx="187920" cy="203040"/>
            </a:xfrm>
            <a:prstGeom prst="ellipse">
              <a:avLst/>
            </a:prstGeom>
            <a:solidFill>
              <a:srgbClr val="5674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 rot="21471000">
              <a:off x="3360600" y="4804200"/>
              <a:ext cx="188640" cy="203400"/>
            </a:xfrm>
            <a:prstGeom prst="ellipse">
              <a:avLst/>
            </a:prstGeom>
            <a:solidFill>
              <a:srgbClr val="5674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 rot="21471000">
              <a:off x="5012280" y="5420880"/>
              <a:ext cx="188640" cy="203040"/>
            </a:xfrm>
            <a:prstGeom prst="ellipse">
              <a:avLst/>
            </a:prstGeom>
            <a:solidFill>
              <a:srgbClr val="5674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21471000">
              <a:off x="3352320" y="5420880"/>
              <a:ext cx="188640" cy="203040"/>
            </a:xfrm>
            <a:prstGeom prst="ellipse">
              <a:avLst/>
            </a:prstGeom>
            <a:solidFill>
              <a:srgbClr val="5674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 rot="21471000">
              <a:off x="4179600" y="5412600"/>
              <a:ext cx="187920" cy="203400"/>
            </a:xfrm>
            <a:prstGeom prst="ellipse">
              <a:avLst/>
            </a:prstGeom>
            <a:solidFill>
              <a:srgbClr val="5674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 rot="21471000">
              <a:off x="4418640" y="4946040"/>
              <a:ext cx="187920" cy="203040"/>
            </a:xfrm>
            <a:prstGeom prst="ellipse">
              <a:avLst/>
            </a:prstGeom>
            <a:solidFill>
              <a:srgbClr val="5674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 rot="21471000">
              <a:off x="3793320" y="5166720"/>
              <a:ext cx="187920" cy="203400"/>
            </a:xfrm>
            <a:prstGeom prst="ellipse">
              <a:avLst/>
            </a:prstGeom>
            <a:solidFill>
              <a:srgbClr val="5674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 rot="21471000">
              <a:off x="4747320" y="5193360"/>
              <a:ext cx="187920" cy="203400"/>
            </a:xfrm>
            <a:prstGeom prst="ellipse">
              <a:avLst/>
            </a:prstGeom>
            <a:solidFill>
              <a:srgbClr val="5674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 rot="21471000">
              <a:off x="5809680" y="5045760"/>
              <a:ext cx="188640" cy="203040"/>
            </a:xfrm>
            <a:prstGeom prst="ellipse">
              <a:avLst/>
            </a:prstGeom>
            <a:solidFill>
              <a:srgbClr val="5674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 rot="21471000">
              <a:off x="2782080" y="5419800"/>
              <a:ext cx="188640" cy="203040"/>
            </a:xfrm>
            <a:prstGeom prst="ellipse">
              <a:avLst/>
            </a:prstGeom>
            <a:solidFill>
              <a:srgbClr val="5674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 rot="21471000">
              <a:off x="5530680" y="5423760"/>
              <a:ext cx="188640" cy="203400"/>
            </a:xfrm>
            <a:prstGeom prst="ellipse">
              <a:avLst/>
            </a:prstGeom>
            <a:solidFill>
              <a:srgbClr val="5674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 rot="21471000">
              <a:off x="5084280" y="4959720"/>
              <a:ext cx="188640" cy="203400"/>
            </a:xfrm>
            <a:prstGeom prst="ellipse">
              <a:avLst/>
            </a:prstGeom>
            <a:solidFill>
              <a:srgbClr val="5674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 rot="21471000">
              <a:off x="5133960" y="5156280"/>
              <a:ext cx="187920" cy="203400"/>
            </a:xfrm>
            <a:prstGeom prst="ellipse">
              <a:avLst/>
            </a:prstGeom>
            <a:solidFill>
              <a:srgbClr val="5674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 rot="21471000">
              <a:off x="2451600" y="5420880"/>
              <a:ext cx="188640" cy="203040"/>
            </a:xfrm>
            <a:prstGeom prst="ellipse">
              <a:avLst/>
            </a:prstGeom>
            <a:solidFill>
              <a:srgbClr val="5674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 rot="21471000">
              <a:off x="2819160" y="5022360"/>
              <a:ext cx="188640" cy="203400"/>
            </a:xfrm>
            <a:prstGeom prst="ellipse">
              <a:avLst/>
            </a:prstGeom>
            <a:solidFill>
              <a:srgbClr val="5674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 rot="21471000">
              <a:off x="4806360" y="4947840"/>
              <a:ext cx="187920" cy="203400"/>
            </a:xfrm>
            <a:prstGeom prst="ellipse">
              <a:avLst/>
            </a:prstGeom>
            <a:solidFill>
              <a:srgbClr val="5674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 rot="21471000">
              <a:off x="3671280" y="5409000"/>
              <a:ext cx="188640" cy="203040"/>
            </a:xfrm>
            <a:prstGeom prst="ellipse">
              <a:avLst/>
            </a:prstGeom>
            <a:solidFill>
              <a:srgbClr val="5674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 rot="21471000">
              <a:off x="4177440" y="5084640"/>
              <a:ext cx="188640" cy="203040"/>
            </a:xfrm>
            <a:prstGeom prst="ellipse">
              <a:avLst/>
            </a:prstGeom>
            <a:solidFill>
              <a:srgbClr val="5674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 rot="21471000">
              <a:off x="3400200" y="5164560"/>
              <a:ext cx="188640" cy="203040"/>
            </a:xfrm>
            <a:prstGeom prst="ellipse">
              <a:avLst/>
            </a:prstGeom>
            <a:solidFill>
              <a:srgbClr val="5674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 rot="21471000">
              <a:off x="2402640" y="4953240"/>
              <a:ext cx="188640" cy="203040"/>
            </a:xfrm>
            <a:prstGeom prst="ellipse">
              <a:avLst/>
            </a:prstGeom>
            <a:solidFill>
              <a:srgbClr val="5674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939960" y="546120"/>
            <a:ext cx="173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ah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920880" y="6051600"/>
            <a:ext cx="234720" cy="235080"/>
          </a:xfrm>
          <a:prstGeom prst="ellipse">
            <a:avLst/>
          </a:prstGeom>
          <a:solidFill>
            <a:srgbClr val="5674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327320" y="5950080"/>
            <a:ext cx="217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oplosba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495680" y="6039000"/>
            <a:ext cx="235080" cy="234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915080" y="5937120"/>
            <a:ext cx="302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niet oplosba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809880" y="546120"/>
            <a:ext cx="2870280" cy="1295280"/>
          </a:xfrm>
          <a:prstGeom prst="wedgeRoundRectCallout">
            <a:avLst>
              <a:gd name="adj1" fmla="val -18694"/>
              <a:gd name="adj2" fmla="val 137620"/>
              <a:gd name="adj3" fmla="val 16667"/>
            </a:avLst>
          </a:prstGeom>
          <a:solidFill>
            <a:srgbClr val="bbf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losmiddel trekt groene stof uit mengs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756480" y="3683160"/>
            <a:ext cx="2019240" cy="914400"/>
          </a:xfrm>
          <a:prstGeom prst="wedgeRoundRectCallout">
            <a:avLst>
              <a:gd name="adj1" fmla="val -72171"/>
              <a:gd name="adj2" fmla="val 128300"/>
              <a:gd name="adj3" fmla="val 16667"/>
            </a:avLst>
          </a:prstGeom>
          <a:solidFill>
            <a:srgbClr val="bbf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de stof lost niet 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3" dur="5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6" dur="5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ffa1c"/>
            </a:gs>
            <a:gs pos="100000">
              <a:srgbClr val="f4f99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2514600" y="2289240"/>
            <a:ext cx="4098960" cy="3111480"/>
            <a:chOff x="2514600" y="2289240"/>
            <a:chExt cx="4098960" cy="3111480"/>
          </a:xfrm>
        </p:grpSpPr>
        <p:sp>
          <p:nvSpPr>
            <p:cNvPr id="258" name=""/>
            <p:cNvSpPr/>
            <p:nvPr/>
          </p:nvSpPr>
          <p:spPr>
            <a:xfrm>
              <a:off x="2514600" y="2289240"/>
              <a:ext cx="4098960" cy="3111480"/>
            </a:xfrm>
            <a:custGeom>
              <a:avLst/>
              <a:gdLst/>
              <a:ahLst/>
              <a:rect l="l" t="t" r="r" b="b"/>
              <a:pathLst>
                <a:path w="1814" h="1360">
                  <a:moveTo>
                    <a:pt x="0" y="0"/>
                  </a:moveTo>
                  <a:lnTo>
                    <a:pt x="91" y="136"/>
                  </a:lnTo>
                  <a:lnTo>
                    <a:pt x="91" y="1270"/>
                  </a:lnTo>
                  <a:lnTo>
                    <a:pt x="136" y="1360"/>
                  </a:lnTo>
                  <a:lnTo>
                    <a:pt x="1678" y="1360"/>
                  </a:lnTo>
                  <a:lnTo>
                    <a:pt x="1723" y="1270"/>
                  </a:lnTo>
                  <a:lnTo>
                    <a:pt x="1723" y="136"/>
                  </a:lnTo>
                  <a:lnTo>
                    <a:pt x="1814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721240" y="3409920"/>
              <a:ext cx="3686040" cy="1990800"/>
            </a:xfrm>
            <a:custGeom>
              <a:avLst/>
              <a:gdLst/>
              <a:ahLst/>
              <a:rect l="l" t="t" r="r" b="b"/>
              <a:pathLst>
                <a:path w="1632" h="870">
                  <a:moveTo>
                    <a:pt x="0" y="0"/>
                  </a:moveTo>
                  <a:lnTo>
                    <a:pt x="0" y="780"/>
                  </a:lnTo>
                  <a:lnTo>
                    <a:pt x="45" y="870"/>
                  </a:lnTo>
                  <a:lnTo>
                    <a:pt x="1587" y="870"/>
                  </a:lnTo>
                  <a:lnTo>
                    <a:pt x="1632" y="780"/>
                  </a:lnTo>
                  <a:lnTo>
                    <a:pt x="163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bfe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0" name=""/>
          <p:cNvSpPr/>
          <p:nvPr/>
        </p:nvSpPr>
        <p:spPr>
          <a:xfrm>
            <a:off x="974880" y="557280"/>
            <a:ext cx="20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sorb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20880" y="3424320"/>
            <a:ext cx="3686400" cy="1990800"/>
          </a:xfrm>
          <a:custGeom>
            <a:avLst/>
            <a:gdLst/>
            <a:ahLst/>
            <a:rect l="l" t="t" r="r" b="b"/>
            <a:pathLst>
              <a:path w="1632" h="870">
                <a:moveTo>
                  <a:pt x="0" y="0"/>
                </a:moveTo>
                <a:lnTo>
                  <a:pt x="0" y="780"/>
                </a:lnTo>
                <a:lnTo>
                  <a:pt x="45" y="870"/>
                </a:lnTo>
                <a:lnTo>
                  <a:pt x="1587" y="870"/>
                </a:lnTo>
                <a:lnTo>
                  <a:pt x="1632" y="780"/>
                </a:lnTo>
                <a:lnTo>
                  <a:pt x="1632" y="0"/>
                </a:lnTo>
                <a:lnTo>
                  <a:pt x="0" y="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3044880" y="3548160"/>
            <a:ext cx="3123720" cy="1751760"/>
            <a:chOff x="3044880" y="3548160"/>
            <a:chExt cx="3123720" cy="1751760"/>
          </a:xfrm>
        </p:grpSpPr>
        <p:sp>
          <p:nvSpPr>
            <p:cNvPr id="263" name=""/>
            <p:cNvSpPr/>
            <p:nvPr/>
          </p:nvSpPr>
          <p:spPr>
            <a:xfrm>
              <a:off x="4274640" y="4296600"/>
              <a:ext cx="145800" cy="1638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567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562560" y="3712680"/>
              <a:ext cx="145800" cy="1638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567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530520" y="4552200"/>
              <a:ext cx="145440" cy="1638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567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724560" y="4241880"/>
              <a:ext cx="145440" cy="1645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567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983400" y="4916880"/>
              <a:ext cx="145800" cy="1645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567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530520" y="5117760"/>
              <a:ext cx="145440" cy="1645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567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902760" y="3949920"/>
              <a:ext cx="145440" cy="1638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567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618160" y="4698000"/>
              <a:ext cx="145800" cy="1638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567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987440" y="4114080"/>
              <a:ext cx="145440" cy="1645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567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744080" y="4935600"/>
              <a:ext cx="145800" cy="1638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567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339440" y="4661280"/>
              <a:ext cx="145800" cy="1645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567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439960" y="4278600"/>
              <a:ext cx="145800" cy="1638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567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780160" y="4041000"/>
              <a:ext cx="145800" cy="1638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567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142080" y="4935600"/>
              <a:ext cx="145440" cy="1638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567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181480" y="3876480"/>
              <a:ext cx="145440" cy="1645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567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326920" y="4898880"/>
              <a:ext cx="145800" cy="1645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567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022800" y="4698000"/>
              <a:ext cx="145800" cy="1638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567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618160" y="5136120"/>
              <a:ext cx="145800" cy="1638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567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727880" y="4004280"/>
              <a:ext cx="145800" cy="1645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567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922280" y="3621600"/>
              <a:ext cx="145800" cy="1638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567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889880" y="4515480"/>
              <a:ext cx="145440" cy="1645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567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469400" y="3712680"/>
              <a:ext cx="145440" cy="1638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567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371840" y="5026680"/>
              <a:ext cx="145800" cy="1638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567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129200" y="3621600"/>
              <a:ext cx="145440" cy="1638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567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634720" y="3694320"/>
              <a:ext cx="145440" cy="1638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567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142080" y="4077720"/>
              <a:ext cx="145440" cy="1638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567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044880" y="3548160"/>
              <a:ext cx="145800" cy="1645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567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3036960" y="3543480"/>
            <a:ext cx="3134880" cy="1764720"/>
            <a:chOff x="3036960" y="3543480"/>
            <a:chExt cx="3134880" cy="1764720"/>
          </a:xfrm>
        </p:grpSpPr>
        <p:sp>
          <p:nvSpPr>
            <p:cNvPr id="291" name=""/>
            <p:cNvSpPr/>
            <p:nvPr/>
          </p:nvSpPr>
          <p:spPr>
            <a:xfrm>
              <a:off x="3138480" y="4925880"/>
              <a:ext cx="151920" cy="177480"/>
            </a:xfrm>
            <a:prstGeom prst="ellipse">
              <a:avLst/>
            </a:prstGeom>
            <a:noFill/>
            <a:ln w="38160">
              <a:solidFill>
                <a:srgbClr val="567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25840" y="5113080"/>
              <a:ext cx="151920" cy="177480"/>
            </a:xfrm>
            <a:prstGeom prst="ellipse">
              <a:avLst/>
            </a:prstGeom>
            <a:noFill/>
            <a:ln w="38160">
              <a:solidFill>
                <a:srgbClr val="567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978000" y="4913280"/>
              <a:ext cx="152280" cy="177480"/>
            </a:xfrm>
            <a:prstGeom prst="ellipse">
              <a:avLst/>
            </a:prstGeom>
            <a:noFill/>
            <a:ln w="38160">
              <a:solidFill>
                <a:srgbClr val="567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20800" y="4541760"/>
              <a:ext cx="152280" cy="177480"/>
            </a:xfrm>
            <a:prstGeom prst="ellipse">
              <a:avLst/>
            </a:prstGeom>
            <a:noFill/>
            <a:ln w="38160">
              <a:solidFill>
                <a:srgbClr val="567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363920" y="5018040"/>
              <a:ext cx="151920" cy="177480"/>
            </a:xfrm>
            <a:prstGeom prst="ellipse">
              <a:avLst/>
            </a:prstGeom>
            <a:noFill/>
            <a:ln w="38160">
              <a:solidFill>
                <a:srgbClr val="567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135240" y="4070160"/>
              <a:ext cx="151920" cy="177480"/>
            </a:xfrm>
            <a:prstGeom prst="ellipse">
              <a:avLst/>
            </a:prstGeom>
            <a:noFill/>
            <a:ln w="38160">
              <a:solidFill>
                <a:srgbClr val="567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720960" y="4236840"/>
              <a:ext cx="151920" cy="177480"/>
            </a:xfrm>
            <a:prstGeom prst="ellipse">
              <a:avLst/>
            </a:prstGeom>
            <a:noFill/>
            <a:ln w="38160">
              <a:solidFill>
                <a:srgbClr val="567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3892320" y="3941640"/>
              <a:ext cx="152280" cy="177480"/>
            </a:xfrm>
            <a:prstGeom prst="ellipse">
              <a:avLst/>
            </a:prstGeom>
            <a:noFill/>
            <a:ln w="38160">
              <a:solidFill>
                <a:srgbClr val="567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4335480" y="4655880"/>
              <a:ext cx="151920" cy="177480"/>
            </a:xfrm>
            <a:prstGeom prst="ellipse">
              <a:avLst/>
            </a:prstGeom>
            <a:noFill/>
            <a:ln w="38160">
              <a:solidFill>
                <a:srgbClr val="567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268520" y="4284720"/>
              <a:ext cx="152280" cy="177480"/>
            </a:xfrm>
            <a:prstGeom prst="ellipse">
              <a:avLst/>
            </a:prstGeom>
            <a:noFill/>
            <a:ln w="38160">
              <a:solidFill>
                <a:srgbClr val="567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58960" y="3703680"/>
              <a:ext cx="152280" cy="177480"/>
            </a:xfrm>
            <a:prstGeom prst="ellipse">
              <a:avLst/>
            </a:prstGeom>
            <a:noFill/>
            <a:ln w="38160">
              <a:solidFill>
                <a:srgbClr val="567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036960" y="3543480"/>
              <a:ext cx="152280" cy="177480"/>
            </a:xfrm>
            <a:prstGeom prst="ellipse">
              <a:avLst/>
            </a:prstGeom>
            <a:noFill/>
            <a:ln w="38160">
              <a:solidFill>
                <a:srgbClr val="567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122720" y="3614760"/>
              <a:ext cx="151920" cy="177480"/>
            </a:xfrm>
            <a:prstGeom prst="ellipse">
              <a:avLst/>
            </a:prstGeom>
            <a:noFill/>
            <a:ln w="38160">
              <a:solidFill>
                <a:srgbClr val="567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465440" y="3705120"/>
              <a:ext cx="151920" cy="177480"/>
            </a:xfrm>
            <a:prstGeom prst="ellipse">
              <a:avLst/>
            </a:prstGeom>
            <a:noFill/>
            <a:ln w="38160">
              <a:solidFill>
                <a:srgbClr val="567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924440" y="3616200"/>
              <a:ext cx="151920" cy="177480"/>
            </a:xfrm>
            <a:prstGeom prst="ellipse">
              <a:avLst/>
            </a:prstGeom>
            <a:noFill/>
            <a:ln w="38160">
              <a:solidFill>
                <a:srgbClr val="567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724280" y="3992400"/>
              <a:ext cx="151920" cy="177480"/>
            </a:xfrm>
            <a:prstGeom prst="ellipse">
              <a:avLst/>
            </a:prstGeom>
            <a:noFill/>
            <a:ln w="38160">
              <a:solidFill>
                <a:srgbClr val="567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176800" y="3868560"/>
              <a:ext cx="151920" cy="177480"/>
            </a:xfrm>
            <a:prstGeom prst="ellipse">
              <a:avLst/>
            </a:prstGeom>
            <a:noFill/>
            <a:ln w="38160">
              <a:solidFill>
                <a:srgbClr val="567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634000" y="3682800"/>
              <a:ext cx="151920" cy="177480"/>
            </a:xfrm>
            <a:prstGeom prst="ellipse">
              <a:avLst/>
            </a:prstGeom>
            <a:noFill/>
            <a:ln w="38160">
              <a:solidFill>
                <a:srgbClr val="567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771880" y="4030560"/>
              <a:ext cx="152280" cy="177480"/>
            </a:xfrm>
            <a:prstGeom prst="ellipse">
              <a:avLst/>
            </a:prstGeom>
            <a:noFill/>
            <a:ln w="38160">
              <a:solidFill>
                <a:srgbClr val="567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986360" y="4106880"/>
              <a:ext cx="151920" cy="177480"/>
            </a:xfrm>
            <a:prstGeom prst="ellipse">
              <a:avLst/>
            </a:prstGeom>
            <a:noFill/>
            <a:ln w="38160">
              <a:solidFill>
                <a:srgbClr val="567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5438520" y="4273560"/>
              <a:ext cx="152280" cy="177480"/>
            </a:xfrm>
            <a:prstGeom prst="ellipse">
              <a:avLst/>
            </a:prstGeom>
            <a:noFill/>
            <a:ln w="38160">
              <a:solidFill>
                <a:srgbClr val="567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886280" y="4506840"/>
              <a:ext cx="151920" cy="177480"/>
            </a:xfrm>
            <a:prstGeom prst="ellipse">
              <a:avLst/>
            </a:prstGeom>
            <a:noFill/>
            <a:ln w="38160">
              <a:solidFill>
                <a:srgbClr val="567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4743360" y="4930560"/>
              <a:ext cx="151920" cy="177480"/>
            </a:xfrm>
            <a:prstGeom prst="ellipse">
              <a:avLst/>
            </a:prstGeom>
            <a:noFill/>
            <a:ln w="38160">
              <a:solidFill>
                <a:srgbClr val="567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319720" y="4892760"/>
              <a:ext cx="151920" cy="177120"/>
            </a:xfrm>
            <a:prstGeom prst="ellipse">
              <a:avLst/>
            </a:prstGeom>
            <a:noFill/>
            <a:ln w="38160">
              <a:solidFill>
                <a:srgbClr val="567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5619600" y="4687920"/>
              <a:ext cx="151920" cy="177480"/>
            </a:xfrm>
            <a:prstGeom prst="ellipse">
              <a:avLst/>
            </a:prstGeom>
            <a:noFill/>
            <a:ln w="38160">
              <a:solidFill>
                <a:srgbClr val="567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6019560" y="4692600"/>
              <a:ext cx="152280" cy="177480"/>
            </a:xfrm>
            <a:prstGeom prst="ellipse">
              <a:avLst/>
            </a:prstGeom>
            <a:noFill/>
            <a:ln w="38160">
              <a:solidFill>
                <a:srgbClr val="567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5619600" y="5130720"/>
              <a:ext cx="151920" cy="177480"/>
            </a:xfrm>
            <a:prstGeom prst="ellipse">
              <a:avLst/>
            </a:prstGeom>
            <a:noFill/>
            <a:ln w="38160">
              <a:solidFill>
                <a:srgbClr val="567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6915240" y="1039680"/>
            <a:ext cx="2019240" cy="1292400"/>
          </a:xfrm>
          <a:prstGeom prst="wedgeRoundRectCallout">
            <a:avLst>
              <a:gd name="adj1" fmla="val -91430"/>
              <a:gd name="adj2" fmla="val 14495"/>
              <a:gd name="adj3" fmla="val 16667"/>
            </a:avLst>
          </a:prstGeom>
          <a:solidFill>
            <a:srgbClr val="bbf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dsorbeer-middel toevoe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247680" y="5864400"/>
            <a:ext cx="2387520" cy="596880"/>
          </a:xfrm>
          <a:prstGeom prst="wedgeRoundRectCallout">
            <a:avLst>
              <a:gd name="adj1" fmla="val 62898"/>
              <a:gd name="adj2" fmla="val -167287"/>
              <a:gd name="adj3" fmla="val 16667"/>
            </a:avLst>
          </a:prstGeom>
          <a:solidFill>
            <a:srgbClr val="bbf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lo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6783480" y="3679920"/>
            <a:ext cx="2178000" cy="1611360"/>
          </a:xfrm>
          <a:prstGeom prst="wedgeRoundRectCallout">
            <a:avLst>
              <a:gd name="adj1" fmla="val -77115"/>
              <a:gd name="adj2" fmla="val 16995"/>
              <a:gd name="adj3" fmla="val 16667"/>
            </a:avLst>
          </a:prstGeom>
          <a:solidFill>
            <a:srgbClr val="bbf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tof gehecht a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dsorbeer-mid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3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3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3000"/>
                            </p:stCondLst>
                            <p:childTnLst>
                              <p:par>
                                <p:cTn id="19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0" dur="5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5000"/>
                            </p:stCondLst>
                            <p:childTnLst>
                              <p:par>
                                <p:cTn id="2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ffa1c"/>
            </a:gs>
            <a:gs pos="100000">
              <a:srgbClr val="f4f99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/>
          <p:nvPr/>
        </p:nvSpPr>
        <p:spPr>
          <a:xfrm>
            <a:off x="2373480" y="4471920"/>
            <a:ext cx="1739880" cy="647640"/>
          </a:xfrm>
          <a:custGeom>
            <a:avLst/>
            <a:gdLst/>
            <a:ahLst/>
            <a:rect l="l" t="t" r="r" b="b"/>
            <a:pathLst>
              <a:path w="1096" h="408">
                <a:moveTo>
                  <a:pt x="16" y="43"/>
                </a:moveTo>
                <a:cubicBezTo>
                  <a:pt x="20" y="54"/>
                  <a:pt x="27" y="69"/>
                  <a:pt x="33" y="82"/>
                </a:cubicBezTo>
                <a:cubicBezTo>
                  <a:pt x="39" y="95"/>
                  <a:pt x="44" y="108"/>
                  <a:pt x="51" y="119"/>
                </a:cubicBezTo>
                <a:cubicBezTo>
                  <a:pt x="58" y="130"/>
                  <a:pt x="66" y="137"/>
                  <a:pt x="73" y="148"/>
                </a:cubicBezTo>
                <a:cubicBezTo>
                  <a:pt x="80" y="159"/>
                  <a:pt x="87" y="174"/>
                  <a:pt x="94" y="184"/>
                </a:cubicBezTo>
                <a:cubicBezTo>
                  <a:pt x="101" y="194"/>
                  <a:pt x="110" y="199"/>
                  <a:pt x="118" y="208"/>
                </a:cubicBezTo>
                <a:cubicBezTo>
                  <a:pt x="126" y="217"/>
                  <a:pt x="131" y="228"/>
                  <a:pt x="142" y="239"/>
                </a:cubicBezTo>
                <a:cubicBezTo>
                  <a:pt x="153" y="250"/>
                  <a:pt x="171" y="263"/>
                  <a:pt x="184" y="274"/>
                </a:cubicBezTo>
                <a:cubicBezTo>
                  <a:pt x="197" y="285"/>
                  <a:pt x="209" y="298"/>
                  <a:pt x="220" y="306"/>
                </a:cubicBezTo>
                <a:cubicBezTo>
                  <a:pt x="231" y="314"/>
                  <a:pt x="240" y="315"/>
                  <a:pt x="251" y="321"/>
                </a:cubicBezTo>
                <a:cubicBezTo>
                  <a:pt x="262" y="327"/>
                  <a:pt x="272" y="337"/>
                  <a:pt x="288" y="345"/>
                </a:cubicBezTo>
                <a:cubicBezTo>
                  <a:pt x="304" y="353"/>
                  <a:pt x="332" y="365"/>
                  <a:pt x="349" y="371"/>
                </a:cubicBezTo>
                <a:cubicBezTo>
                  <a:pt x="366" y="377"/>
                  <a:pt x="377" y="380"/>
                  <a:pt x="392" y="384"/>
                </a:cubicBezTo>
                <a:cubicBezTo>
                  <a:pt x="407" y="388"/>
                  <a:pt x="424" y="394"/>
                  <a:pt x="440" y="397"/>
                </a:cubicBezTo>
                <a:cubicBezTo>
                  <a:pt x="456" y="400"/>
                  <a:pt x="476" y="398"/>
                  <a:pt x="490" y="400"/>
                </a:cubicBezTo>
                <a:cubicBezTo>
                  <a:pt x="504" y="402"/>
                  <a:pt x="510" y="408"/>
                  <a:pt x="527" y="408"/>
                </a:cubicBezTo>
                <a:cubicBezTo>
                  <a:pt x="544" y="408"/>
                  <a:pt x="573" y="404"/>
                  <a:pt x="592" y="402"/>
                </a:cubicBezTo>
                <a:cubicBezTo>
                  <a:pt x="611" y="400"/>
                  <a:pt x="627" y="399"/>
                  <a:pt x="640" y="398"/>
                </a:cubicBezTo>
                <a:cubicBezTo>
                  <a:pt x="653" y="397"/>
                  <a:pt x="660" y="396"/>
                  <a:pt x="673" y="393"/>
                </a:cubicBezTo>
                <a:cubicBezTo>
                  <a:pt x="686" y="390"/>
                  <a:pt x="705" y="383"/>
                  <a:pt x="720" y="378"/>
                </a:cubicBezTo>
                <a:cubicBezTo>
                  <a:pt x="735" y="373"/>
                  <a:pt x="749" y="366"/>
                  <a:pt x="762" y="361"/>
                </a:cubicBezTo>
                <a:cubicBezTo>
                  <a:pt x="775" y="356"/>
                  <a:pt x="784" y="353"/>
                  <a:pt x="797" y="347"/>
                </a:cubicBezTo>
                <a:cubicBezTo>
                  <a:pt x="810" y="341"/>
                  <a:pt x="826" y="330"/>
                  <a:pt x="840" y="322"/>
                </a:cubicBezTo>
                <a:cubicBezTo>
                  <a:pt x="854" y="314"/>
                  <a:pt x="869" y="305"/>
                  <a:pt x="881" y="297"/>
                </a:cubicBezTo>
                <a:cubicBezTo>
                  <a:pt x="893" y="289"/>
                  <a:pt x="900" y="283"/>
                  <a:pt x="912" y="272"/>
                </a:cubicBezTo>
                <a:cubicBezTo>
                  <a:pt x="924" y="261"/>
                  <a:pt x="941" y="244"/>
                  <a:pt x="953" y="232"/>
                </a:cubicBezTo>
                <a:cubicBezTo>
                  <a:pt x="965" y="220"/>
                  <a:pt x="972" y="216"/>
                  <a:pt x="983" y="202"/>
                </a:cubicBezTo>
                <a:cubicBezTo>
                  <a:pt x="994" y="188"/>
                  <a:pt x="1011" y="166"/>
                  <a:pt x="1022" y="150"/>
                </a:cubicBezTo>
                <a:cubicBezTo>
                  <a:pt x="1033" y="134"/>
                  <a:pt x="1040" y="119"/>
                  <a:pt x="1048" y="104"/>
                </a:cubicBezTo>
                <a:cubicBezTo>
                  <a:pt x="1056" y="89"/>
                  <a:pt x="1065" y="69"/>
                  <a:pt x="1070" y="58"/>
                </a:cubicBezTo>
                <a:cubicBezTo>
                  <a:pt x="1075" y="47"/>
                  <a:pt x="1076" y="42"/>
                  <a:pt x="1079" y="35"/>
                </a:cubicBezTo>
                <a:cubicBezTo>
                  <a:pt x="1082" y="28"/>
                  <a:pt x="1084" y="22"/>
                  <a:pt x="1086" y="17"/>
                </a:cubicBezTo>
                <a:cubicBezTo>
                  <a:pt x="1088" y="12"/>
                  <a:pt x="1096" y="4"/>
                  <a:pt x="1092" y="2"/>
                </a:cubicBezTo>
                <a:cubicBezTo>
                  <a:pt x="1088" y="0"/>
                  <a:pt x="1080" y="4"/>
                  <a:pt x="1064" y="4"/>
                </a:cubicBezTo>
                <a:cubicBezTo>
                  <a:pt x="1048" y="4"/>
                  <a:pt x="1020" y="4"/>
                  <a:pt x="996" y="4"/>
                </a:cubicBezTo>
                <a:cubicBezTo>
                  <a:pt x="972" y="4"/>
                  <a:pt x="946" y="4"/>
                  <a:pt x="918" y="4"/>
                </a:cubicBezTo>
                <a:cubicBezTo>
                  <a:pt x="890" y="4"/>
                  <a:pt x="857" y="4"/>
                  <a:pt x="827" y="4"/>
                </a:cubicBezTo>
                <a:cubicBezTo>
                  <a:pt x="797" y="4"/>
                  <a:pt x="770" y="4"/>
                  <a:pt x="735" y="4"/>
                </a:cubicBezTo>
                <a:cubicBezTo>
                  <a:pt x="700" y="4"/>
                  <a:pt x="652" y="4"/>
                  <a:pt x="614" y="4"/>
                </a:cubicBezTo>
                <a:cubicBezTo>
                  <a:pt x="576" y="4"/>
                  <a:pt x="536" y="4"/>
                  <a:pt x="507" y="4"/>
                </a:cubicBezTo>
                <a:cubicBezTo>
                  <a:pt x="478" y="4"/>
                  <a:pt x="460" y="4"/>
                  <a:pt x="438" y="4"/>
                </a:cubicBezTo>
                <a:cubicBezTo>
                  <a:pt x="416" y="4"/>
                  <a:pt x="399" y="4"/>
                  <a:pt x="377" y="4"/>
                </a:cubicBezTo>
                <a:cubicBezTo>
                  <a:pt x="355" y="4"/>
                  <a:pt x="326" y="4"/>
                  <a:pt x="305" y="4"/>
                </a:cubicBezTo>
                <a:cubicBezTo>
                  <a:pt x="284" y="4"/>
                  <a:pt x="269" y="4"/>
                  <a:pt x="249" y="4"/>
                </a:cubicBezTo>
                <a:cubicBezTo>
                  <a:pt x="229" y="4"/>
                  <a:pt x="204" y="4"/>
                  <a:pt x="183" y="4"/>
                </a:cubicBezTo>
                <a:cubicBezTo>
                  <a:pt x="162" y="4"/>
                  <a:pt x="138" y="4"/>
                  <a:pt x="120" y="4"/>
                </a:cubicBezTo>
                <a:cubicBezTo>
                  <a:pt x="102" y="4"/>
                  <a:pt x="89" y="4"/>
                  <a:pt x="77" y="4"/>
                </a:cubicBezTo>
                <a:cubicBezTo>
                  <a:pt x="65" y="4"/>
                  <a:pt x="58" y="4"/>
                  <a:pt x="49" y="4"/>
                </a:cubicBezTo>
                <a:cubicBezTo>
                  <a:pt x="40" y="4"/>
                  <a:pt x="33" y="4"/>
                  <a:pt x="25" y="4"/>
                </a:cubicBezTo>
                <a:cubicBezTo>
                  <a:pt x="17" y="4"/>
                  <a:pt x="6" y="2"/>
                  <a:pt x="3" y="4"/>
                </a:cubicBezTo>
                <a:cubicBezTo>
                  <a:pt x="0" y="6"/>
                  <a:pt x="6" y="12"/>
                  <a:pt x="7" y="17"/>
                </a:cubicBezTo>
                <a:cubicBezTo>
                  <a:pt x="8" y="22"/>
                  <a:pt x="12" y="32"/>
                  <a:pt x="16" y="43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341440" y="3317760"/>
            <a:ext cx="1800360" cy="180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368520" y="1378080"/>
            <a:ext cx="4253040" cy="1960560"/>
          </a:xfrm>
          <a:custGeom>
            <a:avLst/>
            <a:gdLst/>
            <a:ahLst/>
            <a:rect l="l" t="t" r="r" b="b"/>
            <a:pathLst>
              <a:path w="2679" h="1235">
                <a:moveTo>
                  <a:pt x="9" y="1235"/>
                </a:moveTo>
                <a:cubicBezTo>
                  <a:pt x="9" y="950"/>
                  <a:pt x="9" y="666"/>
                  <a:pt x="9" y="486"/>
                </a:cubicBezTo>
                <a:cubicBezTo>
                  <a:pt x="9" y="306"/>
                  <a:pt x="0" y="232"/>
                  <a:pt x="9" y="156"/>
                </a:cubicBezTo>
                <a:cubicBezTo>
                  <a:pt x="18" y="80"/>
                  <a:pt x="31" y="50"/>
                  <a:pt x="60" y="29"/>
                </a:cubicBezTo>
                <a:cubicBezTo>
                  <a:pt x="89" y="8"/>
                  <a:pt x="108" y="7"/>
                  <a:pt x="186" y="29"/>
                </a:cubicBezTo>
                <a:cubicBezTo>
                  <a:pt x="264" y="51"/>
                  <a:pt x="116" y="0"/>
                  <a:pt x="531" y="158"/>
                </a:cubicBezTo>
                <a:cubicBezTo>
                  <a:pt x="946" y="316"/>
                  <a:pt x="2232" y="808"/>
                  <a:pt x="2679" y="979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105000" y="920880"/>
            <a:ext cx="4588200" cy="2417760"/>
          </a:xfrm>
          <a:custGeom>
            <a:avLst/>
            <a:gdLst/>
            <a:ahLst/>
            <a:rect l="l" t="t" r="r" b="b"/>
            <a:pathLst>
              <a:path w="2890" h="1523">
                <a:moveTo>
                  <a:pt x="1" y="1523"/>
                </a:moveTo>
                <a:cubicBezTo>
                  <a:pt x="2" y="1354"/>
                  <a:pt x="8" y="725"/>
                  <a:pt x="9" y="499"/>
                </a:cubicBezTo>
                <a:cubicBezTo>
                  <a:pt x="10" y="273"/>
                  <a:pt x="0" y="245"/>
                  <a:pt x="9" y="169"/>
                </a:cubicBezTo>
                <a:cubicBezTo>
                  <a:pt x="18" y="93"/>
                  <a:pt x="31" y="63"/>
                  <a:pt x="60" y="42"/>
                </a:cubicBezTo>
                <a:cubicBezTo>
                  <a:pt x="89" y="21"/>
                  <a:pt x="108" y="20"/>
                  <a:pt x="186" y="42"/>
                </a:cubicBezTo>
                <a:cubicBezTo>
                  <a:pt x="264" y="64"/>
                  <a:pt x="80" y="0"/>
                  <a:pt x="531" y="171"/>
                </a:cubicBezTo>
                <a:cubicBezTo>
                  <a:pt x="982" y="342"/>
                  <a:pt x="2399" y="880"/>
                  <a:pt x="2890" y="1066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3117960" y="3290760"/>
            <a:ext cx="257040" cy="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2665440" y="5175000"/>
            <a:ext cx="1484280" cy="1437840"/>
            <a:chOff x="2665440" y="5175000"/>
            <a:chExt cx="1484280" cy="1437840"/>
          </a:xfrm>
        </p:grpSpPr>
        <p:grpSp>
          <p:nvGrpSpPr>
            <p:cNvPr id="327" name=""/>
            <p:cNvGrpSpPr/>
            <p:nvPr/>
          </p:nvGrpSpPr>
          <p:grpSpPr>
            <a:xfrm>
              <a:off x="2665440" y="5175000"/>
              <a:ext cx="156960" cy="1009800"/>
              <a:chOff x="2665440" y="5175000"/>
              <a:chExt cx="156960" cy="1009800"/>
            </a:xfrm>
          </p:grpSpPr>
          <p:sp>
            <p:nvSpPr>
              <p:cNvPr id="328" name=""/>
              <p:cNvSpPr/>
              <p:nvPr/>
            </p:nvSpPr>
            <p:spPr>
              <a:xfrm flipV="1">
                <a:off x="2736720" y="5175000"/>
                <a:ext cx="0" cy="14436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2665440" y="5319720"/>
                <a:ext cx="156960" cy="865080"/>
              </a:xfrm>
              <a:custGeom>
                <a:avLst/>
                <a:gdLst/>
                <a:ahLst/>
                <a:rect l="l" t="t" r="r" b="b"/>
                <a:pathLst>
                  <a:path w="99" h="545">
                    <a:moveTo>
                      <a:pt x="46" y="0"/>
                    </a:moveTo>
                    <a:cubicBezTo>
                      <a:pt x="42" y="26"/>
                      <a:pt x="39" y="53"/>
                      <a:pt x="46" y="91"/>
                    </a:cubicBezTo>
                    <a:cubicBezTo>
                      <a:pt x="53" y="129"/>
                      <a:pt x="99" y="182"/>
                      <a:pt x="91" y="227"/>
                    </a:cubicBezTo>
                    <a:cubicBezTo>
                      <a:pt x="83" y="272"/>
                      <a:pt x="0" y="310"/>
                      <a:pt x="0" y="363"/>
                    </a:cubicBezTo>
                    <a:cubicBezTo>
                      <a:pt x="0" y="416"/>
                      <a:pt x="45" y="480"/>
                      <a:pt x="91" y="545"/>
                    </a:cubicBezTo>
                  </a:path>
                </a:pathLst>
              </a:custGeom>
              <a:noFill/>
              <a:ln w="57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0" name=""/>
            <p:cNvGrpSpPr/>
            <p:nvPr/>
          </p:nvGrpSpPr>
          <p:grpSpPr>
            <a:xfrm>
              <a:off x="3673440" y="5175000"/>
              <a:ext cx="156960" cy="1009800"/>
              <a:chOff x="3673440" y="5175000"/>
              <a:chExt cx="156960" cy="1009800"/>
            </a:xfrm>
          </p:grpSpPr>
          <p:sp>
            <p:nvSpPr>
              <p:cNvPr id="331" name=""/>
              <p:cNvSpPr/>
              <p:nvPr/>
            </p:nvSpPr>
            <p:spPr>
              <a:xfrm flipV="1">
                <a:off x="3744720" y="5175000"/>
                <a:ext cx="0" cy="14436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673440" y="5319720"/>
                <a:ext cx="156960" cy="865080"/>
              </a:xfrm>
              <a:custGeom>
                <a:avLst/>
                <a:gdLst/>
                <a:ahLst/>
                <a:rect l="l" t="t" r="r" b="b"/>
                <a:pathLst>
                  <a:path w="99" h="545">
                    <a:moveTo>
                      <a:pt x="46" y="0"/>
                    </a:moveTo>
                    <a:cubicBezTo>
                      <a:pt x="42" y="26"/>
                      <a:pt x="39" y="53"/>
                      <a:pt x="46" y="91"/>
                    </a:cubicBezTo>
                    <a:cubicBezTo>
                      <a:pt x="53" y="129"/>
                      <a:pt x="99" y="182"/>
                      <a:pt x="91" y="227"/>
                    </a:cubicBezTo>
                    <a:cubicBezTo>
                      <a:pt x="83" y="272"/>
                      <a:pt x="0" y="310"/>
                      <a:pt x="0" y="363"/>
                    </a:cubicBezTo>
                    <a:cubicBezTo>
                      <a:pt x="0" y="416"/>
                      <a:pt x="45" y="480"/>
                      <a:pt x="91" y="545"/>
                    </a:cubicBezTo>
                  </a:path>
                </a:pathLst>
              </a:custGeom>
              <a:noFill/>
              <a:ln w="57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3" name=""/>
            <p:cNvGrpSpPr/>
            <p:nvPr/>
          </p:nvGrpSpPr>
          <p:grpSpPr>
            <a:xfrm>
              <a:off x="3170160" y="5175000"/>
              <a:ext cx="156960" cy="1009800"/>
              <a:chOff x="3170160" y="5175000"/>
              <a:chExt cx="156960" cy="1009800"/>
            </a:xfrm>
          </p:grpSpPr>
          <p:sp>
            <p:nvSpPr>
              <p:cNvPr id="334" name=""/>
              <p:cNvSpPr/>
              <p:nvPr/>
            </p:nvSpPr>
            <p:spPr>
              <a:xfrm flipV="1">
                <a:off x="3241440" y="5175000"/>
                <a:ext cx="0" cy="14436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3170160" y="5319720"/>
                <a:ext cx="156960" cy="865080"/>
              </a:xfrm>
              <a:custGeom>
                <a:avLst/>
                <a:gdLst/>
                <a:ahLst/>
                <a:rect l="l" t="t" r="r" b="b"/>
                <a:pathLst>
                  <a:path w="99" h="545">
                    <a:moveTo>
                      <a:pt x="46" y="0"/>
                    </a:moveTo>
                    <a:cubicBezTo>
                      <a:pt x="42" y="26"/>
                      <a:pt x="39" y="53"/>
                      <a:pt x="46" y="91"/>
                    </a:cubicBezTo>
                    <a:cubicBezTo>
                      <a:pt x="53" y="129"/>
                      <a:pt x="99" y="182"/>
                      <a:pt x="91" y="227"/>
                    </a:cubicBezTo>
                    <a:cubicBezTo>
                      <a:pt x="83" y="272"/>
                      <a:pt x="0" y="310"/>
                      <a:pt x="0" y="363"/>
                    </a:cubicBezTo>
                    <a:cubicBezTo>
                      <a:pt x="0" y="416"/>
                      <a:pt x="45" y="480"/>
                      <a:pt x="91" y="545"/>
                    </a:cubicBezTo>
                  </a:path>
                </a:pathLst>
              </a:custGeom>
              <a:noFill/>
              <a:ln w="57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6" name=""/>
            <p:cNvSpPr/>
            <p:nvPr/>
          </p:nvSpPr>
          <p:spPr>
            <a:xfrm>
              <a:off x="2709720" y="6153120"/>
              <a:ext cx="144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warm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7" name=""/>
          <p:cNvGrpSpPr/>
          <p:nvPr/>
        </p:nvGrpSpPr>
        <p:grpSpPr>
          <a:xfrm>
            <a:off x="2722680" y="3338640"/>
            <a:ext cx="1074240" cy="1094760"/>
            <a:chOff x="2722680" y="3338640"/>
            <a:chExt cx="1074240" cy="1094760"/>
          </a:xfrm>
        </p:grpSpPr>
        <p:grpSp>
          <p:nvGrpSpPr>
            <p:cNvPr id="338" name=""/>
            <p:cNvGrpSpPr/>
            <p:nvPr/>
          </p:nvGrpSpPr>
          <p:grpSpPr>
            <a:xfrm>
              <a:off x="2722680" y="3743280"/>
              <a:ext cx="1074240" cy="690120"/>
              <a:chOff x="2722680" y="3743280"/>
              <a:chExt cx="1074240" cy="690120"/>
            </a:xfrm>
          </p:grpSpPr>
          <p:grpSp>
            <p:nvGrpSpPr>
              <p:cNvPr id="339" name=""/>
              <p:cNvGrpSpPr/>
              <p:nvPr/>
            </p:nvGrpSpPr>
            <p:grpSpPr>
              <a:xfrm>
                <a:off x="2722680" y="3743280"/>
                <a:ext cx="101160" cy="690120"/>
                <a:chOff x="2722680" y="3743280"/>
                <a:chExt cx="101160" cy="690120"/>
              </a:xfrm>
            </p:grpSpPr>
            <p:sp>
              <p:nvSpPr>
                <p:cNvPr id="340" name=""/>
                <p:cNvSpPr/>
                <p:nvPr/>
              </p:nvSpPr>
              <p:spPr>
                <a:xfrm flipV="1">
                  <a:off x="2768400" y="3743280"/>
                  <a:ext cx="0" cy="98640"/>
                </a:xfrm>
                <a:prstGeom prst="line">
                  <a:avLst/>
                </a:prstGeom>
                <a:ln w="57240">
                  <a:solidFill>
                    <a:srgbClr val="009999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2722680" y="3841920"/>
                  <a:ext cx="101160" cy="591480"/>
                </a:xfrm>
                <a:custGeom>
                  <a:avLst/>
                  <a:gdLst/>
                  <a:ahLst/>
                  <a:rect l="l" t="t" r="r" b="b"/>
                  <a:pathLst>
                    <a:path w="99" h="545">
                      <a:moveTo>
                        <a:pt x="46" y="0"/>
                      </a:moveTo>
                      <a:cubicBezTo>
                        <a:pt x="42" y="26"/>
                        <a:pt x="39" y="53"/>
                        <a:pt x="46" y="91"/>
                      </a:cubicBezTo>
                      <a:cubicBezTo>
                        <a:pt x="53" y="129"/>
                        <a:pt x="99" y="182"/>
                        <a:pt x="91" y="227"/>
                      </a:cubicBezTo>
                      <a:cubicBezTo>
                        <a:pt x="83" y="272"/>
                        <a:pt x="0" y="310"/>
                        <a:pt x="0" y="363"/>
                      </a:cubicBezTo>
                      <a:cubicBezTo>
                        <a:pt x="0" y="416"/>
                        <a:pt x="45" y="480"/>
                        <a:pt x="91" y="545"/>
                      </a:cubicBezTo>
                    </a:path>
                  </a:pathLst>
                </a:custGeom>
                <a:noFill/>
                <a:ln w="57240">
                  <a:solidFill>
                    <a:srgbClr val="0099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2" name=""/>
              <p:cNvGrpSpPr/>
              <p:nvPr/>
            </p:nvGrpSpPr>
            <p:grpSpPr>
              <a:xfrm>
                <a:off x="3371040" y="3743280"/>
                <a:ext cx="101160" cy="690120"/>
                <a:chOff x="3371040" y="3743280"/>
                <a:chExt cx="101160" cy="690120"/>
              </a:xfrm>
            </p:grpSpPr>
            <p:sp>
              <p:nvSpPr>
                <p:cNvPr id="343" name=""/>
                <p:cNvSpPr/>
                <p:nvPr/>
              </p:nvSpPr>
              <p:spPr>
                <a:xfrm flipV="1">
                  <a:off x="3416760" y="3743280"/>
                  <a:ext cx="0" cy="98640"/>
                </a:xfrm>
                <a:prstGeom prst="line">
                  <a:avLst/>
                </a:prstGeom>
                <a:ln w="57240">
                  <a:solidFill>
                    <a:srgbClr val="009999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3371040" y="3841920"/>
                  <a:ext cx="101160" cy="591480"/>
                </a:xfrm>
                <a:custGeom>
                  <a:avLst/>
                  <a:gdLst/>
                  <a:ahLst/>
                  <a:rect l="l" t="t" r="r" b="b"/>
                  <a:pathLst>
                    <a:path w="99" h="545">
                      <a:moveTo>
                        <a:pt x="46" y="0"/>
                      </a:moveTo>
                      <a:cubicBezTo>
                        <a:pt x="42" y="26"/>
                        <a:pt x="39" y="53"/>
                        <a:pt x="46" y="91"/>
                      </a:cubicBezTo>
                      <a:cubicBezTo>
                        <a:pt x="53" y="129"/>
                        <a:pt x="99" y="182"/>
                        <a:pt x="91" y="227"/>
                      </a:cubicBezTo>
                      <a:cubicBezTo>
                        <a:pt x="83" y="272"/>
                        <a:pt x="0" y="310"/>
                        <a:pt x="0" y="363"/>
                      </a:cubicBezTo>
                      <a:cubicBezTo>
                        <a:pt x="0" y="416"/>
                        <a:pt x="45" y="480"/>
                        <a:pt x="91" y="545"/>
                      </a:cubicBezTo>
                    </a:path>
                  </a:pathLst>
                </a:custGeom>
                <a:noFill/>
                <a:ln w="57240">
                  <a:solidFill>
                    <a:srgbClr val="0099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5" name=""/>
              <p:cNvGrpSpPr/>
              <p:nvPr/>
            </p:nvGrpSpPr>
            <p:grpSpPr>
              <a:xfrm>
                <a:off x="3047400" y="3743280"/>
                <a:ext cx="101160" cy="690120"/>
                <a:chOff x="3047400" y="3743280"/>
                <a:chExt cx="101160" cy="690120"/>
              </a:xfrm>
            </p:grpSpPr>
            <p:sp>
              <p:nvSpPr>
                <p:cNvPr id="346" name=""/>
                <p:cNvSpPr/>
                <p:nvPr/>
              </p:nvSpPr>
              <p:spPr>
                <a:xfrm flipV="1">
                  <a:off x="3093120" y="3743280"/>
                  <a:ext cx="0" cy="98640"/>
                </a:xfrm>
                <a:prstGeom prst="line">
                  <a:avLst/>
                </a:prstGeom>
                <a:ln w="57240">
                  <a:solidFill>
                    <a:srgbClr val="009999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>
                  <a:off x="3047400" y="3841920"/>
                  <a:ext cx="101160" cy="591480"/>
                </a:xfrm>
                <a:custGeom>
                  <a:avLst/>
                  <a:gdLst/>
                  <a:ahLst/>
                  <a:rect l="l" t="t" r="r" b="b"/>
                  <a:pathLst>
                    <a:path w="99" h="545">
                      <a:moveTo>
                        <a:pt x="46" y="0"/>
                      </a:moveTo>
                      <a:cubicBezTo>
                        <a:pt x="42" y="26"/>
                        <a:pt x="39" y="53"/>
                        <a:pt x="46" y="91"/>
                      </a:cubicBezTo>
                      <a:cubicBezTo>
                        <a:pt x="53" y="129"/>
                        <a:pt x="99" y="182"/>
                        <a:pt x="91" y="227"/>
                      </a:cubicBezTo>
                      <a:cubicBezTo>
                        <a:pt x="83" y="272"/>
                        <a:pt x="0" y="310"/>
                        <a:pt x="0" y="363"/>
                      </a:cubicBezTo>
                      <a:cubicBezTo>
                        <a:pt x="0" y="416"/>
                        <a:pt x="45" y="480"/>
                        <a:pt x="91" y="545"/>
                      </a:cubicBezTo>
                    </a:path>
                  </a:pathLst>
                </a:custGeom>
                <a:noFill/>
                <a:ln w="57240">
                  <a:solidFill>
                    <a:srgbClr val="0099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8" name=""/>
              <p:cNvGrpSpPr/>
              <p:nvPr/>
            </p:nvGrpSpPr>
            <p:grpSpPr>
              <a:xfrm>
                <a:off x="3696120" y="3743280"/>
                <a:ext cx="100800" cy="690120"/>
                <a:chOff x="3696120" y="3743280"/>
                <a:chExt cx="100800" cy="690120"/>
              </a:xfrm>
            </p:grpSpPr>
            <p:sp>
              <p:nvSpPr>
                <p:cNvPr id="349" name=""/>
                <p:cNvSpPr/>
                <p:nvPr/>
              </p:nvSpPr>
              <p:spPr>
                <a:xfrm flipV="1">
                  <a:off x="3741840" y="3743280"/>
                  <a:ext cx="0" cy="98640"/>
                </a:xfrm>
                <a:prstGeom prst="line">
                  <a:avLst/>
                </a:prstGeom>
                <a:ln w="57240">
                  <a:solidFill>
                    <a:srgbClr val="009999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3696120" y="3841920"/>
                  <a:ext cx="100800" cy="591480"/>
                </a:xfrm>
                <a:custGeom>
                  <a:avLst/>
                  <a:gdLst/>
                  <a:ahLst/>
                  <a:rect l="l" t="t" r="r" b="b"/>
                  <a:pathLst>
                    <a:path w="99" h="545">
                      <a:moveTo>
                        <a:pt x="46" y="0"/>
                      </a:moveTo>
                      <a:cubicBezTo>
                        <a:pt x="42" y="26"/>
                        <a:pt x="39" y="53"/>
                        <a:pt x="46" y="91"/>
                      </a:cubicBezTo>
                      <a:cubicBezTo>
                        <a:pt x="53" y="129"/>
                        <a:pt x="99" y="182"/>
                        <a:pt x="91" y="227"/>
                      </a:cubicBezTo>
                      <a:cubicBezTo>
                        <a:pt x="83" y="272"/>
                        <a:pt x="0" y="310"/>
                        <a:pt x="0" y="363"/>
                      </a:cubicBezTo>
                      <a:cubicBezTo>
                        <a:pt x="0" y="416"/>
                        <a:pt x="45" y="480"/>
                        <a:pt x="91" y="545"/>
                      </a:cubicBezTo>
                    </a:path>
                  </a:pathLst>
                </a:custGeom>
                <a:noFill/>
                <a:ln w="57240">
                  <a:solidFill>
                    <a:srgbClr val="0099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51" name=""/>
            <p:cNvSpPr/>
            <p:nvPr/>
          </p:nvSpPr>
          <p:spPr>
            <a:xfrm>
              <a:off x="2736720" y="3338640"/>
              <a:ext cx="103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9999"/>
                  </a:solidFill>
                  <a:latin typeface="Arial"/>
                </a:rPr>
                <a:t>dam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2" name=""/>
          <p:cNvGrpSpPr/>
          <p:nvPr/>
        </p:nvGrpSpPr>
        <p:grpSpPr>
          <a:xfrm>
            <a:off x="3198960" y="2593800"/>
            <a:ext cx="101520" cy="690480"/>
            <a:chOff x="3198960" y="2593800"/>
            <a:chExt cx="101520" cy="690480"/>
          </a:xfrm>
        </p:grpSpPr>
        <p:sp>
          <p:nvSpPr>
            <p:cNvPr id="353" name=""/>
            <p:cNvSpPr/>
            <p:nvPr/>
          </p:nvSpPr>
          <p:spPr>
            <a:xfrm flipV="1">
              <a:off x="3245040" y="2593800"/>
              <a:ext cx="0" cy="98640"/>
            </a:xfrm>
            <a:prstGeom prst="line">
              <a:avLst/>
            </a:prstGeom>
            <a:ln w="572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198960" y="2692440"/>
              <a:ext cx="101520" cy="591840"/>
            </a:xfrm>
            <a:custGeom>
              <a:avLst/>
              <a:gdLst/>
              <a:ahLst/>
              <a:rect l="l" t="t" r="r" b="b"/>
              <a:pathLst>
                <a:path w="99" h="545">
                  <a:moveTo>
                    <a:pt x="46" y="0"/>
                  </a:moveTo>
                  <a:cubicBezTo>
                    <a:pt x="42" y="26"/>
                    <a:pt x="39" y="53"/>
                    <a:pt x="46" y="91"/>
                  </a:cubicBezTo>
                  <a:cubicBezTo>
                    <a:pt x="53" y="129"/>
                    <a:pt x="99" y="182"/>
                    <a:pt x="91" y="227"/>
                  </a:cubicBezTo>
                  <a:cubicBezTo>
                    <a:pt x="83" y="272"/>
                    <a:pt x="0" y="310"/>
                    <a:pt x="0" y="363"/>
                  </a:cubicBezTo>
                  <a:cubicBezTo>
                    <a:pt x="0" y="416"/>
                    <a:pt x="45" y="480"/>
                    <a:pt x="91" y="545"/>
                  </a:cubicBezTo>
                </a:path>
              </a:pathLst>
            </a:custGeom>
            <a:noFill/>
            <a:ln w="5724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5" name=""/>
          <p:cNvGrpSpPr/>
          <p:nvPr/>
        </p:nvGrpSpPr>
        <p:grpSpPr>
          <a:xfrm>
            <a:off x="3530880" y="1168200"/>
            <a:ext cx="660600" cy="314280"/>
            <a:chOff x="3530880" y="1168200"/>
            <a:chExt cx="660600" cy="314280"/>
          </a:xfrm>
        </p:grpSpPr>
        <p:sp>
          <p:nvSpPr>
            <p:cNvPr id="356" name=""/>
            <p:cNvSpPr/>
            <p:nvPr/>
          </p:nvSpPr>
          <p:spPr>
            <a:xfrm>
              <a:off x="4100040" y="1431720"/>
              <a:ext cx="91440" cy="37080"/>
            </a:xfrm>
            <a:prstGeom prst="line">
              <a:avLst/>
            </a:prstGeom>
            <a:ln w="572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 rot="6718200">
              <a:off x="3773880" y="1029600"/>
              <a:ext cx="100080" cy="591480"/>
            </a:xfrm>
            <a:custGeom>
              <a:avLst/>
              <a:gdLst/>
              <a:ahLst/>
              <a:rect l="l" t="t" r="r" b="b"/>
              <a:pathLst>
                <a:path w="99" h="545">
                  <a:moveTo>
                    <a:pt x="46" y="0"/>
                  </a:moveTo>
                  <a:cubicBezTo>
                    <a:pt x="42" y="26"/>
                    <a:pt x="39" y="53"/>
                    <a:pt x="46" y="91"/>
                  </a:cubicBezTo>
                  <a:cubicBezTo>
                    <a:pt x="53" y="129"/>
                    <a:pt x="99" y="182"/>
                    <a:pt x="91" y="227"/>
                  </a:cubicBezTo>
                  <a:cubicBezTo>
                    <a:pt x="83" y="272"/>
                    <a:pt x="0" y="310"/>
                    <a:pt x="0" y="363"/>
                  </a:cubicBezTo>
                  <a:cubicBezTo>
                    <a:pt x="0" y="416"/>
                    <a:pt x="45" y="480"/>
                    <a:pt x="91" y="545"/>
                  </a:cubicBezTo>
                </a:path>
              </a:pathLst>
            </a:custGeom>
            <a:noFill/>
            <a:ln w="5724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8" name=""/>
          <p:cNvGrpSpPr/>
          <p:nvPr/>
        </p:nvGrpSpPr>
        <p:grpSpPr>
          <a:xfrm>
            <a:off x="3205080" y="1579680"/>
            <a:ext cx="100080" cy="690120"/>
            <a:chOff x="3205080" y="1579680"/>
            <a:chExt cx="100080" cy="690120"/>
          </a:xfrm>
        </p:grpSpPr>
        <p:sp>
          <p:nvSpPr>
            <p:cNvPr id="359" name=""/>
            <p:cNvSpPr/>
            <p:nvPr/>
          </p:nvSpPr>
          <p:spPr>
            <a:xfrm flipV="1">
              <a:off x="3250440" y="1579680"/>
              <a:ext cx="0" cy="98640"/>
            </a:xfrm>
            <a:prstGeom prst="line">
              <a:avLst/>
            </a:prstGeom>
            <a:ln w="572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205080" y="1678320"/>
              <a:ext cx="100080" cy="591480"/>
            </a:xfrm>
            <a:custGeom>
              <a:avLst/>
              <a:gdLst/>
              <a:ahLst/>
              <a:rect l="l" t="t" r="r" b="b"/>
              <a:pathLst>
                <a:path w="99" h="545">
                  <a:moveTo>
                    <a:pt x="46" y="0"/>
                  </a:moveTo>
                  <a:cubicBezTo>
                    <a:pt x="42" y="26"/>
                    <a:pt x="39" y="53"/>
                    <a:pt x="46" y="91"/>
                  </a:cubicBezTo>
                  <a:cubicBezTo>
                    <a:pt x="53" y="129"/>
                    <a:pt x="99" y="182"/>
                    <a:pt x="91" y="227"/>
                  </a:cubicBezTo>
                  <a:cubicBezTo>
                    <a:pt x="83" y="272"/>
                    <a:pt x="0" y="310"/>
                    <a:pt x="0" y="363"/>
                  </a:cubicBezTo>
                  <a:cubicBezTo>
                    <a:pt x="0" y="416"/>
                    <a:pt x="45" y="480"/>
                    <a:pt x="91" y="545"/>
                  </a:cubicBezTo>
                </a:path>
              </a:pathLst>
            </a:custGeom>
            <a:noFill/>
            <a:ln w="5724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1" name=""/>
          <p:cNvGrpSpPr/>
          <p:nvPr/>
        </p:nvGrpSpPr>
        <p:grpSpPr>
          <a:xfrm>
            <a:off x="4549680" y="2112480"/>
            <a:ext cx="1685880" cy="1504080"/>
            <a:chOff x="4549680" y="2112480"/>
            <a:chExt cx="1685880" cy="1504080"/>
          </a:xfrm>
        </p:grpSpPr>
        <p:grpSp>
          <p:nvGrpSpPr>
            <p:cNvPr id="362" name=""/>
            <p:cNvGrpSpPr/>
            <p:nvPr/>
          </p:nvGrpSpPr>
          <p:grpSpPr>
            <a:xfrm>
              <a:off x="4979520" y="2112480"/>
              <a:ext cx="1210680" cy="995760"/>
              <a:chOff x="4979520" y="2112480"/>
              <a:chExt cx="1210680" cy="995760"/>
            </a:xfrm>
          </p:grpSpPr>
          <p:grpSp>
            <p:nvGrpSpPr>
              <p:cNvPr id="363" name=""/>
              <p:cNvGrpSpPr/>
              <p:nvPr/>
            </p:nvGrpSpPr>
            <p:grpSpPr>
              <a:xfrm>
                <a:off x="4979520" y="2112480"/>
                <a:ext cx="294120" cy="668880"/>
                <a:chOff x="4979520" y="2112480"/>
                <a:chExt cx="294120" cy="668880"/>
              </a:xfrm>
            </p:grpSpPr>
            <p:sp>
              <p:nvSpPr>
                <p:cNvPr id="364" name=""/>
                <p:cNvSpPr/>
                <p:nvPr/>
              </p:nvSpPr>
              <p:spPr>
                <a:xfrm flipV="1">
                  <a:off x="5221080" y="2112480"/>
                  <a:ext cx="33480" cy="92880"/>
                </a:xfrm>
                <a:prstGeom prst="line">
                  <a:avLst/>
                </a:prstGeom>
                <a:ln w="57240">
                  <a:solidFill>
                    <a:srgbClr val="66006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080" bIns="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 rot="1177800">
                  <a:off x="5075640" y="2189880"/>
                  <a:ext cx="101160" cy="591480"/>
                </a:xfrm>
                <a:custGeom>
                  <a:avLst/>
                  <a:gdLst/>
                  <a:ahLst/>
                  <a:rect l="l" t="t" r="r" b="b"/>
                  <a:pathLst>
                    <a:path w="99" h="545">
                      <a:moveTo>
                        <a:pt x="46" y="0"/>
                      </a:moveTo>
                      <a:cubicBezTo>
                        <a:pt x="42" y="26"/>
                        <a:pt x="39" y="53"/>
                        <a:pt x="46" y="91"/>
                      </a:cubicBezTo>
                      <a:cubicBezTo>
                        <a:pt x="53" y="129"/>
                        <a:pt x="99" y="182"/>
                        <a:pt x="91" y="227"/>
                      </a:cubicBezTo>
                      <a:cubicBezTo>
                        <a:pt x="83" y="272"/>
                        <a:pt x="0" y="310"/>
                        <a:pt x="0" y="363"/>
                      </a:cubicBezTo>
                      <a:cubicBezTo>
                        <a:pt x="0" y="416"/>
                        <a:pt x="45" y="480"/>
                        <a:pt x="91" y="545"/>
                      </a:cubicBezTo>
                    </a:path>
                  </a:pathLst>
                </a:custGeom>
                <a:noFill/>
                <a:ln w="57240">
                  <a:solidFill>
                    <a:srgbClr val="6600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6" name=""/>
              <p:cNvGrpSpPr/>
              <p:nvPr/>
            </p:nvGrpSpPr>
            <p:grpSpPr>
              <a:xfrm>
                <a:off x="5590080" y="2330280"/>
                <a:ext cx="294120" cy="668880"/>
                <a:chOff x="5590080" y="2330280"/>
                <a:chExt cx="294120" cy="668880"/>
              </a:xfrm>
            </p:grpSpPr>
            <p:sp>
              <p:nvSpPr>
                <p:cNvPr id="367" name=""/>
                <p:cNvSpPr/>
                <p:nvPr/>
              </p:nvSpPr>
              <p:spPr>
                <a:xfrm flipV="1">
                  <a:off x="5832000" y="2330280"/>
                  <a:ext cx="33120" cy="92880"/>
                </a:xfrm>
                <a:prstGeom prst="line">
                  <a:avLst/>
                </a:prstGeom>
                <a:ln w="57240">
                  <a:solidFill>
                    <a:srgbClr val="66006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080" bIns="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 rot="1177800">
                  <a:off x="5686200" y="2407680"/>
                  <a:ext cx="101160" cy="591480"/>
                </a:xfrm>
                <a:custGeom>
                  <a:avLst/>
                  <a:gdLst/>
                  <a:ahLst/>
                  <a:rect l="l" t="t" r="r" b="b"/>
                  <a:pathLst>
                    <a:path w="99" h="545">
                      <a:moveTo>
                        <a:pt x="46" y="0"/>
                      </a:moveTo>
                      <a:cubicBezTo>
                        <a:pt x="42" y="26"/>
                        <a:pt x="39" y="53"/>
                        <a:pt x="46" y="91"/>
                      </a:cubicBezTo>
                      <a:cubicBezTo>
                        <a:pt x="53" y="129"/>
                        <a:pt x="99" y="182"/>
                        <a:pt x="91" y="227"/>
                      </a:cubicBezTo>
                      <a:cubicBezTo>
                        <a:pt x="83" y="272"/>
                        <a:pt x="0" y="310"/>
                        <a:pt x="0" y="363"/>
                      </a:cubicBezTo>
                      <a:cubicBezTo>
                        <a:pt x="0" y="416"/>
                        <a:pt x="45" y="480"/>
                        <a:pt x="91" y="545"/>
                      </a:cubicBezTo>
                    </a:path>
                  </a:pathLst>
                </a:custGeom>
                <a:noFill/>
                <a:ln w="57240">
                  <a:solidFill>
                    <a:srgbClr val="6600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9" name=""/>
              <p:cNvGrpSpPr/>
              <p:nvPr/>
            </p:nvGrpSpPr>
            <p:grpSpPr>
              <a:xfrm>
                <a:off x="5285160" y="2221560"/>
                <a:ext cx="294120" cy="668880"/>
                <a:chOff x="5285160" y="2221560"/>
                <a:chExt cx="294120" cy="668880"/>
              </a:xfrm>
            </p:grpSpPr>
            <p:sp>
              <p:nvSpPr>
                <p:cNvPr id="370" name=""/>
                <p:cNvSpPr/>
                <p:nvPr/>
              </p:nvSpPr>
              <p:spPr>
                <a:xfrm flipV="1">
                  <a:off x="5527080" y="2221560"/>
                  <a:ext cx="33120" cy="92880"/>
                </a:xfrm>
                <a:prstGeom prst="line">
                  <a:avLst/>
                </a:prstGeom>
                <a:ln w="57240">
                  <a:solidFill>
                    <a:srgbClr val="66006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080" bIns="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 rot="1177800">
                  <a:off x="5381280" y="2298960"/>
                  <a:ext cx="101160" cy="591480"/>
                </a:xfrm>
                <a:custGeom>
                  <a:avLst/>
                  <a:gdLst/>
                  <a:ahLst/>
                  <a:rect l="l" t="t" r="r" b="b"/>
                  <a:pathLst>
                    <a:path w="99" h="545">
                      <a:moveTo>
                        <a:pt x="46" y="0"/>
                      </a:moveTo>
                      <a:cubicBezTo>
                        <a:pt x="42" y="26"/>
                        <a:pt x="39" y="53"/>
                        <a:pt x="46" y="91"/>
                      </a:cubicBezTo>
                      <a:cubicBezTo>
                        <a:pt x="53" y="129"/>
                        <a:pt x="99" y="182"/>
                        <a:pt x="91" y="227"/>
                      </a:cubicBezTo>
                      <a:cubicBezTo>
                        <a:pt x="83" y="272"/>
                        <a:pt x="0" y="310"/>
                        <a:pt x="0" y="363"/>
                      </a:cubicBezTo>
                      <a:cubicBezTo>
                        <a:pt x="0" y="416"/>
                        <a:pt x="45" y="480"/>
                        <a:pt x="91" y="545"/>
                      </a:cubicBezTo>
                    </a:path>
                  </a:pathLst>
                </a:custGeom>
                <a:noFill/>
                <a:ln w="57240">
                  <a:solidFill>
                    <a:srgbClr val="6600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72" name=""/>
              <p:cNvGrpSpPr/>
              <p:nvPr/>
            </p:nvGrpSpPr>
            <p:grpSpPr>
              <a:xfrm>
                <a:off x="5896440" y="2439720"/>
                <a:ext cx="293760" cy="668520"/>
                <a:chOff x="5896440" y="2439720"/>
                <a:chExt cx="293760" cy="668520"/>
              </a:xfrm>
            </p:grpSpPr>
            <p:sp>
              <p:nvSpPr>
                <p:cNvPr id="373" name=""/>
                <p:cNvSpPr/>
                <p:nvPr/>
              </p:nvSpPr>
              <p:spPr>
                <a:xfrm flipV="1">
                  <a:off x="6138000" y="2439720"/>
                  <a:ext cx="33120" cy="92880"/>
                </a:xfrm>
                <a:prstGeom prst="line">
                  <a:avLst/>
                </a:prstGeom>
                <a:ln w="57240">
                  <a:solidFill>
                    <a:srgbClr val="66006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080" bIns="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 rot="1177800">
                  <a:off x="5992560" y="2516760"/>
                  <a:ext cx="100800" cy="591480"/>
                </a:xfrm>
                <a:custGeom>
                  <a:avLst/>
                  <a:gdLst/>
                  <a:ahLst/>
                  <a:rect l="l" t="t" r="r" b="b"/>
                  <a:pathLst>
                    <a:path w="99" h="545">
                      <a:moveTo>
                        <a:pt x="46" y="0"/>
                      </a:moveTo>
                      <a:cubicBezTo>
                        <a:pt x="42" y="26"/>
                        <a:pt x="39" y="53"/>
                        <a:pt x="46" y="91"/>
                      </a:cubicBezTo>
                      <a:cubicBezTo>
                        <a:pt x="53" y="129"/>
                        <a:pt x="99" y="182"/>
                        <a:pt x="91" y="227"/>
                      </a:cubicBezTo>
                      <a:cubicBezTo>
                        <a:pt x="83" y="272"/>
                        <a:pt x="0" y="310"/>
                        <a:pt x="0" y="363"/>
                      </a:cubicBezTo>
                      <a:cubicBezTo>
                        <a:pt x="0" y="416"/>
                        <a:pt x="45" y="480"/>
                        <a:pt x="91" y="545"/>
                      </a:cubicBezTo>
                    </a:path>
                  </a:pathLst>
                </a:custGeom>
                <a:noFill/>
                <a:ln w="57240">
                  <a:solidFill>
                    <a:srgbClr val="6600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75" name=""/>
            <p:cNvSpPr/>
            <p:nvPr/>
          </p:nvSpPr>
          <p:spPr>
            <a:xfrm rot="1177800">
              <a:off x="4579560" y="2896920"/>
              <a:ext cx="1625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0066"/>
                  </a:solidFill>
                  <a:latin typeface="Arial"/>
                </a:rPr>
                <a:t>koel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6" name=""/>
          <p:cNvSpPr/>
          <p:nvPr/>
        </p:nvSpPr>
        <p:spPr>
          <a:xfrm>
            <a:off x="5611680" y="2006640"/>
            <a:ext cx="173160" cy="1731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"/>
          <p:cNvGrpSpPr/>
          <p:nvPr/>
        </p:nvGrpSpPr>
        <p:grpSpPr>
          <a:xfrm>
            <a:off x="4429080" y="1500120"/>
            <a:ext cx="660600" cy="313920"/>
            <a:chOff x="4429080" y="1500120"/>
            <a:chExt cx="660600" cy="313920"/>
          </a:xfrm>
        </p:grpSpPr>
        <p:sp>
          <p:nvSpPr>
            <p:cNvPr id="378" name=""/>
            <p:cNvSpPr/>
            <p:nvPr/>
          </p:nvSpPr>
          <p:spPr>
            <a:xfrm>
              <a:off x="4998240" y="1763280"/>
              <a:ext cx="91440" cy="37080"/>
            </a:xfrm>
            <a:prstGeom prst="line">
              <a:avLst/>
            </a:prstGeom>
            <a:ln w="572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 rot="6718200">
              <a:off x="4672080" y="1360800"/>
              <a:ext cx="99720" cy="591840"/>
            </a:xfrm>
            <a:custGeom>
              <a:avLst/>
              <a:gdLst/>
              <a:ahLst/>
              <a:rect l="l" t="t" r="r" b="b"/>
              <a:pathLst>
                <a:path w="99" h="545">
                  <a:moveTo>
                    <a:pt x="46" y="0"/>
                  </a:moveTo>
                  <a:cubicBezTo>
                    <a:pt x="42" y="26"/>
                    <a:pt x="39" y="53"/>
                    <a:pt x="46" y="91"/>
                  </a:cubicBezTo>
                  <a:cubicBezTo>
                    <a:pt x="53" y="129"/>
                    <a:pt x="99" y="182"/>
                    <a:pt x="91" y="227"/>
                  </a:cubicBezTo>
                  <a:cubicBezTo>
                    <a:pt x="83" y="272"/>
                    <a:pt x="0" y="310"/>
                    <a:pt x="0" y="363"/>
                  </a:cubicBezTo>
                  <a:cubicBezTo>
                    <a:pt x="0" y="416"/>
                    <a:pt x="45" y="480"/>
                    <a:pt x="91" y="545"/>
                  </a:cubicBezTo>
                </a:path>
              </a:pathLst>
            </a:custGeom>
            <a:noFill/>
            <a:ln w="5724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0" name=""/>
          <p:cNvGrpSpPr/>
          <p:nvPr/>
        </p:nvGrpSpPr>
        <p:grpSpPr>
          <a:xfrm>
            <a:off x="6978600" y="3727440"/>
            <a:ext cx="1530360" cy="1098720"/>
            <a:chOff x="6978600" y="3727440"/>
            <a:chExt cx="1530360" cy="1098720"/>
          </a:xfrm>
        </p:grpSpPr>
        <p:sp>
          <p:nvSpPr>
            <p:cNvPr id="381" name=""/>
            <p:cNvSpPr/>
            <p:nvPr/>
          </p:nvSpPr>
          <p:spPr>
            <a:xfrm>
              <a:off x="7056360" y="4111560"/>
              <a:ext cx="1376640" cy="703440"/>
            </a:xfrm>
            <a:custGeom>
              <a:avLst/>
              <a:gdLst/>
              <a:ahLst/>
              <a:rect l="l" t="t" r="r" b="b"/>
              <a:pathLst>
                <a:path w="1632" h="870">
                  <a:moveTo>
                    <a:pt x="0" y="0"/>
                  </a:moveTo>
                  <a:lnTo>
                    <a:pt x="0" y="780"/>
                  </a:lnTo>
                  <a:lnTo>
                    <a:pt x="45" y="870"/>
                  </a:lnTo>
                  <a:lnTo>
                    <a:pt x="1587" y="870"/>
                  </a:lnTo>
                  <a:lnTo>
                    <a:pt x="1632" y="780"/>
                  </a:lnTo>
                  <a:lnTo>
                    <a:pt x="163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6978600" y="3727440"/>
              <a:ext cx="1530360" cy="1098720"/>
            </a:xfrm>
            <a:custGeom>
              <a:avLst/>
              <a:gdLst/>
              <a:ahLst/>
              <a:rect l="l" t="t" r="r" b="b"/>
              <a:pathLst>
                <a:path w="1814" h="1360">
                  <a:moveTo>
                    <a:pt x="0" y="0"/>
                  </a:moveTo>
                  <a:lnTo>
                    <a:pt x="91" y="136"/>
                  </a:lnTo>
                  <a:lnTo>
                    <a:pt x="91" y="1270"/>
                  </a:lnTo>
                  <a:lnTo>
                    <a:pt x="136" y="1360"/>
                  </a:lnTo>
                  <a:lnTo>
                    <a:pt x="1678" y="1360"/>
                  </a:lnTo>
                  <a:lnTo>
                    <a:pt x="1723" y="1270"/>
                  </a:lnTo>
                  <a:lnTo>
                    <a:pt x="1723" y="136"/>
                  </a:lnTo>
                  <a:lnTo>
                    <a:pt x="1814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3" name=""/>
          <p:cNvSpPr/>
          <p:nvPr/>
        </p:nvSpPr>
        <p:spPr>
          <a:xfrm>
            <a:off x="974880" y="544680"/>
            <a:ext cx="20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till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398520" y="5038560"/>
            <a:ext cx="1787400" cy="597240"/>
          </a:xfrm>
          <a:prstGeom prst="wedgeRoundRectCallout">
            <a:avLst>
              <a:gd name="adj1" fmla="val 93962"/>
              <a:gd name="adj2" fmla="val -94680"/>
              <a:gd name="adj3" fmla="val 16667"/>
            </a:avLst>
          </a:prstGeom>
          <a:solidFill>
            <a:srgbClr val="bbf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out w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466560" y="2251080"/>
            <a:ext cx="1981440" cy="843120"/>
          </a:xfrm>
          <a:prstGeom prst="wedgeRoundRectCallout">
            <a:avLst>
              <a:gd name="adj1" fmla="val 64023"/>
              <a:gd name="adj2" fmla="val 104425"/>
              <a:gd name="adj3" fmla="val 16667"/>
            </a:avLst>
          </a:prstGeom>
          <a:solidFill>
            <a:srgbClr val="bbf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terdamp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zond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z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6039000" y="507960"/>
            <a:ext cx="2706480" cy="596880"/>
          </a:xfrm>
          <a:prstGeom prst="wedgeRoundRectCallout">
            <a:avLst>
              <a:gd name="adj1" fmla="val -53342"/>
              <a:gd name="adj2" fmla="val 173138"/>
              <a:gd name="adj3" fmla="val 16667"/>
            </a:avLst>
          </a:prstGeom>
          <a:solidFill>
            <a:srgbClr val="bbf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densdrupp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600960" y="5705640"/>
            <a:ext cx="2019240" cy="507960"/>
          </a:xfrm>
          <a:prstGeom prst="wedgeRoundRectCallout">
            <a:avLst>
              <a:gd name="adj1" fmla="val -8333"/>
              <a:gd name="adj2" fmla="val -210939"/>
              <a:gd name="adj3" fmla="val 16667"/>
            </a:avLst>
          </a:prstGeom>
          <a:solidFill>
            <a:srgbClr val="bbf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uiver w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3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3000"/>
                            </p:stCondLst>
                            <p:childTnLst>
                              <p:par>
                                <p:cTn id="2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2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2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5000"/>
                            </p:stCondLst>
                            <p:childTnLst>
                              <p:par>
                                <p:cTn id="2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2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7000"/>
                            </p:stCondLst>
                            <p:childTnLst>
                              <p:par>
                                <p:cTn id="2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2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9000"/>
                            </p:stCondLst>
                            <p:childTnLst>
                              <p:par>
                                <p:cTn id="2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500"/>
                            </p:stCondLst>
                            <p:childTnLst>
                              <p:par>
                                <p:cTn id="265" nodeType="after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7 -0.00046 L 0.22031 0.11204 L 0.21979 0.33611 E">
                                      <p:cBhvr>
                                        <p:cTn id="266" dur="2000" fill="hold"/>
                                        <p:tgtEl>
                                          <p:spTgt spid="3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0T16:04:20Z</dcterms:created>
  <dc:creator>B.N. Fledderman</dc:creator>
  <dc:description/>
  <dc:language>en-US</dc:language>
  <cp:lastModifiedBy>B.N. Fledderman</cp:lastModifiedBy>
  <dcterms:modified xsi:type="dcterms:W3CDTF">2007-10-12T12:19:43Z</dcterms:modified>
  <cp:revision>17</cp:revision>
  <dc:subject/>
  <dc:title>Dia 1</dc:title>
</cp:coreProperties>
</file>