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D42D5-8072-4D67-8DD8-B00058472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E8F3F-40F0-4697-8AED-66A3112B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75C26-4CF3-49B3-A5C1-CDBA1B177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09A4B-10E7-415C-AF78-C76B0FC15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E181-48F6-45AC-960B-7E22A96A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2A5E-85FC-4562-A2A3-D44368FF1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FC48-DA92-4EE7-BDBC-9E7A33194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43AA-C59F-4134-9080-E97CBF49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D959-C25A-4676-B82B-97D24A554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C9B1-C518-417F-A0FC-DA6CB1ABE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13CF-8229-4E9E-8303-BCA2D5A1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CA21-DA76-451D-988D-0D1A2FA30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4115-052D-4A2A-A3E7-3697F7E9F4A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539640" y="4221000"/>
            <a:ext cx="820764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pic>
        <p:nvPicPr>
          <p:cNvPr id="73" name="" descr=""/>
          <p:cNvPicPr/>
          <p:nvPr/>
        </p:nvPicPr>
        <p:blipFill>
          <a:blip r:embed="rId2"/>
          <a:stretch/>
        </p:blipFill>
        <p:spPr>
          <a:xfrm>
            <a:off x="468360" y="1557360"/>
            <a:ext cx="4032360" cy="246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eck</cp:lastModifiedBy>
  <dcterms:modified xsi:type="dcterms:W3CDTF">2007-06-27T10:27:49Z</dcterms:modified>
  <cp:revision>25</cp:revision>
  <dc:subject/>
  <dc:title>Slide 1</dc:title>
</cp:coreProperties>
</file>